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28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0258560" cy="684540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7520" y="5951520"/>
            <a:ext cx="10226520" cy="4683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000000"/>
              </a:gs>
              <a:gs pos="100000">
                <a:srgbClr val="fc012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6040" y="476280"/>
            <a:ext cx="2400480" cy="428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673440" y="423720"/>
            <a:ext cx="2965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VC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23960" y="2513160"/>
            <a:ext cx="7095960" cy="20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VCP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Compression  System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Johann Sa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0480" y="6010200"/>
            <a:ext cx="6027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Panasonic Broadcast &amp; Television Systems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2693880" y="6005520"/>
            <a:ext cx="4946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lock Diagram of DCT &amp; Weigh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19240" y="3395520"/>
            <a:ext cx="102888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308400" y="2019240"/>
            <a:ext cx="3538800" cy="1643400"/>
            <a:chOff x="3308400" y="2019240"/>
            <a:chExt cx="3538800" cy="1643400"/>
          </a:xfrm>
        </p:grpSpPr>
        <p:sp>
          <p:nvSpPr>
            <p:cNvPr id="452" name=""/>
            <p:cNvSpPr/>
            <p:nvPr/>
          </p:nvSpPr>
          <p:spPr>
            <a:xfrm>
              <a:off x="5589720" y="304488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11960" y="3191040"/>
              <a:ext cx="1042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29000" y="306072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4495680" y="3227400"/>
              <a:ext cx="54936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4257720" y="2019240"/>
              <a:ext cx="1054080" cy="635040"/>
              <a:chOff x="4257720" y="2019240"/>
              <a:chExt cx="1054080" cy="635040"/>
            </a:xfrm>
          </p:grpSpPr>
          <p:sp>
            <p:nvSpPr>
              <p:cNvPr id="457" name=""/>
              <p:cNvSpPr/>
              <p:nvPr/>
            </p:nvSpPr>
            <p:spPr>
              <a:xfrm>
                <a:off x="4349880" y="202716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>
                <a:off x="4257720" y="2019240"/>
                <a:ext cx="1054080" cy="63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rafram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4772160" y="263376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35440" y="2921040"/>
              <a:ext cx="66960" cy="133560"/>
            </a:xfrm>
            <a:custGeom>
              <a:avLst/>
              <a:gdLst/>
              <a:ahLst/>
              <a:rect l="0" t="0" r="r" b="b"/>
              <a:pathLst>
                <a:path w="186" h="371">
                  <a:moveTo>
                    <a:pt x="186" y="0"/>
                  </a:moveTo>
                  <a:lnTo>
                    <a:pt x="0" y="0"/>
                  </a:lnTo>
                  <a:lnTo>
                    <a:pt x="98" y="37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5178600" y="3335400"/>
              <a:ext cx="392040" cy="66960"/>
              <a:chOff x="5178600" y="3335400"/>
              <a:chExt cx="392040" cy="66960"/>
            </a:xfrm>
          </p:grpSpPr>
          <p:sp>
            <p:nvSpPr>
              <p:cNvPr id="462" name=""/>
              <p:cNvSpPr/>
              <p:nvPr/>
            </p:nvSpPr>
            <p:spPr>
              <a:xfrm>
                <a:off x="5178600" y="337176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437080" y="333540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4060800" y="2289240"/>
              <a:ext cx="290880" cy="1078200"/>
              <a:chOff x="4060800" y="2289240"/>
              <a:chExt cx="290880" cy="1078200"/>
            </a:xfrm>
          </p:grpSpPr>
          <p:sp>
            <p:nvSpPr>
              <p:cNvPr id="465" name=""/>
              <p:cNvSpPr/>
              <p:nvPr/>
            </p:nvSpPr>
            <p:spPr>
              <a:xfrm>
                <a:off x="4060800" y="2319480"/>
                <a:ext cx="287640" cy="1047960"/>
              </a:xfrm>
              <a:custGeom>
                <a:avLst/>
                <a:gdLst/>
                <a:ahLst/>
                <a:rect l="0" t="0" r="r" b="b"/>
                <a:pathLst>
                  <a:path fill="none" w="799" h="2911">
                    <a:moveTo>
                      <a:pt x="0" y="2911"/>
                    </a:moveTo>
                    <a:lnTo>
                      <a:pt x="4" y="8"/>
                    </a:lnTo>
                    <a:lnTo>
                      <a:pt x="799" y="0"/>
                    </a:ln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18120" y="2289240"/>
                <a:ext cx="133560" cy="71640"/>
              </a:xfrm>
              <a:custGeom>
                <a:avLst/>
                <a:gdLst/>
                <a:ahLst/>
                <a:rect l="0" t="0" r="r" b="b"/>
                <a:pathLst>
                  <a:path w="371" h="199">
                    <a:moveTo>
                      <a:pt x="0" y="0"/>
                    </a:moveTo>
                    <a:lnTo>
                      <a:pt x="0" y="199"/>
                    </a:lnTo>
                    <a:lnTo>
                      <a:pt x="371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3913200" y="3335400"/>
              <a:ext cx="395640" cy="66960"/>
              <a:chOff x="3913200" y="3335400"/>
              <a:chExt cx="395640" cy="66960"/>
            </a:xfrm>
          </p:grpSpPr>
          <p:sp>
            <p:nvSpPr>
              <p:cNvPr id="468" name=""/>
              <p:cNvSpPr/>
              <p:nvPr/>
            </p:nvSpPr>
            <p:spPr>
              <a:xfrm>
                <a:off x="3913200" y="336852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75280" y="333540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6451560" y="3335400"/>
              <a:ext cx="395640" cy="66960"/>
              <a:chOff x="6451560" y="3335400"/>
              <a:chExt cx="395640" cy="66960"/>
            </a:xfrm>
          </p:grpSpPr>
          <p:sp>
            <p:nvSpPr>
              <p:cNvPr id="471" name=""/>
              <p:cNvSpPr/>
              <p:nvPr/>
            </p:nvSpPr>
            <p:spPr>
              <a:xfrm>
                <a:off x="6451560" y="336852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713640" y="333540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186"/>
                    </a:moveTo>
                    <a:lnTo>
                      <a:pt x="0" y="0"/>
                    </a:lnTo>
                    <a:lnTo>
                      <a:pt x="371" y="9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002280" y="2917800"/>
              <a:ext cx="66960" cy="133560"/>
            </a:xfrm>
            <a:custGeom>
              <a:avLst/>
              <a:gdLst/>
              <a:ahLst/>
              <a:rect l="0" t="0" r="r" b="b"/>
              <a:pathLst>
                <a:path w="186" h="371">
                  <a:moveTo>
                    <a:pt x="186" y="0"/>
                  </a:moveTo>
                  <a:lnTo>
                    <a:pt x="0" y="0"/>
                  </a:lnTo>
                  <a:lnTo>
                    <a:pt x="98" y="37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4095720" y="2611440"/>
              <a:ext cx="18921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8-8 or  2-4-8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5499000" y="3206880"/>
              <a:ext cx="1042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gh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78280" y="2819520"/>
              <a:ext cx="1257840" cy="228960"/>
            </a:xfrm>
            <a:custGeom>
              <a:avLst/>
              <a:gdLst/>
              <a:ahLst/>
              <a:rect l="0" t="0" r="r" b="b"/>
              <a:pathLst>
                <a:path fill="none" w="3494" h="636">
                  <a:moveTo>
                    <a:pt x="0" y="0"/>
                  </a:moveTo>
                  <a:lnTo>
                    <a:pt x="3494" y="0"/>
                  </a:lnTo>
                  <a:lnTo>
                    <a:pt x="3494" y="636"/>
                  </a:lnTo>
                </a:path>
              </a:pathLst>
            </a:custGeom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3308400" y="3059280"/>
              <a:ext cx="793800" cy="60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Shuffl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1098720" y="1461960"/>
            <a:ext cx="8307360" cy="3502080"/>
            <a:chOff x="1098720" y="1461960"/>
            <a:chExt cx="8307360" cy="3502080"/>
          </a:xfrm>
        </p:grpSpPr>
        <p:grpSp>
          <p:nvGrpSpPr>
            <p:cNvPr id="479" name=""/>
            <p:cNvGrpSpPr/>
            <p:nvPr/>
          </p:nvGrpSpPr>
          <p:grpSpPr>
            <a:xfrm>
              <a:off x="1098720" y="1461960"/>
              <a:ext cx="2895480" cy="3502080"/>
              <a:chOff x="1098720" y="1461960"/>
              <a:chExt cx="2895480" cy="3502080"/>
            </a:xfrm>
          </p:grpSpPr>
          <p:sp>
            <p:nvSpPr>
              <p:cNvPr id="480" name=""/>
              <p:cNvSpPr txBox="1"/>
              <p:nvPr/>
            </p:nvSpPr>
            <p:spPr>
              <a:xfrm>
                <a:off x="1577880" y="1461960"/>
                <a:ext cx="16527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8 - 8 DCT Mo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1139760" y="2217600"/>
                <a:ext cx="2086200" cy="2081520"/>
                <a:chOff x="1139760" y="2217600"/>
                <a:chExt cx="2086200" cy="20815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352520" y="2438280"/>
                  <a:ext cx="1828800" cy="1828800"/>
                </a:xfrm>
                <a:prstGeom prst="rect">
                  <a:avLst/>
                </a:prstGeom>
                <a:solidFill>
                  <a:srgbClr val="c1ce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352520" y="266688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352520" y="289548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352520" y="312408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352520" y="335268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352520" y="358128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352520" y="380988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52520" y="403848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66920" y="2438280"/>
                  <a:ext cx="0" cy="18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81120" y="2438280"/>
                  <a:ext cx="0" cy="18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9720" y="2438280"/>
                  <a:ext cx="0" cy="18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38320" y="2438280"/>
                  <a:ext cx="0" cy="18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495520" y="2438280"/>
                  <a:ext cx="0" cy="18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724120" y="2438280"/>
                  <a:ext cx="0" cy="18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952720" y="2438280"/>
                  <a:ext cx="0" cy="1828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 txBox="1"/>
                <p:nvPr/>
              </p:nvSpPr>
              <p:spPr>
                <a:xfrm>
                  <a:off x="1324080" y="2217600"/>
                  <a:ext cx="18781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0   1   2    3   4    5   6    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 txBox="1"/>
                <p:nvPr/>
              </p:nvSpPr>
              <p:spPr>
                <a:xfrm>
                  <a:off x="1139760" y="2440080"/>
                  <a:ext cx="268200" cy="18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 txBox="1"/>
                <p:nvPr/>
              </p:nvSpPr>
              <p:spPr>
                <a:xfrm>
                  <a:off x="1285920" y="2436840"/>
                  <a:ext cx="368280" cy="18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C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 txBox="1"/>
                <p:nvPr/>
              </p:nvSpPr>
              <p:spPr>
                <a:xfrm>
                  <a:off x="1528920" y="2436840"/>
                  <a:ext cx="325440" cy="18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 txBox="1"/>
                <p:nvPr/>
              </p:nvSpPr>
              <p:spPr>
                <a:xfrm>
                  <a:off x="1763640" y="2436840"/>
                  <a:ext cx="325440" cy="18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 txBox="1"/>
                <p:nvPr/>
              </p:nvSpPr>
              <p:spPr>
                <a:xfrm>
                  <a:off x="2004840" y="2436840"/>
                  <a:ext cx="325440" cy="18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 txBox="1"/>
                <p:nvPr/>
              </p:nvSpPr>
              <p:spPr>
                <a:xfrm>
                  <a:off x="2227320" y="2436840"/>
                  <a:ext cx="325440" cy="18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 txBox="1"/>
                <p:nvPr/>
              </p:nvSpPr>
              <p:spPr>
                <a:xfrm>
                  <a:off x="2449440" y="2436840"/>
                  <a:ext cx="325440" cy="18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7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 txBox="1"/>
                <p:nvPr/>
              </p:nvSpPr>
              <p:spPr>
                <a:xfrm>
                  <a:off x="2684520" y="2436840"/>
                  <a:ext cx="325440" cy="18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 txBox="1"/>
                <p:nvPr/>
              </p:nvSpPr>
              <p:spPr>
                <a:xfrm>
                  <a:off x="2900520" y="2436840"/>
                  <a:ext cx="325440" cy="184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"/>
              <p:cNvSpPr txBox="1"/>
              <p:nvPr/>
            </p:nvSpPr>
            <p:spPr>
              <a:xfrm>
                <a:off x="3149640" y="2436840"/>
                <a:ext cx="282600" cy="18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16400" y="2552760"/>
                <a:ext cx="2286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16400" y="3009960"/>
                <a:ext cx="2286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16400" y="3467160"/>
                <a:ext cx="2286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16400" y="3924360"/>
                <a:ext cx="2286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645000" y="2552760"/>
                <a:ext cx="0" cy="13716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45000" y="25527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25720" y="251460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409920" y="4140360"/>
                <a:ext cx="142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409920" y="3683160"/>
                <a:ext cx="142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409920" y="3225960"/>
                <a:ext cx="142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09920" y="2768760"/>
                <a:ext cx="142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3552840" y="2768760"/>
                <a:ext cx="0" cy="13716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52840" y="4140360"/>
                <a:ext cx="3841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860640" y="410544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>
                <a:off x="1098720" y="4627440"/>
                <a:ext cx="23637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No Intra-Frame mo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245120" y="1461960"/>
              <a:ext cx="5160960" cy="3502080"/>
              <a:chOff x="4245120" y="1461960"/>
              <a:chExt cx="5160960" cy="350208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7456320" y="2189160"/>
                <a:ext cx="1949760" cy="2152440"/>
                <a:chOff x="7456320" y="2189160"/>
                <a:chExt cx="1949760" cy="215244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7527960" y="2189160"/>
                  <a:ext cx="1828800" cy="914400"/>
                  <a:chOff x="7527960" y="2189160"/>
                  <a:chExt cx="1828800" cy="91440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7527960" y="2189160"/>
                    <a:ext cx="1828800" cy="914400"/>
                  </a:xfrm>
                  <a:prstGeom prst="rect">
                    <a:avLst/>
                  </a:prstGeom>
                  <a:solidFill>
                    <a:srgbClr val="c1ceff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7753320" y="2200320"/>
                    <a:ext cx="3240" cy="896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8210520" y="2209680"/>
                    <a:ext cx="3240" cy="887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8667720" y="2200320"/>
                    <a:ext cx="3240" cy="896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8896320" y="2209680"/>
                    <a:ext cx="3240" cy="887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9124920" y="2209680"/>
                    <a:ext cx="3240" cy="887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7981920" y="2209680"/>
                    <a:ext cx="3240" cy="887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7527960" y="2411280"/>
                    <a:ext cx="1828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7527960" y="2868480"/>
                    <a:ext cx="1828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8439120" y="2209680"/>
                    <a:ext cx="3240" cy="887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7527960" y="2639880"/>
                    <a:ext cx="1828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456320" y="2206800"/>
                  <a:ext cx="1936800" cy="930240"/>
                  <a:chOff x="7456320" y="2206800"/>
                  <a:chExt cx="1936800" cy="930240"/>
                </a:xfrm>
              </p:grpSpPr>
              <p:sp>
                <p:nvSpPr>
                  <p:cNvPr id="538" name=""/>
                  <p:cNvSpPr txBox="1"/>
                  <p:nvPr/>
                </p:nvSpPr>
                <p:spPr>
                  <a:xfrm>
                    <a:off x="7456320" y="2206800"/>
                    <a:ext cx="368280" cy="9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C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 txBox="1"/>
                  <p:nvPr/>
                </p:nvSpPr>
                <p:spPr>
                  <a:xfrm>
                    <a:off x="7693200" y="2206800"/>
                    <a:ext cx="325440" cy="9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 txBox="1"/>
                  <p:nvPr/>
                </p:nvSpPr>
                <p:spPr>
                  <a:xfrm>
                    <a:off x="7921800" y="2206800"/>
                    <a:ext cx="325440" cy="9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 txBox="1"/>
                  <p:nvPr/>
                </p:nvSpPr>
                <p:spPr>
                  <a:xfrm>
                    <a:off x="8163000" y="2206800"/>
                    <a:ext cx="325440" cy="9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 txBox="1"/>
                  <p:nvPr/>
                </p:nvSpPr>
                <p:spPr>
                  <a:xfrm>
                    <a:off x="8400960" y="2206800"/>
                    <a:ext cx="325440" cy="9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 txBox="1"/>
                  <p:nvPr/>
                </p:nvSpPr>
                <p:spPr>
                  <a:xfrm>
                    <a:off x="8848800" y="2206800"/>
                    <a:ext cx="325440" cy="9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 txBox="1"/>
                  <p:nvPr/>
                </p:nvSpPr>
                <p:spPr>
                  <a:xfrm>
                    <a:off x="8623440" y="2206800"/>
                    <a:ext cx="325440" cy="9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9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 txBox="1"/>
                  <p:nvPr/>
                </p:nvSpPr>
                <p:spPr>
                  <a:xfrm>
                    <a:off x="9067680" y="2206800"/>
                    <a:ext cx="325440" cy="9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"/>
                <p:cNvSpPr/>
                <p:nvPr/>
              </p:nvSpPr>
              <p:spPr>
                <a:xfrm>
                  <a:off x="7534440" y="3400560"/>
                  <a:ext cx="1828800" cy="914400"/>
                </a:xfrm>
                <a:prstGeom prst="rect">
                  <a:avLst/>
                </a:prstGeom>
                <a:solidFill>
                  <a:srgbClr val="c1cef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763040" y="340056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220240" y="340056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448840" y="340056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677440" y="340056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906040" y="340056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9134640" y="340056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991640" y="340056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534440" y="362916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534440" y="385776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534440" y="4086360"/>
                  <a:ext cx="1828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 txBox="1"/>
                <p:nvPr/>
              </p:nvSpPr>
              <p:spPr>
                <a:xfrm>
                  <a:off x="7718400" y="3405240"/>
                  <a:ext cx="3254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 txBox="1"/>
                <p:nvPr/>
              </p:nvSpPr>
              <p:spPr>
                <a:xfrm>
                  <a:off x="7947000" y="3405240"/>
                  <a:ext cx="3254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 txBox="1"/>
                <p:nvPr/>
              </p:nvSpPr>
              <p:spPr>
                <a:xfrm>
                  <a:off x="8175600" y="3405240"/>
                  <a:ext cx="3254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 txBox="1"/>
                <p:nvPr/>
              </p:nvSpPr>
              <p:spPr>
                <a:xfrm>
                  <a:off x="8394840" y="3405240"/>
                  <a:ext cx="3254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 txBox="1"/>
                <p:nvPr/>
              </p:nvSpPr>
              <p:spPr>
                <a:xfrm>
                  <a:off x="8629560" y="3405240"/>
                  <a:ext cx="3254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>
                  <a:off x="8858160" y="3405240"/>
                  <a:ext cx="3254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 txBox="1"/>
                <p:nvPr/>
              </p:nvSpPr>
              <p:spPr>
                <a:xfrm>
                  <a:off x="9080640" y="3405240"/>
                  <a:ext cx="3254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 txBox="1"/>
                <p:nvPr/>
              </p:nvSpPr>
              <p:spPr>
                <a:xfrm>
                  <a:off x="7493040" y="3411360"/>
                  <a:ext cx="32544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 txBox="1"/>
              <p:nvPr/>
            </p:nvSpPr>
            <p:spPr>
              <a:xfrm>
                <a:off x="6072120" y="1461960"/>
                <a:ext cx="19447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2 - 4 - 8 DCT Mo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00560" y="1989000"/>
                <a:ext cx="1828800" cy="91440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09920" y="3579840"/>
                <a:ext cx="1828800" cy="91440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313160" y="2000160"/>
                <a:ext cx="216000" cy="19044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4245120" y="1992240"/>
                <a:ext cx="36828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4664160" y="2325600"/>
                <a:ext cx="1200240" cy="27468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 coeffici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322880" y="3591000"/>
                <a:ext cx="216000" cy="19044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4254480" y="3583080"/>
                <a:ext cx="36828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4602240" y="3902040"/>
                <a:ext cx="1200240" cy="27468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 coeffici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643800" y="2249640"/>
                <a:ext cx="339840" cy="347760"/>
              </a:xfrm>
              <a:prstGeom prst="ellipse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13560" y="2327400"/>
                <a:ext cx="4064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227640" y="1484280"/>
                <a:ext cx="3031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00640" y="2433600"/>
                <a:ext cx="3240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6224760" y="4043520"/>
                <a:ext cx="335160" cy="66960"/>
                <a:chOff x="6224760" y="4043520"/>
                <a:chExt cx="335160" cy="669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224760" y="4071960"/>
                  <a:ext cx="32364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426360" y="4043520"/>
                  <a:ext cx="133560" cy="66960"/>
                </a:xfrm>
                <a:custGeom>
                  <a:avLst/>
                  <a:gdLst/>
                  <a:ahLst/>
                  <a:rect l="0" t="0" r="r" b="b"/>
                  <a:pathLst>
                    <a:path w="371" h="186">
                      <a:moveTo>
                        <a:pt x="0" y="0"/>
                      </a:moveTo>
                      <a:lnTo>
                        <a:pt x="0" y="186"/>
                      </a:lnTo>
                      <a:lnTo>
                        <a:pt x="371" y="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afd00"/>
                </a:solidFill>
                <a:ln w="12600">
                  <a:solidFill>
                    <a:srgbClr val="fafd00"/>
                  </a:solidFill>
                  <a:round/>
                </a:ln>
              </p:spPr>
              <p:txBody>
                <a:bodyPr lIns="96120" rIns="9612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6431040" y="240048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6229440" y="2690640"/>
                <a:ext cx="491040" cy="1276560"/>
                <a:chOff x="6229440" y="2690640"/>
                <a:chExt cx="491040" cy="12765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6640560" y="2695680"/>
                  <a:ext cx="79560" cy="135360"/>
                </a:xfrm>
                <a:custGeom>
                  <a:avLst/>
                  <a:gdLst/>
                  <a:ahLst/>
                  <a:rect l="0" t="0" r="r" b="b"/>
                  <a:pathLst>
                    <a:path w="221" h="376">
                      <a:moveTo>
                        <a:pt x="0" y="301"/>
                      </a:moveTo>
                      <a:lnTo>
                        <a:pt x="177" y="376"/>
                      </a:lnTo>
                      <a:lnTo>
                        <a:pt x="221" y="0"/>
                      </a:lnTo>
                      <a:lnTo>
                        <a:pt x="0" y="301"/>
                      </a:lnTo>
                      <a:close/>
                    </a:path>
                  </a:pathLst>
                </a:custGeom>
                <a:solidFill>
                  <a:srgbClr val="fafd00"/>
                </a:solidFill>
                <a:ln w="12600">
                  <a:solidFill>
                    <a:srgbClr val="fafd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229440" y="2690640"/>
                  <a:ext cx="491040" cy="1276560"/>
                </a:xfrm>
                <a:custGeom>
                  <a:avLst/>
                  <a:gdLst/>
                  <a:ahLst/>
                  <a:rect l="0" t="0" r="r" b="b"/>
                  <a:pathLst>
                    <a:path w="1364" h="3546">
                      <a:moveTo>
                        <a:pt x="0" y="3546"/>
                      </a:moveTo>
                      <a:lnTo>
                        <a:pt x="1364" y="0"/>
                      </a:lnTo>
                      <a:lnTo>
                        <a:pt x="1364" y="0"/>
                      </a:lnTo>
                      <a:lnTo>
                        <a:pt x="0" y="3546"/>
                      </a:lnTo>
                      <a:close/>
                    </a:path>
                  </a:pathLst>
                </a:custGeom>
                <a:solidFill>
                  <a:srgbClr val="fafd00"/>
                </a:solidFill>
                <a:ln w="12600">
                  <a:solidFill>
                    <a:srgbClr val="fafd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6215040" y="2552760"/>
                <a:ext cx="491040" cy="1276560"/>
                <a:chOff x="6215040" y="2552760"/>
                <a:chExt cx="491040" cy="12765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6626160" y="3689280"/>
                  <a:ext cx="79560" cy="135360"/>
                </a:xfrm>
                <a:custGeom>
                  <a:avLst/>
                  <a:gdLst/>
                  <a:ahLst/>
                  <a:rect l="0" t="0" r="r" b="b"/>
                  <a:pathLst>
                    <a:path w="221" h="376">
                      <a:moveTo>
                        <a:pt x="0" y="74"/>
                      </a:moveTo>
                      <a:lnTo>
                        <a:pt x="177" y="0"/>
                      </a:lnTo>
                      <a:lnTo>
                        <a:pt x="221" y="376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fafd00"/>
                </a:solidFill>
                <a:ln w="12600">
                  <a:solidFill>
                    <a:srgbClr val="fafd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6215040" y="2552760"/>
                  <a:ext cx="491040" cy="1276560"/>
                </a:xfrm>
                <a:custGeom>
                  <a:avLst/>
                  <a:gdLst/>
                  <a:ahLst/>
                  <a:rect l="0" t="0" r="r" b="b"/>
                  <a:pathLst>
                    <a:path w="1364" h="3546">
                      <a:moveTo>
                        <a:pt x="0" y="0"/>
                      </a:moveTo>
                      <a:lnTo>
                        <a:pt x="1364" y="3546"/>
                      </a:lnTo>
                      <a:lnTo>
                        <a:pt x="1364" y="354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afd00"/>
                </a:solidFill>
                <a:ln w="12600">
                  <a:solidFill>
                    <a:srgbClr val="fafd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7097760" y="3913200"/>
                <a:ext cx="302040" cy="142920"/>
                <a:chOff x="7097760" y="3913200"/>
                <a:chExt cx="302040" cy="142920"/>
              </a:xfrm>
            </p:grpSpPr>
            <p:sp>
              <p:nvSpPr>
                <p:cNvPr id="589" name=""/>
                <p:cNvSpPr/>
                <p:nvPr/>
              </p:nvSpPr>
              <p:spPr>
                <a:xfrm flipV="1">
                  <a:off x="7097760" y="3914640"/>
                  <a:ext cx="290520" cy="1414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267680" y="3913200"/>
                  <a:ext cx="132120" cy="89280"/>
                </a:xfrm>
                <a:custGeom>
                  <a:avLst/>
                  <a:gdLst/>
                  <a:ahLst/>
                  <a:rect l="0" t="0" r="r" b="b"/>
                  <a:pathLst>
                    <a:path w="367" h="248">
                      <a:moveTo>
                        <a:pt x="0" y="84"/>
                      </a:moveTo>
                      <a:lnTo>
                        <a:pt x="74" y="248"/>
                      </a:lnTo>
                      <a:lnTo>
                        <a:pt x="367" y="0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afd00"/>
                </a:solidFill>
                <a:ln w="12600">
                  <a:solidFill>
                    <a:srgbClr val="fafd00"/>
                  </a:solidFill>
                  <a:round/>
                </a:ln>
              </p:spPr>
              <p:txBody>
                <a:bodyPr lIns="96120" rIns="9612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7105680" y="2470320"/>
                <a:ext cx="304920" cy="139680"/>
                <a:chOff x="7105680" y="2470320"/>
                <a:chExt cx="304920" cy="1396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105680" y="2470320"/>
                  <a:ext cx="295200" cy="13176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273800" y="2527200"/>
                  <a:ext cx="136800" cy="82800"/>
                </a:xfrm>
                <a:custGeom>
                  <a:avLst/>
                  <a:gdLst/>
                  <a:ahLst/>
                  <a:rect l="0" t="0" r="r" b="b"/>
                  <a:pathLst>
                    <a:path w="380" h="230">
                      <a:moveTo>
                        <a:pt x="79" y="0"/>
                      </a:moveTo>
                      <a:lnTo>
                        <a:pt x="0" y="168"/>
                      </a:lnTo>
                      <a:lnTo>
                        <a:pt x="380" y="230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fafd00"/>
                </a:solidFill>
                <a:ln w="12600">
                  <a:solidFill>
                    <a:srgbClr val="fafd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4" name=""/>
              <p:cNvSpPr/>
              <p:nvPr/>
            </p:nvSpPr>
            <p:spPr>
              <a:xfrm>
                <a:off x="6656400" y="3906720"/>
                <a:ext cx="339840" cy="347760"/>
              </a:xfrm>
              <a:prstGeom prst="ellipse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>
                <a:off x="6561000" y="1995480"/>
                <a:ext cx="5144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u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 txBox="1"/>
              <p:nvPr/>
            </p:nvSpPr>
            <p:spPr>
              <a:xfrm>
                <a:off x="6593040" y="424980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Diff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818400" y="2355840"/>
                <a:ext cx="0" cy="14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751800" y="4086360"/>
                <a:ext cx="145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38840" y="2435400"/>
                <a:ext cx="146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5241960" y="4627440"/>
                <a:ext cx="298440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Intra-Frame  motion detecte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1" name=""/>
          <p:cNvSpPr txBox="1"/>
          <p:nvPr/>
        </p:nvSpPr>
        <p:spPr>
          <a:xfrm>
            <a:off x="3184560" y="6014880"/>
            <a:ext cx="4413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8 - 8 DCT Mode and  2 - 4 - 8 DCT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914400" y="1308240"/>
            <a:ext cx="8699400" cy="3663720"/>
            <a:chOff x="914400" y="1308240"/>
            <a:chExt cx="8699400" cy="3663720"/>
          </a:xfrm>
        </p:grpSpPr>
        <p:grpSp>
          <p:nvGrpSpPr>
            <p:cNvPr id="603" name=""/>
            <p:cNvGrpSpPr/>
            <p:nvPr/>
          </p:nvGrpSpPr>
          <p:grpSpPr>
            <a:xfrm>
              <a:off x="914400" y="1308240"/>
              <a:ext cx="4191120" cy="3659040"/>
              <a:chOff x="914400" y="1308240"/>
              <a:chExt cx="4191120" cy="3659040"/>
            </a:xfrm>
          </p:grpSpPr>
          <p:sp>
            <p:nvSpPr>
              <p:cNvPr id="604" name=""/>
              <p:cNvSpPr/>
              <p:nvPr/>
            </p:nvSpPr>
            <p:spPr>
              <a:xfrm>
                <a:off x="914400" y="1633680"/>
                <a:ext cx="4191120" cy="33336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3807000" y="3567240"/>
                <a:ext cx="10540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rizont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eq..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1123920" y="2001960"/>
                <a:ext cx="3238560" cy="2619360"/>
                <a:chOff x="1123920" y="2001960"/>
                <a:chExt cx="3238560" cy="26193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2562120" y="2001960"/>
                  <a:ext cx="0" cy="159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52760" y="3592440"/>
                  <a:ext cx="180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>
                  <a:off x="1123920" y="3592440"/>
                  <a:ext cx="1438200" cy="1028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035000" y="4567320"/>
                <a:ext cx="127440" cy="103680"/>
              </a:xfrm>
              <a:custGeom>
                <a:avLst/>
                <a:gdLst/>
                <a:ahLst/>
                <a:rect l="0" t="0" r="r" b="b"/>
                <a:pathLst>
                  <a:path w="354" h="288">
                    <a:moveTo>
                      <a:pt x="354" y="159"/>
                    </a:moveTo>
                    <a:lnTo>
                      <a:pt x="256" y="0"/>
                    </a:lnTo>
                    <a:lnTo>
                      <a:pt x="0" y="288"/>
                    </a:lnTo>
                    <a:lnTo>
                      <a:pt x="354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1136520" y="345276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7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1122480" y="4500720"/>
                <a:ext cx="13604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tical freq..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 txBox="1"/>
              <p:nvPr/>
            </p:nvSpPr>
            <p:spPr>
              <a:xfrm>
                <a:off x="1897200" y="1700280"/>
                <a:ext cx="1447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 compon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1123920" y="4068720"/>
                <a:ext cx="539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(v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2125800" y="1308240"/>
                <a:ext cx="16527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8 - 8 DCT Mo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5243400" y="1309680"/>
              <a:ext cx="4370400" cy="3662280"/>
              <a:chOff x="5243400" y="1309680"/>
              <a:chExt cx="4370400" cy="3662280"/>
            </a:xfrm>
          </p:grpSpPr>
          <p:sp>
            <p:nvSpPr>
              <p:cNvPr id="617" name=""/>
              <p:cNvSpPr/>
              <p:nvPr/>
            </p:nvSpPr>
            <p:spPr>
              <a:xfrm>
                <a:off x="5243400" y="1638360"/>
                <a:ext cx="4191120" cy="33336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8207280" y="3684600"/>
                <a:ext cx="140652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rizontal freq..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89760" y="206856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186" y="371"/>
                    </a:moveTo>
                    <a:lnTo>
                      <a:pt x="0" y="371"/>
                    </a:lnTo>
                    <a:lnTo>
                      <a:pt x="98" y="0"/>
                    </a:lnTo>
                    <a:lnTo>
                      <a:pt x="186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2240" y="4660920"/>
                <a:ext cx="127440" cy="103680"/>
              </a:xfrm>
              <a:custGeom>
                <a:avLst/>
                <a:gdLst/>
                <a:ahLst/>
                <a:rect l="0" t="0" r="r" b="b"/>
                <a:pathLst>
                  <a:path w="354" h="288">
                    <a:moveTo>
                      <a:pt x="354" y="159"/>
                    </a:moveTo>
                    <a:lnTo>
                      <a:pt x="256" y="0"/>
                    </a:lnTo>
                    <a:lnTo>
                      <a:pt x="0" y="288"/>
                    </a:lnTo>
                    <a:lnTo>
                      <a:pt x="354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5603760" y="354636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7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5564160" y="4594320"/>
                <a:ext cx="13604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tical freq..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6364440" y="1793880"/>
                <a:ext cx="1447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 compon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5591160" y="4162320"/>
                <a:ext cx="539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(v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6362640" y="1309680"/>
                <a:ext cx="19447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2 - 4 - 8 DCT Mo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709120" y="365760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8264520" y="279720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7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>
                <a:off x="7350120" y="382572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8280360" y="3419640"/>
                <a:ext cx="549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(h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6964200" y="3451320"/>
                <a:ext cx="441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;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>
                <a:off x="7229520" y="4327560"/>
                <a:ext cx="441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;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 txBox="1"/>
              <p:nvPr/>
            </p:nvSpPr>
            <p:spPr>
              <a:xfrm>
                <a:off x="6524640" y="336564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7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5591160" y="2095560"/>
                <a:ext cx="3238560" cy="2619360"/>
                <a:chOff x="5591160" y="2095560"/>
                <a:chExt cx="3238560" cy="26193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7029360" y="2095560"/>
                  <a:ext cx="0" cy="159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020000" y="3686040"/>
                  <a:ext cx="1809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>
                  <a:off x="5591160" y="3686040"/>
                  <a:ext cx="1438200" cy="1028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 flipV="1">
                <a:off x="7423200" y="3905280"/>
                <a:ext cx="0" cy="46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 txBox="1"/>
              <p:nvPr/>
            </p:nvSpPr>
            <p:spPr>
              <a:xfrm>
                <a:off x="6950160" y="248616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>
                <a:off x="7864560" y="337500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7655040" y="294948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7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>
                <a:off x="6197760" y="271476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"/>
          <p:cNvSpPr txBox="1"/>
          <p:nvPr/>
        </p:nvSpPr>
        <p:spPr>
          <a:xfrm>
            <a:off x="3660840" y="6014880"/>
            <a:ext cx="300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Weighting Fun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596960" y="1974960"/>
            <a:ext cx="2778480" cy="2563920"/>
            <a:chOff x="1596960" y="1974960"/>
            <a:chExt cx="2778480" cy="2563920"/>
          </a:xfrm>
        </p:grpSpPr>
        <p:grpSp>
          <p:nvGrpSpPr>
            <p:cNvPr id="644" name=""/>
            <p:cNvGrpSpPr/>
            <p:nvPr/>
          </p:nvGrpSpPr>
          <p:grpSpPr>
            <a:xfrm>
              <a:off x="1596960" y="1974960"/>
              <a:ext cx="2778480" cy="2563920"/>
              <a:chOff x="1596960" y="1974960"/>
              <a:chExt cx="2778480" cy="2563920"/>
            </a:xfrm>
          </p:grpSpPr>
          <p:sp>
            <p:nvSpPr>
              <p:cNvPr id="645" name=""/>
              <p:cNvSpPr/>
              <p:nvPr/>
            </p:nvSpPr>
            <p:spPr>
              <a:xfrm flipV="1">
                <a:off x="1609560" y="3625920"/>
                <a:ext cx="0" cy="64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3882960" y="2927520"/>
                <a:ext cx="0" cy="65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2955960" y="3811680"/>
                <a:ext cx="0" cy="46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2955960" y="3589200"/>
                <a:ext cx="933480" cy="68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596960" y="4273560"/>
                <a:ext cx="13590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6160" bIns="-56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56000" y="2654280"/>
                <a:ext cx="1345320" cy="276840"/>
              </a:xfrm>
              <a:custGeom>
                <a:avLst/>
                <a:gdLst/>
                <a:ahLst/>
                <a:rect l="0" t="0" r="r" b="b"/>
                <a:pathLst>
                  <a:path fill="none" w="3737" h="769">
                    <a:moveTo>
                      <a:pt x="3737" y="769"/>
                    </a:moveTo>
                    <a:lnTo>
                      <a:pt x="3737" y="769"/>
                    </a:lnTo>
                    <a:cubicBezTo>
                      <a:pt x="3515" y="665"/>
                      <a:pt x="3280" y="571"/>
                      <a:pt x="3036" y="486"/>
                    </a:cubicBezTo>
                    <a:cubicBezTo>
                      <a:pt x="2113" y="168"/>
                      <a:pt x="1066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609560" y="3627360"/>
                <a:ext cx="1341000" cy="192960"/>
              </a:xfrm>
              <a:custGeom>
                <a:avLst/>
                <a:gdLst/>
                <a:ahLst/>
                <a:rect l="0" t="0" r="r" b="b"/>
                <a:pathLst>
                  <a:path fill="none" w="3725" h="536">
                    <a:moveTo>
                      <a:pt x="3725" y="536"/>
                    </a:moveTo>
                    <a:lnTo>
                      <a:pt x="3725" y="536"/>
                    </a:lnTo>
                    <a:cubicBezTo>
                      <a:pt x="3436" y="439"/>
                      <a:pt x="3121" y="353"/>
                      <a:pt x="2785" y="280"/>
                    </a:cubicBezTo>
                    <a:cubicBezTo>
                      <a:pt x="1938" y="97"/>
                      <a:pt x="978" y="0"/>
                      <a:pt x="1" y="0"/>
                    </a:cubicBezTo>
                    <a:lnTo>
                      <a:pt x="0" y="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241880" y="356400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522520" y="197496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186" y="371"/>
                    </a:moveTo>
                    <a:lnTo>
                      <a:pt x="0" y="371"/>
                    </a:lnTo>
                    <a:lnTo>
                      <a:pt x="98" y="0"/>
                    </a:lnTo>
                    <a:lnTo>
                      <a:pt x="186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2482920" y="239220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 txBox="1"/>
              <p:nvPr/>
            </p:nvSpPr>
            <p:spPr>
              <a:xfrm>
                <a:off x="3797280" y="270360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7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2895480" y="3693960"/>
                <a:ext cx="530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3813120" y="3325680"/>
                <a:ext cx="549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(h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 txBox="1"/>
              <p:nvPr/>
            </p:nvSpPr>
            <p:spPr>
              <a:xfrm>
                <a:off x="2486160" y="3319560"/>
                <a:ext cx="5983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;0;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2762280" y="4233960"/>
                <a:ext cx="441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;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>
              <a:off x="1606680" y="2654280"/>
              <a:ext cx="968760" cy="950760"/>
            </a:xfrm>
            <a:custGeom>
              <a:avLst/>
              <a:gdLst/>
              <a:ahLst/>
              <a:rect l="0" t="0" r="r" b="b"/>
              <a:pathLst>
                <a:path fill="none" w="2691" h="2641">
                  <a:moveTo>
                    <a:pt x="2691" y="0"/>
                  </a:moveTo>
                  <a:lnTo>
                    <a:pt x="2691" y="0"/>
                  </a:lnTo>
                  <a:cubicBezTo>
                    <a:pt x="2034" y="0"/>
                    <a:pt x="1389" y="400"/>
                    <a:pt x="821" y="1159"/>
                  </a:cubicBezTo>
                  <a:cubicBezTo>
                    <a:pt x="519" y="1562"/>
                    <a:pt x="242" y="2061"/>
                    <a:pt x="0" y="2641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44080" y="2954160"/>
              <a:ext cx="939240" cy="885960"/>
            </a:xfrm>
            <a:custGeom>
              <a:avLst/>
              <a:gdLst/>
              <a:ahLst/>
              <a:rect l="0" t="0" r="r" b="b"/>
              <a:pathLst>
                <a:path fill="none" w="2609" h="2461">
                  <a:moveTo>
                    <a:pt x="2609" y="0"/>
                  </a:moveTo>
                  <a:lnTo>
                    <a:pt x="2609" y="0"/>
                  </a:lnTo>
                  <a:cubicBezTo>
                    <a:pt x="1925" y="0"/>
                    <a:pt x="1252" y="443"/>
                    <a:pt x="660" y="1284"/>
                  </a:cubicBezTo>
                  <a:cubicBezTo>
                    <a:pt x="424" y="1618"/>
                    <a:pt x="203" y="2013"/>
                    <a:pt x="0" y="2461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064200" y="2747880"/>
            <a:ext cx="2304360" cy="1621080"/>
            <a:chOff x="6064200" y="2747880"/>
            <a:chExt cx="2304360" cy="1621080"/>
          </a:xfrm>
        </p:grpSpPr>
        <p:sp>
          <p:nvSpPr>
            <p:cNvPr id="663" name=""/>
            <p:cNvSpPr/>
            <p:nvPr/>
          </p:nvSpPr>
          <p:spPr>
            <a:xfrm flipV="1">
              <a:off x="6076800" y="3740040"/>
              <a:ext cx="0" cy="621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915320" y="3267000"/>
              <a:ext cx="0" cy="733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6568920" y="2975040"/>
              <a:ext cx="0" cy="104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75400" y="2970360"/>
              <a:ext cx="1345320" cy="276840"/>
            </a:xfrm>
            <a:custGeom>
              <a:avLst/>
              <a:gdLst/>
              <a:ahLst/>
              <a:rect l="0" t="0" r="r" b="b"/>
              <a:pathLst>
                <a:path fill="none" w="3737" h="769">
                  <a:moveTo>
                    <a:pt x="3737" y="769"/>
                  </a:moveTo>
                  <a:lnTo>
                    <a:pt x="3737" y="769"/>
                  </a:lnTo>
                  <a:cubicBezTo>
                    <a:pt x="3515" y="665"/>
                    <a:pt x="3280" y="571"/>
                    <a:pt x="3036" y="486"/>
                  </a:cubicBezTo>
                  <a:cubicBezTo>
                    <a:pt x="2113" y="168"/>
                    <a:pt x="1066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350200" y="3021120"/>
              <a:ext cx="0" cy="654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423200" y="3683160"/>
              <a:ext cx="933480" cy="684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64200" y="4367160"/>
              <a:ext cx="1359000" cy="1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5800" bIns="-55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23240" y="2747880"/>
              <a:ext cx="1345320" cy="276840"/>
            </a:xfrm>
            <a:custGeom>
              <a:avLst/>
              <a:gdLst/>
              <a:ahLst/>
              <a:rect l="0" t="0" r="r" b="b"/>
              <a:pathLst>
                <a:path fill="none" w="3737" h="769">
                  <a:moveTo>
                    <a:pt x="3737" y="769"/>
                  </a:moveTo>
                  <a:lnTo>
                    <a:pt x="3737" y="769"/>
                  </a:lnTo>
                  <a:cubicBezTo>
                    <a:pt x="3515" y="665"/>
                    <a:pt x="3280" y="571"/>
                    <a:pt x="3036" y="486"/>
                  </a:cubicBezTo>
                  <a:cubicBezTo>
                    <a:pt x="2113" y="168"/>
                    <a:pt x="1066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70680" y="3727440"/>
              <a:ext cx="1361520" cy="177840"/>
            </a:xfrm>
            <a:custGeom>
              <a:avLst/>
              <a:gdLst/>
              <a:ahLst/>
              <a:rect l="0" t="0" r="r" b="b"/>
              <a:pathLst>
                <a:path fill="none" w="3782" h="494">
                  <a:moveTo>
                    <a:pt x="3782" y="494"/>
                  </a:moveTo>
                  <a:lnTo>
                    <a:pt x="3782" y="494"/>
                  </a:lnTo>
                  <a:cubicBezTo>
                    <a:pt x="2605" y="169"/>
                    <a:pt x="131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72160" y="3365640"/>
              <a:ext cx="1312560" cy="164520"/>
            </a:xfrm>
            <a:custGeom>
              <a:avLst/>
              <a:gdLst/>
              <a:ahLst/>
              <a:rect l="0" t="0" r="r" b="b"/>
              <a:pathLst>
                <a:path fill="none" w="3646" h="457">
                  <a:moveTo>
                    <a:pt x="3646" y="457"/>
                  </a:moveTo>
                  <a:lnTo>
                    <a:pt x="3646" y="457"/>
                  </a:lnTo>
                  <a:cubicBezTo>
                    <a:pt x="2504" y="156"/>
                    <a:pt x="1260" y="0"/>
                    <a:pt x="0" y="0"/>
                  </a:cubicBezTo>
                  <a:lnTo>
                    <a:pt x="0" y="0"/>
                  </a:ln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904880" y="3024720"/>
              <a:ext cx="433440" cy="515160"/>
            </a:xfrm>
            <a:custGeom>
              <a:avLst/>
              <a:gdLst/>
              <a:ahLst/>
              <a:rect l="0" t="0" r="r" b="b"/>
              <a:pathLst>
                <a:path fill="none" w="1204" h="1431">
                  <a:moveTo>
                    <a:pt x="1204" y="0"/>
                  </a:moveTo>
                  <a:lnTo>
                    <a:pt x="1204" y="0"/>
                  </a:lnTo>
                  <a:cubicBezTo>
                    <a:pt x="794" y="57"/>
                    <a:pt x="393" y="519"/>
                    <a:pt x="37" y="1343"/>
                  </a:cubicBezTo>
                  <a:cubicBezTo>
                    <a:pt x="25" y="1372"/>
                    <a:pt x="12" y="1401"/>
                    <a:pt x="0" y="1431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84040" y="2752560"/>
              <a:ext cx="439560" cy="584280"/>
            </a:xfrm>
            <a:custGeom>
              <a:avLst/>
              <a:gdLst/>
              <a:ahLst/>
              <a:rect l="0" t="0" r="r" b="b"/>
              <a:pathLst>
                <a:path fill="none" w="1221" h="1623">
                  <a:moveTo>
                    <a:pt x="1221" y="0"/>
                  </a:moveTo>
                  <a:lnTo>
                    <a:pt x="1221" y="0"/>
                  </a:lnTo>
                  <a:lnTo>
                    <a:pt x="1221" y="0"/>
                  </a:lnTo>
                  <a:cubicBezTo>
                    <a:pt x="827" y="0"/>
                    <a:pt x="441" y="465"/>
                    <a:pt x="100" y="1348"/>
                  </a:cubicBezTo>
                  <a:cubicBezTo>
                    <a:pt x="66" y="1436"/>
                    <a:pt x="33" y="1527"/>
                    <a:pt x="0" y="1623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71040" y="2971800"/>
              <a:ext cx="485640" cy="761760"/>
            </a:xfrm>
            <a:custGeom>
              <a:avLst/>
              <a:gdLst/>
              <a:ahLst/>
              <a:rect l="0" t="0" r="r" b="b"/>
              <a:pathLst>
                <a:path fill="none" w="1349" h="2116">
                  <a:moveTo>
                    <a:pt x="1349" y="0"/>
                  </a:moveTo>
                  <a:lnTo>
                    <a:pt x="1349" y="0"/>
                  </a:lnTo>
                  <a:cubicBezTo>
                    <a:pt x="956" y="0"/>
                    <a:pt x="569" y="486"/>
                    <a:pt x="228" y="1408"/>
                  </a:cubicBezTo>
                  <a:cubicBezTo>
                    <a:pt x="149" y="1622"/>
                    <a:pt x="73" y="1858"/>
                    <a:pt x="0" y="2116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14560" y="3257640"/>
              <a:ext cx="501120" cy="660600"/>
            </a:xfrm>
            <a:custGeom>
              <a:avLst/>
              <a:gdLst/>
              <a:ahLst/>
              <a:rect l="0" t="0" r="r" b="b"/>
              <a:pathLst>
                <a:path fill="none" w="1392" h="1835">
                  <a:moveTo>
                    <a:pt x="1392" y="0"/>
                  </a:moveTo>
                  <a:lnTo>
                    <a:pt x="1392" y="0"/>
                  </a:lnTo>
                  <a:cubicBezTo>
                    <a:pt x="1040" y="0"/>
                    <a:pt x="695" y="302"/>
                    <a:pt x="390" y="876"/>
                  </a:cubicBezTo>
                  <a:cubicBezTo>
                    <a:pt x="249" y="1143"/>
                    <a:pt x="118" y="1465"/>
                    <a:pt x="0" y="1835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2028960" y="1565280"/>
            <a:ext cx="6607080" cy="3503520"/>
            <a:chOff x="2028960" y="1565280"/>
            <a:chExt cx="6607080" cy="3503520"/>
          </a:xfrm>
        </p:grpSpPr>
        <p:sp>
          <p:nvSpPr>
            <p:cNvPr id="678" name=""/>
            <p:cNvSpPr txBox="1"/>
            <p:nvPr/>
          </p:nvSpPr>
          <p:spPr>
            <a:xfrm>
              <a:off x="2544840" y="1565280"/>
              <a:ext cx="6021360" cy="11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 Classification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(option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4 classes based on the value of AC coeffic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and artifacts in a DCT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 txBox="1"/>
            <p:nvPr/>
          </p:nvSpPr>
          <p:spPr>
            <a:xfrm>
              <a:off x="2544840" y="2781360"/>
              <a:ext cx="609120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Quantization Step Tab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16 quantization steps for 4 areas of a DCT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2544840" y="3570120"/>
              <a:ext cx="5430960" cy="109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Variable Length Co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dewords length varies from 3 to 16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>
              <a:off x="2544840" y="4336920"/>
              <a:ext cx="4592520" cy="73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Video Segment  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5 Macro blocks  group process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28960" y="1698480"/>
              <a:ext cx="114480" cy="1144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35080" y="2927520"/>
              <a:ext cx="114480" cy="1144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35080" y="3733920"/>
              <a:ext cx="114480" cy="1144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28960" y="4491000"/>
              <a:ext cx="114480" cy="1144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 txBox="1"/>
          <p:nvPr/>
        </p:nvSpPr>
        <p:spPr>
          <a:xfrm>
            <a:off x="3166920" y="6014880"/>
            <a:ext cx="398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Quantization/Coding 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576600" y="6000840"/>
            <a:ext cx="3144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Compress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685880" y="1371600"/>
            <a:ext cx="7091280" cy="4057920"/>
            <a:chOff x="1685880" y="1371600"/>
            <a:chExt cx="7091280" cy="4057920"/>
          </a:xfrm>
        </p:grpSpPr>
        <p:sp>
          <p:nvSpPr>
            <p:cNvPr id="689" name=""/>
            <p:cNvSpPr/>
            <p:nvPr/>
          </p:nvSpPr>
          <p:spPr>
            <a:xfrm>
              <a:off x="2014560" y="1371600"/>
              <a:ext cx="6762600" cy="382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425760" y="258768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49800" y="2714760"/>
              <a:ext cx="1042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66840" y="258444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2030400" y="2616120"/>
              <a:ext cx="1166760" cy="60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amp; Weigh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2095560" y="1542960"/>
              <a:ext cx="1054080" cy="635040"/>
              <a:chOff x="2095560" y="1542960"/>
              <a:chExt cx="1054080" cy="635040"/>
            </a:xfrm>
          </p:grpSpPr>
          <p:sp>
            <p:nvSpPr>
              <p:cNvPr id="695" name=""/>
              <p:cNvSpPr/>
              <p:nvPr/>
            </p:nvSpPr>
            <p:spPr>
              <a:xfrm>
                <a:off x="2187720" y="155088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>
                <a:off x="2095560" y="1542960"/>
                <a:ext cx="1054080" cy="63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rafram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2610000" y="215748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73280" y="2444760"/>
              <a:ext cx="66960" cy="133560"/>
            </a:xfrm>
            <a:custGeom>
              <a:avLst/>
              <a:gdLst/>
              <a:ahLst/>
              <a:rect l="0" t="0" r="r" b="b"/>
              <a:pathLst>
                <a:path w="186" h="371">
                  <a:moveTo>
                    <a:pt x="186" y="0"/>
                  </a:moveTo>
                  <a:lnTo>
                    <a:pt x="0" y="0"/>
                  </a:lnTo>
                  <a:lnTo>
                    <a:pt x="98" y="37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5122800" y="4149720"/>
              <a:ext cx="66960" cy="380880"/>
              <a:chOff x="5122800" y="4149720"/>
              <a:chExt cx="66960" cy="3808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5153040" y="4149720"/>
                <a:ext cx="0" cy="380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22800" y="415764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0" y="371"/>
                    </a:moveTo>
                    <a:lnTo>
                      <a:pt x="186" y="371"/>
                    </a:lnTo>
                    <a:lnTo>
                      <a:pt x="88" y="0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3016080" y="2859120"/>
              <a:ext cx="392400" cy="66960"/>
              <a:chOff x="3016080" y="2859120"/>
              <a:chExt cx="392400" cy="66960"/>
            </a:xfrm>
          </p:grpSpPr>
          <p:sp>
            <p:nvSpPr>
              <p:cNvPr id="703" name=""/>
              <p:cNvSpPr/>
              <p:nvPr/>
            </p:nvSpPr>
            <p:spPr>
              <a:xfrm>
                <a:off x="3016080" y="2895480"/>
                <a:ext cx="3812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4920" y="285912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5079960" y="3173400"/>
              <a:ext cx="66960" cy="392040"/>
              <a:chOff x="5079960" y="3173400"/>
              <a:chExt cx="66960" cy="392040"/>
            </a:xfrm>
          </p:grpSpPr>
          <p:sp>
            <p:nvSpPr>
              <p:cNvPr id="706" name=""/>
              <p:cNvSpPr/>
              <p:nvPr/>
            </p:nvSpPr>
            <p:spPr>
              <a:xfrm flipV="1">
                <a:off x="5116680" y="3184560"/>
                <a:ext cx="0" cy="380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079960" y="317340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0" y="371"/>
                    </a:moveTo>
                    <a:lnTo>
                      <a:pt x="186" y="371"/>
                    </a:lnTo>
                    <a:lnTo>
                      <a:pt x="88" y="0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4707000" y="257652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4705200" y="2738520"/>
              <a:ext cx="865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3379680" y="4535640"/>
              <a:ext cx="974880" cy="668160"/>
              <a:chOff x="3379680" y="4535640"/>
              <a:chExt cx="974880" cy="668160"/>
            </a:xfrm>
          </p:grpSpPr>
          <p:sp>
            <p:nvSpPr>
              <p:cNvPr id="711" name=""/>
              <p:cNvSpPr/>
              <p:nvPr/>
            </p:nvSpPr>
            <p:spPr>
              <a:xfrm>
                <a:off x="3432240" y="454644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3379680" y="4535640"/>
                <a:ext cx="974880" cy="66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4713120" y="355608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4778280" y="3578400"/>
              <a:ext cx="747720" cy="62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7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5578560" y="2855880"/>
              <a:ext cx="401760" cy="66960"/>
              <a:chOff x="5578560" y="2855880"/>
              <a:chExt cx="401760" cy="66960"/>
            </a:xfrm>
          </p:grpSpPr>
          <p:sp>
            <p:nvSpPr>
              <p:cNvPr id="716" name=""/>
              <p:cNvSpPr/>
              <p:nvPr/>
            </p:nvSpPr>
            <p:spPr>
              <a:xfrm>
                <a:off x="5578560" y="289548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46760" y="285588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992920" y="257976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6140520" y="273996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03320" y="1884240"/>
              <a:ext cx="287640" cy="999000"/>
            </a:xfrm>
            <a:custGeom>
              <a:avLst/>
              <a:gdLst/>
              <a:ahLst/>
              <a:rect l="0" t="0" r="r" b="b"/>
              <a:pathLst>
                <a:path fill="none" w="799" h="2775">
                  <a:moveTo>
                    <a:pt x="0" y="2775"/>
                  </a:moveTo>
                  <a:lnTo>
                    <a:pt x="4" y="8"/>
                  </a:lnTo>
                  <a:lnTo>
                    <a:pt x="799" y="0"/>
                  </a:lnTo>
                </a:path>
              </a:pathLst>
            </a:custGeom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60640" y="1851120"/>
              <a:ext cx="133560" cy="68760"/>
            </a:xfrm>
            <a:custGeom>
              <a:avLst/>
              <a:gdLst/>
              <a:ahLst/>
              <a:rect l="0" t="0" r="r" b="b"/>
              <a:pathLst>
                <a:path w="371" h="191">
                  <a:moveTo>
                    <a:pt x="0" y="0"/>
                  </a:moveTo>
                  <a:lnTo>
                    <a:pt x="0" y="191"/>
                  </a:lnTo>
                  <a:lnTo>
                    <a:pt x="371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90840" y="2892600"/>
              <a:ext cx="38124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65520" y="285912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186"/>
                  </a:moveTo>
                  <a:lnTo>
                    <a:pt x="0" y="0"/>
                  </a:lnTo>
                  <a:lnTo>
                    <a:pt x="371" y="9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262640" y="258588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>
              <a:off x="7205760" y="2619360"/>
              <a:ext cx="9651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6848640" y="2855880"/>
              <a:ext cx="401760" cy="66960"/>
              <a:chOff x="6848640" y="2855880"/>
              <a:chExt cx="401760" cy="66960"/>
            </a:xfrm>
          </p:grpSpPr>
          <p:sp>
            <p:nvSpPr>
              <p:cNvPr id="727" name=""/>
              <p:cNvSpPr/>
              <p:nvPr/>
            </p:nvSpPr>
            <p:spPr>
              <a:xfrm>
                <a:off x="6848640" y="289548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16840" y="285588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8118360" y="2867040"/>
              <a:ext cx="398880" cy="66960"/>
              <a:chOff x="8118360" y="2867040"/>
              <a:chExt cx="398880" cy="66960"/>
            </a:xfrm>
          </p:grpSpPr>
          <p:sp>
            <p:nvSpPr>
              <p:cNvPr id="730" name=""/>
              <p:cNvSpPr/>
              <p:nvPr/>
            </p:nvSpPr>
            <p:spPr>
              <a:xfrm>
                <a:off x="8118360" y="2900520"/>
                <a:ext cx="3812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383680" y="286704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"/>
            <p:cNvSpPr txBox="1"/>
            <p:nvPr/>
          </p:nvSpPr>
          <p:spPr>
            <a:xfrm>
              <a:off x="3902040" y="5124600"/>
              <a:ext cx="11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lass 0,---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5086440" y="3222720"/>
              <a:ext cx="1162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tep 0,...,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1933560" y="2135160"/>
              <a:ext cx="18921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8-8 or  2-4-8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8050320" y="2540160"/>
              <a:ext cx="569880" cy="9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3503520" y="2730600"/>
              <a:ext cx="708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ff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30760" y="453852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4657680" y="4567320"/>
              <a:ext cx="1054080" cy="60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nt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o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74840" y="2895480"/>
              <a:ext cx="254520" cy="1991160"/>
            </a:xfrm>
            <a:custGeom>
              <a:avLst/>
              <a:gdLst/>
              <a:ahLst/>
              <a:rect l="0" t="0" r="r" b="b"/>
              <a:pathLst>
                <a:path fill="none" w="707" h="5531">
                  <a:moveTo>
                    <a:pt x="0" y="0"/>
                  </a:moveTo>
                  <a:lnTo>
                    <a:pt x="0" y="5531"/>
                  </a:lnTo>
                  <a:lnTo>
                    <a:pt x="707" y="5531"/>
                  </a:lnTo>
                </a:path>
              </a:pathLst>
            </a:custGeom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84640" y="485316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186"/>
                  </a:moveTo>
                  <a:lnTo>
                    <a:pt x="0" y="0"/>
                  </a:lnTo>
                  <a:lnTo>
                    <a:pt x="371" y="9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4300560" y="4853160"/>
              <a:ext cx="427320" cy="66960"/>
              <a:chOff x="4300560" y="4853160"/>
              <a:chExt cx="427320" cy="66960"/>
            </a:xfrm>
          </p:grpSpPr>
          <p:sp>
            <p:nvSpPr>
              <p:cNvPr id="742" name=""/>
              <p:cNvSpPr/>
              <p:nvPr/>
            </p:nvSpPr>
            <p:spPr>
              <a:xfrm>
                <a:off x="4300560" y="488628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594320" y="485316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fill="none" w="371" h="186">
                    <a:moveTo>
                      <a:pt x="0" y="186"/>
                    </a:moveTo>
                    <a:lnTo>
                      <a:pt x="0" y="0"/>
                    </a:lnTo>
                    <a:lnTo>
                      <a:pt x="371" y="98"/>
                    </a:ln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1685880" y="2889360"/>
              <a:ext cx="4572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30400" y="284940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0"/>
                  </a:moveTo>
                  <a:lnTo>
                    <a:pt x="0" y="186"/>
                  </a:lnTo>
                  <a:lnTo>
                    <a:pt x="371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1757520" y="5996160"/>
            <a:ext cx="6813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Quantization Process - Selection of Bit Reduction Co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588960" y="1238400"/>
            <a:ext cx="8340840" cy="1739880"/>
            <a:chOff x="588960" y="1238400"/>
            <a:chExt cx="8340840" cy="1739880"/>
          </a:xfrm>
        </p:grpSpPr>
        <p:sp>
          <p:nvSpPr>
            <p:cNvPr id="748" name=""/>
            <p:cNvSpPr/>
            <p:nvPr/>
          </p:nvSpPr>
          <p:spPr>
            <a:xfrm>
              <a:off x="588960" y="1238400"/>
              <a:ext cx="8335800" cy="1739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9200" y="1581120"/>
              <a:ext cx="829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93640" y="1924200"/>
              <a:ext cx="833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88960" y="2266920"/>
              <a:ext cx="833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8960" y="2590920"/>
              <a:ext cx="833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80960" y="1238400"/>
              <a:ext cx="0" cy="173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366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940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12416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798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2292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656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50872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388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8156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372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6736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30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5316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962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3896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5946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098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75256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824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45132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79720" y="1581120"/>
              <a:ext cx="0" cy="1397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"/>
          <p:cNvSpPr txBox="1"/>
          <p:nvPr/>
        </p:nvSpPr>
        <p:spPr>
          <a:xfrm>
            <a:off x="641520" y="1201680"/>
            <a:ext cx="727200" cy="18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378240" y="1255680"/>
            <a:ext cx="3130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antization Step Table  Q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84280" y="1962000"/>
            <a:ext cx="5219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479680" y="2057400"/>
            <a:ext cx="762480" cy="152640"/>
          </a:xfrm>
          <a:custGeom>
            <a:avLst/>
            <a:gdLst/>
            <a:ahLst/>
            <a:rect l="0" t="0" r="r" b="b"/>
            <a:pathLst>
              <a:path w="2118" h="424">
                <a:moveTo>
                  <a:pt x="0" y="140"/>
                </a:moveTo>
                <a:lnTo>
                  <a:pt x="0" y="282"/>
                </a:lnTo>
                <a:lnTo>
                  <a:pt x="1482" y="282"/>
                </a:lnTo>
                <a:lnTo>
                  <a:pt x="1482" y="424"/>
                </a:lnTo>
                <a:lnTo>
                  <a:pt x="2118" y="211"/>
                </a:lnTo>
                <a:lnTo>
                  <a:pt x="1482" y="0"/>
                </a:lnTo>
                <a:lnTo>
                  <a:pt x="1482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141800" y="3048120"/>
            <a:ext cx="324360" cy="419400"/>
          </a:xfrm>
          <a:custGeom>
            <a:avLst/>
            <a:gdLst/>
            <a:ahLst/>
            <a:rect l="0" t="0" r="r" b="b"/>
            <a:pathLst>
              <a:path w="901" h="1165">
                <a:moveTo>
                  <a:pt x="901" y="232"/>
                </a:moveTo>
                <a:lnTo>
                  <a:pt x="901" y="932"/>
                </a:lnTo>
                <a:lnTo>
                  <a:pt x="270" y="932"/>
                </a:lnTo>
                <a:lnTo>
                  <a:pt x="270" y="1165"/>
                </a:lnTo>
                <a:lnTo>
                  <a:pt x="0" y="583"/>
                </a:lnTo>
                <a:lnTo>
                  <a:pt x="270" y="0"/>
                </a:lnTo>
                <a:lnTo>
                  <a:pt x="270" y="232"/>
                </a:lnTo>
                <a:lnTo>
                  <a:pt x="901" y="23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849320" y="5451480"/>
            <a:ext cx="2397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BRC  range :   1, ..........,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384200" y="3537000"/>
            <a:ext cx="8340840" cy="1739880"/>
            <a:chOff x="1384200" y="3537000"/>
            <a:chExt cx="8340840" cy="1739880"/>
          </a:xfrm>
        </p:grpSpPr>
        <p:sp>
          <p:nvSpPr>
            <p:cNvPr id="782" name=""/>
            <p:cNvSpPr/>
            <p:nvPr/>
          </p:nvSpPr>
          <p:spPr>
            <a:xfrm>
              <a:off x="1389240" y="3537000"/>
              <a:ext cx="8335800" cy="1739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1397160" y="4933800"/>
              <a:ext cx="8297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1384200" y="4591080"/>
              <a:ext cx="833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1389240" y="4248000"/>
              <a:ext cx="833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1389240" y="3924360"/>
              <a:ext cx="833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8933040" y="3537000"/>
              <a:ext cx="0" cy="173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85773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65199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618984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58341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549108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51483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480528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4751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13244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7767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344664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30909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76084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4177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207504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17193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9041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56144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0576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86268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8234280" y="353700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 txBox="1"/>
          <p:nvPr/>
        </p:nvSpPr>
        <p:spPr>
          <a:xfrm>
            <a:off x="8996400" y="3511440"/>
            <a:ext cx="636480" cy="18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4127400" y="4951440"/>
            <a:ext cx="2611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t Reduction Co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165560" y="3497400"/>
            <a:ext cx="2970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761080" y="4167360"/>
            <a:ext cx="762480" cy="152640"/>
          </a:xfrm>
          <a:custGeom>
            <a:avLst/>
            <a:gdLst/>
            <a:ahLst/>
            <a:rect l="0" t="0" r="r" b="b"/>
            <a:pathLst>
              <a:path w="2118" h="424">
                <a:moveTo>
                  <a:pt x="0" y="140"/>
                </a:moveTo>
                <a:lnTo>
                  <a:pt x="0" y="282"/>
                </a:lnTo>
                <a:lnTo>
                  <a:pt x="1482" y="282"/>
                </a:lnTo>
                <a:lnTo>
                  <a:pt x="1482" y="424"/>
                </a:lnTo>
                <a:lnTo>
                  <a:pt x="2118" y="211"/>
                </a:lnTo>
                <a:lnTo>
                  <a:pt x="1482" y="0"/>
                </a:lnTo>
                <a:lnTo>
                  <a:pt x="1482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056040" y="161280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5113440" y="227016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770360" y="261288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827600" y="3511440"/>
            <a:ext cx="2970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5170320" y="3511440"/>
            <a:ext cx="2970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112920" y="3483000"/>
            <a:ext cx="297000" cy="14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2073240" y="1668600"/>
            <a:ext cx="6224760" cy="2724120"/>
            <a:chOff x="2073240" y="1668600"/>
            <a:chExt cx="6224760" cy="2724120"/>
          </a:xfrm>
        </p:grpSpPr>
        <p:grpSp>
          <p:nvGrpSpPr>
            <p:cNvPr id="820" name=""/>
            <p:cNvGrpSpPr/>
            <p:nvPr/>
          </p:nvGrpSpPr>
          <p:grpSpPr>
            <a:xfrm>
              <a:off x="2073240" y="2170080"/>
              <a:ext cx="2062440" cy="2081160"/>
              <a:chOff x="2073240" y="2170080"/>
              <a:chExt cx="2062440" cy="2081160"/>
            </a:xfrm>
          </p:grpSpPr>
          <p:sp>
            <p:nvSpPr>
              <p:cNvPr id="821" name=""/>
              <p:cNvSpPr/>
              <p:nvPr/>
            </p:nvSpPr>
            <p:spPr>
              <a:xfrm>
                <a:off x="2286000" y="2390760"/>
                <a:ext cx="1828800" cy="182880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286000" y="26193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86000" y="28479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86000" y="30765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0" y="33051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86000" y="35337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86000" y="37623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86000" y="39909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200400" y="239076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14600" y="239076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743200" y="239076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971800" y="239076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429000" y="239076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57600" y="239076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886200" y="239076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>
                <a:off x="2257560" y="2170080"/>
                <a:ext cx="18781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0   1   2    3   4    5   6    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2073240" y="2392200"/>
                <a:ext cx="268200" cy="185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 txBox="1"/>
              <p:nvPr/>
            </p:nvSpPr>
            <p:spPr>
              <a:xfrm>
                <a:off x="2219400" y="2389320"/>
                <a:ext cx="368280" cy="18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>
                <a:off x="2496960" y="2389320"/>
                <a:ext cx="254160" cy="18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2732040" y="2389320"/>
                <a:ext cx="254160" cy="18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 txBox="1"/>
              <p:nvPr/>
            </p:nvSpPr>
            <p:spPr>
              <a:xfrm>
                <a:off x="2973240" y="2389320"/>
                <a:ext cx="254160" cy="18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 txBox="1"/>
              <p:nvPr/>
            </p:nvSpPr>
            <p:spPr>
              <a:xfrm>
                <a:off x="3195720" y="2389320"/>
                <a:ext cx="254160" cy="18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3417840" y="2389320"/>
                <a:ext cx="254160" cy="18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>
                <a:off x="3652920" y="2389320"/>
                <a:ext cx="254160" cy="18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>
                <a:off x="3868560" y="2389320"/>
                <a:ext cx="254160" cy="184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292480" y="2403360"/>
                <a:ext cx="679680" cy="673560"/>
              </a:xfrm>
              <a:custGeom>
                <a:avLst/>
                <a:gdLst/>
                <a:ahLst/>
                <a:rect l="0" t="0" r="r" b="b"/>
                <a:pathLst>
                  <a:path fill="none" w="1888" h="1871">
                    <a:moveTo>
                      <a:pt x="1888" y="0"/>
                    </a:moveTo>
                    <a:lnTo>
                      <a:pt x="1888" y="600"/>
                    </a:lnTo>
                    <a:lnTo>
                      <a:pt x="1253" y="600"/>
                    </a:lnTo>
                    <a:lnTo>
                      <a:pt x="1253" y="1235"/>
                    </a:lnTo>
                    <a:lnTo>
                      <a:pt x="599" y="1235"/>
                    </a:lnTo>
                    <a:lnTo>
                      <a:pt x="599" y="1871"/>
                    </a:lnTo>
                    <a:lnTo>
                      <a:pt x="0" y="1871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292480" y="2397240"/>
                <a:ext cx="1359360" cy="1365480"/>
              </a:xfrm>
              <a:custGeom>
                <a:avLst/>
                <a:gdLst/>
                <a:ahLst/>
                <a:rect l="0" t="0" r="r" b="b"/>
                <a:pathLst>
                  <a:path fill="none" w="3776" h="3793">
                    <a:moveTo>
                      <a:pt x="3776" y="0"/>
                    </a:moveTo>
                    <a:lnTo>
                      <a:pt x="3776" y="599"/>
                    </a:lnTo>
                    <a:lnTo>
                      <a:pt x="3159" y="599"/>
                    </a:lnTo>
                    <a:lnTo>
                      <a:pt x="3159" y="1252"/>
                    </a:lnTo>
                    <a:lnTo>
                      <a:pt x="2505" y="1252"/>
                    </a:lnTo>
                    <a:lnTo>
                      <a:pt x="2505" y="1887"/>
                    </a:lnTo>
                    <a:lnTo>
                      <a:pt x="1870" y="1887"/>
                    </a:lnTo>
                    <a:lnTo>
                      <a:pt x="1870" y="2505"/>
                    </a:lnTo>
                    <a:lnTo>
                      <a:pt x="1235" y="2505"/>
                    </a:lnTo>
                    <a:lnTo>
                      <a:pt x="1235" y="3158"/>
                    </a:lnTo>
                    <a:lnTo>
                      <a:pt x="599" y="3158"/>
                    </a:lnTo>
                    <a:lnTo>
                      <a:pt x="599" y="3793"/>
                    </a:lnTo>
                    <a:lnTo>
                      <a:pt x="0" y="3793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743200" y="2847960"/>
                <a:ext cx="1362600" cy="1359360"/>
              </a:xfrm>
              <a:custGeom>
                <a:avLst/>
                <a:gdLst/>
                <a:ahLst/>
                <a:rect l="0" t="0" r="r" b="b"/>
                <a:pathLst>
                  <a:path fill="none" w="3785" h="3776">
                    <a:moveTo>
                      <a:pt x="3785" y="0"/>
                    </a:moveTo>
                    <a:lnTo>
                      <a:pt x="3154" y="0"/>
                    </a:lnTo>
                    <a:lnTo>
                      <a:pt x="3154" y="617"/>
                    </a:lnTo>
                    <a:lnTo>
                      <a:pt x="2523" y="617"/>
                    </a:lnTo>
                    <a:lnTo>
                      <a:pt x="2523" y="1253"/>
                    </a:lnTo>
                    <a:lnTo>
                      <a:pt x="1910" y="1253"/>
                    </a:lnTo>
                    <a:lnTo>
                      <a:pt x="1910" y="1888"/>
                    </a:lnTo>
                    <a:lnTo>
                      <a:pt x="1262" y="1888"/>
                    </a:lnTo>
                    <a:lnTo>
                      <a:pt x="1262" y="2540"/>
                    </a:lnTo>
                    <a:lnTo>
                      <a:pt x="648" y="2540"/>
                    </a:lnTo>
                    <a:lnTo>
                      <a:pt x="648" y="3176"/>
                    </a:lnTo>
                    <a:lnTo>
                      <a:pt x="0" y="3176"/>
                    </a:lnTo>
                    <a:lnTo>
                      <a:pt x="0" y="3776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6188040" y="2004840"/>
              <a:ext cx="2076480" cy="2387880"/>
              <a:chOff x="6188040" y="2004840"/>
              <a:chExt cx="2076480" cy="2387880"/>
            </a:xfrm>
          </p:grpSpPr>
          <p:sp>
            <p:nvSpPr>
              <p:cNvPr id="850" name=""/>
              <p:cNvSpPr/>
              <p:nvPr/>
            </p:nvSpPr>
            <p:spPr>
              <a:xfrm>
                <a:off x="6423120" y="2230560"/>
                <a:ext cx="1828800" cy="91440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51720" y="2230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108920" y="2230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566120" y="2230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794720" y="2230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023320" y="2230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880320" y="2230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423120" y="24591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423120" y="29163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37520" y="22305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23120" y="268776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 txBox="1"/>
              <p:nvPr/>
            </p:nvSpPr>
            <p:spPr>
              <a:xfrm>
                <a:off x="6361200" y="2235240"/>
                <a:ext cx="36828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 txBox="1"/>
              <p:nvPr/>
            </p:nvSpPr>
            <p:spPr>
              <a:xfrm>
                <a:off x="6632640" y="223524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 txBox="1"/>
              <p:nvPr/>
            </p:nvSpPr>
            <p:spPr>
              <a:xfrm>
                <a:off x="6861240" y="223524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 txBox="1"/>
              <p:nvPr/>
            </p:nvSpPr>
            <p:spPr>
              <a:xfrm>
                <a:off x="7102440" y="223524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 txBox="1"/>
              <p:nvPr/>
            </p:nvSpPr>
            <p:spPr>
              <a:xfrm>
                <a:off x="7340760" y="223524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 txBox="1"/>
              <p:nvPr/>
            </p:nvSpPr>
            <p:spPr>
              <a:xfrm>
                <a:off x="7788240" y="223524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 txBox="1"/>
              <p:nvPr/>
            </p:nvSpPr>
            <p:spPr>
              <a:xfrm>
                <a:off x="7562880" y="223524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 txBox="1"/>
              <p:nvPr/>
            </p:nvSpPr>
            <p:spPr>
              <a:xfrm>
                <a:off x="8007480" y="223524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9240" y="3448080"/>
                <a:ext cx="1828800" cy="91440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657840" y="34480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115040" y="34480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343640" y="34480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572240" y="34480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00840" y="34480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029440" y="3463920"/>
                <a:ext cx="0" cy="89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886440" y="34480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429240" y="367668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429240" y="390528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429240" y="413388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 txBox="1"/>
              <p:nvPr/>
            </p:nvSpPr>
            <p:spPr>
              <a:xfrm>
                <a:off x="6648480" y="345276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 txBox="1"/>
              <p:nvPr/>
            </p:nvSpPr>
            <p:spPr>
              <a:xfrm>
                <a:off x="6877080" y="345276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7105680" y="345276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 txBox="1"/>
              <p:nvPr/>
            </p:nvSpPr>
            <p:spPr>
              <a:xfrm>
                <a:off x="7324560" y="345276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>
                <a:off x="7559640" y="345276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7788240" y="345276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8010360" y="345276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6423120" y="3459240"/>
                <a:ext cx="25416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445080" y="3460680"/>
                <a:ext cx="444960" cy="444960"/>
              </a:xfrm>
              <a:custGeom>
                <a:avLst/>
                <a:gdLst/>
                <a:ahLst/>
                <a:rect l="0" t="0" r="r" b="b"/>
                <a:pathLst>
                  <a:path fill="none" w="1236" h="1236">
                    <a:moveTo>
                      <a:pt x="1236" y="0"/>
                    </a:moveTo>
                    <a:lnTo>
                      <a:pt x="1236" y="609"/>
                    </a:lnTo>
                    <a:lnTo>
                      <a:pt x="583" y="609"/>
                    </a:lnTo>
                    <a:lnTo>
                      <a:pt x="583" y="1236"/>
                    </a:lnTo>
                    <a:lnTo>
                      <a:pt x="0" y="1236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438960" y="2257560"/>
                <a:ext cx="438480" cy="432000"/>
              </a:xfrm>
              <a:custGeom>
                <a:avLst/>
                <a:gdLst/>
                <a:ahLst/>
                <a:rect l="0" t="0" r="r" b="b"/>
                <a:pathLst>
                  <a:path fill="none" w="1218" h="1200">
                    <a:moveTo>
                      <a:pt x="1218" y="0"/>
                    </a:moveTo>
                    <a:lnTo>
                      <a:pt x="1218" y="546"/>
                    </a:lnTo>
                    <a:lnTo>
                      <a:pt x="582" y="546"/>
                    </a:lnTo>
                    <a:lnTo>
                      <a:pt x="582" y="1200"/>
                    </a:lnTo>
                    <a:lnTo>
                      <a:pt x="0" y="120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648480" y="2251080"/>
                <a:ext cx="921240" cy="883080"/>
              </a:xfrm>
              <a:custGeom>
                <a:avLst/>
                <a:gdLst/>
                <a:ahLst/>
                <a:rect l="0" t="0" r="r" b="b"/>
                <a:pathLst>
                  <a:path fill="none" w="2559" h="2453">
                    <a:moveTo>
                      <a:pt x="2559" y="0"/>
                    </a:moveTo>
                    <a:lnTo>
                      <a:pt x="2559" y="577"/>
                    </a:lnTo>
                    <a:lnTo>
                      <a:pt x="1271" y="577"/>
                    </a:lnTo>
                    <a:lnTo>
                      <a:pt x="1271" y="1191"/>
                    </a:lnTo>
                    <a:lnTo>
                      <a:pt x="635" y="1191"/>
                    </a:lnTo>
                    <a:lnTo>
                      <a:pt x="635" y="1826"/>
                    </a:lnTo>
                    <a:lnTo>
                      <a:pt x="0" y="1822"/>
                    </a:lnTo>
                    <a:lnTo>
                      <a:pt x="0" y="2453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340760" y="2254320"/>
                <a:ext cx="686160" cy="879840"/>
              </a:xfrm>
              <a:custGeom>
                <a:avLst/>
                <a:gdLst/>
                <a:ahLst/>
                <a:rect l="0" t="0" r="r" b="b"/>
                <a:pathLst>
                  <a:path fill="none" w="1906" h="2444">
                    <a:moveTo>
                      <a:pt x="1906" y="0"/>
                    </a:moveTo>
                    <a:lnTo>
                      <a:pt x="1906" y="560"/>
                    </a:lnTo>
                    <a:lnTo>
                      <a:pt x="1253" y="560"/>
                    </a:lnTo>
                    <a:lnTo>
                      <a:pt x="1253" y="1204"/>
                    </a:lnTo>
                    <a:lnTo>
                      <a:pt x="635" y="1204"/>
                    </a:lnTo>
                    <a:lnTo>
                      <a:pt x="635" y="1836"/>
                    </a:lnTo>
                    <a:lnTo>
                      <a:pt x="0" y="1836"/>
                    </a:lnTo>
                    <a:lnTo>
                      <a:pt x="0" y="2444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654960" y="3460680"/>
                <a:ext cx="921240" cy="889200"/>
              </a:xfrm>
              <a:custGeom>
                <a:avLst/>
                <a:gdLst/>
                <a:ahLst/>
                <a:rect l="0" t="0" r="r" b="b"/>
                <a:pathLst>
                  <a:path fill="none" w="2559" h="2470">
                    <a:moveTo>
                      <a:pt x="2559" y="0"/>
                    </a:moveTo>
                    <a:lnTo>
                      <a:pt x="2559" y="590"/>
                    </a:lnTo>
                    <a:lnTo>
                      <a:pt x="1271" y="590"/>
                    </a:lnTo>
                    <a:lnTo>
                      <a:pt x="1271" y="1234"/>
                    </a:lnTo>
                    <a:lnTo>
                      <a:pt x="635" y="1234"/>
                    </a:lnTo>
                    <a:lnTo>
                      <a:pt x="635" y="1861"/>
                    </a:lnTo>
                    <a:lnTo>
                      <a:pt x="0" y="1861"/>
                    </a:lnTo>
                    <a:lnTo>
                      <a:pt x="0" y="2470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340760" y="3457440"/>
                <a:ext cx="692640" cy="892440"/>
              </a:xfrm>
              <a:custGeom>
                <a:avLst/>
                <a:gdLst/>
                <a:ahLst/>
                <a:rect l="0" t="0" r="r" b="b"/>
                <a:pathLst>
                  <a:path fill="none" w="1924" h="2479">
                    <a:moveTo>
                      <a:pt x="1924" y="0"/>
                    </a:moveTo>
                    <a:lnTo>
                      <a:pt x="1924" y="595"/>
                    </a:lnTo>
                    <a:lnTo>
                      <a:pt x="1271" y="595"/>
                    </a:lnTo>
                    <a:lnTo>
                      <a:pt x="1271" y="1239"/>
                    </a:lnTo>
                    <a:lnTo>
                      <a:pt x="653" y="1239"/>
                    </a:lnTo>
                    <a:lnTo>
                      <a:pt x="653" y="1866"/>
                    </a:lnTo>
                    <a:lnTo>
                      <a:pt x="0" y="1866"/>
                    </a:lnTo>
                    <a:lnTo>
                      <a:pt x="0" y="2479"/>
                    </a:lnTo>
                  </a:path>
                </a:pathLst>
              </a:custGeom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 txBox="1"/>
              <p:nvPr/>
            </p:nvSpPr>
            <p:spPr>
              <a:xfrm>
                <a:off x="6384960" y="2004840"/>
                <a:ext cx="18781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0   1   2    3   4    5   6    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 txBox="1"/>
              <p:nvPr/>
            </p:nvSpPr>
            <p:spPr>
              <a:xfrm>
                <a:off x="6188040" y="2214720"/>
                <a:ext cx="268200" cy="217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 txBox="1"/>
            <p:nvPr/>
          </p:nvSpPr>
          <p:spPr>
            <a:xfrm>
              <a:off x="2392200" y="1668600"/>
              <a:ext cx="1652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 - 8 DCT M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353280" y="1668600"/>
              <a:ext cx="1944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2 - 4 - 8 DCT M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"/>
          <p:cNvSpPr txBox="1"/>
          <p:nvPr/>
        </p:nvSpPr>
        <p:spPr>
          <a:xfrm>
            <a:off x="3629160" y="5996160"/>
            <a:ext cx="3029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CT Block Area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3159000" y="5991120"/>
            <a:ext cx="3970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Compressed Video Segmen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060560" y="727200"/>
            <a:ext cx="7343640" cy="5106960"/>
            <a:chOff x="1060560" y="727200"/>
            <a:chExt cx="7343640" cy="5106960"/>
          </a:xfrm>
        </p:grpSpPr>
        <p:sp>
          <p:nvSpPr>
            <p:cNvPr id="901" name=""/>
            <p:cNvSpPr txBox="1"/>
            <p:nvPr/>
          </p:nvSpPr>
          <p:spPr>
            <a:xfrm>
              <a:off x="3343320" y="5008680"/>
              <a:ext cx="29275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A  -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Block Stat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Q</a:t>
              </a:r>
              <a:r>
                <a:rPr b="0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N0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- Quantization Table 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ize  - 385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403360" y="1200240"/>
              <a:ext cx="5807160" cy="34545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custDash>
                <a:ds d="202857" sp="202857"/>
                <a:ds d="100000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400480" y="1200240"/>
              <a:ext cx="5810400" cy="6858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 txBox="1"/>
            <p:nvPr/>
          </p:nvSpPr>
          <p:spPr>
            <a:xfrm>
              <a:off x="3121200" y="1427040"/>
              <a:ext cx="5049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           AC           AC           AC           AC           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94000" y="3968640"/>
              <a:ext cx="5816520" cy="6922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94000" y="2546280"/>
              <a:ext cx="58356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  <a:ds d="100000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394000" y="3270240"/>
              <a:ext cx="58356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  <a:ds d="100000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730600" y="1212840"/>
              <a:ext cx="0" cy="345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657600" y="120024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84600" y="120024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86400" y="120024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400800" y="120024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302600" y="120024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94000" y="154296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94000" y="428616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2914560" y="1209600"/>
              <a:ext cx="4744080" cy="673560"/>
              <a:chOff x="2914560" y="1209600"/>
              <a:chExt cx="4744080" cy="673560"/>
            </a:xfrm>
          </p:grpSpPr>
          <p:sp>
            <p:nvSpPr>
              <p:cNvPr id="917" name=""/>
              <p:cNvSpPr/>
              <p:nvPr/>
            </p:nvSpPr>
            <p:spPr>
              <a:xfrm>
                <a:off x="2914560" y="120960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841920" y="120960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756320" y="120960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664240" y="120960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72160" y="120960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493040" y="120960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"/>
            <p:cNvSpPr txBox="1"/>
            <p:nvPr/>
          </p:nvSpPr>
          <p:spPr>
            <a:xfrm>
              <a:off x="3121200" y="4137120"/>
              <a:ext cx="49942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          AC           AC           AC           AC           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2909880" y="3983040"/>
              <a:ext cx="4744080" cy="673560"/>
              <a:chOff x="2909880" y="3983040"/>
              <a:chExt cx="4744080" cy="673560"/>
            </a:xfrm>
          </p:grpSpPr>
          <p:sp>
            <p:nvSpPr>
              <p:cNvPr id="925" name=""/>
              <p:cNvSpPr/>
              <p:nvPr/>
            </p:nvSpPr>
            <p:spPr>
              <a:xfrm>
                <a:off x="2909880" y="398304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36880" y="398304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751280" y="398304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659560" y="398304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567480" y="398304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488360" y="3983040"/>
                <a:ext cx="165600" cy="673560"/>
              </a:xfrm>
              <a:custGeom>
                <a:avLst/>
                <a:gdLst/>
                <a:ahLst/>
                <a:rect l="0" t="0" r="r" b="b"/>
                <a:pathLst>
                  <a:path fill="none" w="460" h="1871">
                    <a:moveTo>
                      <a:pt x="460" y="0"/>
                    </a:moveTo>
                    <a:lnTo>
                      <a:pt x="460" y="918"/>
                    </a:lnTo>
                    <a:lnTo>
                      <a:pt x="0" y="918"/>
                    </a:lnTo>
                    <a:lnTo>
                      <a:pt x="0" y="18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2682720" y="1265400"/>
              <a:ext cx="4884840" cy="610920"/>
              <a:chOff x="2682720" y="1265400"/>
              <a:chExt cx="4884840" cy="610920"/>
            </a:xfrm>
          </p:grpSpPr>
          <p:sp>
            <p:nvSpPr>
              <p:cNvPr id="932" name=""/>
              <p:cNvSpPr txBox="1"/>
              <p:nvPr/>
            </p:nvSpPr>
            <p:spPr>
              <a:xfrm>
                <a:off x="2682720" y="127476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 txBox="1"/>
              <p:nvPr/>
            </p:nvSpPr>
            <p:spPr>
              <a:xfrm>
                <a:off x="3606840" y="127476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>
                <a:off x="4521240" y="127476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 txBox="1"/>
              <p:nvPr/>
            </p:nvSpPr>
            <p:spPr>
              <a:xfrm>
                <a:off x="5435640" y="127476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 txBox="1"/>
              <p:nvPr/>
            </p:nvSpPr>
            <p:spPr>
              <a:xfrm>
                <a:off x="6340320" y="127476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 txBox="1"/>
              <p:nvPr/>
            </p:nvSpPr>
            <p:spPr>
              <a:xfrm>
                <a:off x="7254720" y="126540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682720" y="4037040"/>
              <a:ext cx="4884840" cy="610920"/>
              <a:chOff x="2682720" y="4037040"/>
              <a:chExt cx="4884840" cy="610920"/>
            </a:xfrm>
          </p:grpSpPr>
          <p:sp>
            <p:nvSpPr>
              <p:cNvPr id="939" name=""/>
              <p:cNvSpPr txBox="1"/>
              <p:nvPr/>
            </p:nvSpPr>
            <p:spPr>
              <a:xfrm>
                <a:off x="2682720" y="404640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 txBox="1"/>
              <p:nvPr/>
            </p:nvSpPr>
            <p:spPr>
              <a:xfrm>
                <a:off x="3606840" y="404640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4521240" y="404640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 txBox="1"/>
              <p:nvPr/>
            </p:nvSpPr>
            <p:spPr>
              <a:xfrm>
                <a:off x="5435640" y="404640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 txBox="1"/>
              <p:nvPr/>
            </p:nvSpPr>
            <p:spPr>
              <a:xfrm>
                <a:off x="6340320" y="404640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 txBox="1"/>
              <p:nvPr/>
            </p:nvSpPr>
            <p:spPr>
              <a:xfrm>
                <a:off x="7254720" y="4037040"/>
                <a:ext cx="31284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 txBox="1"/>
            <p:nvPr/>
          </p:nvSpPr>
          <p:spPr>
            <a:xfrm>
              <a:off x="2400480" y="1144440"/>
              <a:ext cx="343080" cy="77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2381400" y="3906720"/>
              <a:ext cx="343080" cy="77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1060560" y="1130400"/>
              <a:ext cx="1241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Macro B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1523880" y="1397160"/>
              <a:ext cx="304920" cy="326880"/>
              <a:chOff x="1523880" y="1397160"/>
              <a:chExt cx="304920" cy="326880"/>
            </a:xfrm>
          </p:grpSpPr>
          <p:sp>
            <p:nvSpPr>
              <p:cNvPr id="949" name=""/>
              <p:cNvSpPr/>
              <p:nvPr/>
            </p:nvSpPr>
            <p:spPr>
              <a:xfrm>
                <a:off x="1523880" y="1397160"/>
                <a:ext cx="304920" cy="3240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 txBox="1"/>
              <p:nvPr/>
            </p:nvSpPr>
            <p:spPr>
              <a:xfrm>
                <a:off x="1535040" y="1419120"/>
                <a:ext cx="282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1517760" y="2089080"/>
              <a:ext cx="304920" cy="327240"/>
              <a:chOff x="1517760" y="2089080"/>
              <a:chExt cx="304920" cy="327240"/>
            </a:xfrm>
          </p:grpSpPr>
          <p:sp>
            <p:nvSpPr>
              <p:cNvPr id="952" name=""/>
              <p:cNvSpPr/>
              <p:nvPr/>
            </p:nvSpPr>
            <p:spPr>
              <a:xfrm>
                <a:off x="1517760" y="2089080"/>
                <a:ext cx="304920" cy="3240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 txBox="1"/>
              <p:nvPr/>
            </p:nvSpPr>
            <p:spPr>
              <a:xfrm>
                <a:off x="1528920" y="2111400"/>
                <a:ext cx="282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1523880" y="2717640"/>
              <a:ext cx="304920" cy="327240"/>
              <a:chOff x="1523880" y="2717640"/>
              <a:chExt cx="304920" cy="327240"/>
            </a:xfrm>
          </p:grpSpPr>
          <p:sp>
            <p:nvSpPr>
              <p:cNvPr id="955" name=""/>
              <p:cNvSpPr/>
              <p:nvPr/>
            </p:nvSpPr>
            <p:spPr>
              <a:xfrm>
                <a:off x="1523880" y="2717640"/>
                <a:ext cx="304920" cy="3240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1535040" y="2739960"/>
                <a:ext cx="282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523880" y="3422520"/>
              <a:ext cx="304920" cy="327240"/>
              <a:chOff x="1523880" y="3422520"/>
              <a:chExt cx="304920" cy="327240"/>
            </a:xfrm>
          </p:grpSpPr>
          <p:sp>
            <p:nvSpPr>
              <p:cNvPr id="958" name=""/>
              <p:cNvSpPr/>
              <p:nvPr/>
            </p:nvSpPr>
            <p:spPr>
              <a:xfrm>
                <a:off x="1523880" y="3422520"/>
                <a:ext cx="304920" cy="3240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>
                <a:off x="1535040" y="3444840"/>
                <a:ext cx="282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523880" y="4133880"/>
              <a:ext cx="304920" cy="327240"/>
              <a:chOff x="1523880" y="4133880"/>
              <a:chExt cx="304920" cy="327240"/>
            </a:xfrm>
          </p:grpSpPr>
          <p:sp>
            <p:nvSpPr>
              <p:cNvPr id="961" name=""/>
              <p:cNvSpPr/>
              <p:nvPr/>
            </p:nvSpPr>
            <p:spPr>
              <a:xfrm>
                <a:off x="1523880" y="4133880"/>
                <a:ext cx="304920" cy="3240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 txBox="1"/>
              <p:nvPr/>
            </p:nvSpPr>
            <p:spPr>
              <a:xfrm>
                <a:off x="1535040" y="4156200"/>
                <a:ext cx="282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3" name=""/>
            <p:cNvSpPr txBox="1"/>
            <p:nvPr/>
          </p:nvSpPr>
          <p:spPr>
            <a:xfrm>
              <a:off x="2422440" y="955800"/>
              <a:ext cx="5981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5   6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-  -  -  -  -  -  -  -  -  -  -  -  -  -  -  -  -  -  -  -  -  -  -  -  -  -  -  -  -  -  -  -   </a:t>
              </a: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81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2397240" y="72720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y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81400" y="4724280"/>
              <a:ext cx="0" cy="324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210520" y="4711680"/>
              <a:ext cx="0" cy="324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94000" y="4965840"/>
              <a:ext cx="5807160" cy="61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077320" y="494028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0"/>
                  </a:moveTo>
                  <a:lnTo>
                    <a:pt x="0" y="186"/>
                  </a:lnTo>
                  <a:lnTo>
                    <a:pt x="371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4280" y="493380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371" y="0"/>
                  </a:moveTo>
                  <a:lnTo>
                    <a:pt x="371" y="186"/>
                  </a:lnTo>
                  <a:lnTo>
                    <a:pt x="0" y="88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4632480" y="47084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77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1179360" y="1141560"/>
            <a:ext cx="7064280" cy="4311360"/>
            <a:chOff x="1179360" y="1141560"/>
            <a:chExt cx="7064280" cy="4311360"/>
          </a:xfrm>
        </p:grpSpPr>
        <p:sp>
          <p:nvSpPr>
            <p:cNvPr id="972" name=""/>
            <p:cNvSpPr txBox="1"/>
            <p:nvPr/>
          </p:nvSpPr>
          <p:spPr>
            <a:xfrm>
              <a:off x="1787400" y="2031840"/>
              <a:ext cx="6350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1825560" y="353520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46480" y="2038320"/>
              <a:ext cx="5745240" cy="18097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2584440" y="2038320"/>
              <a:ext cx="464040" cy="1811520"/>
              <a:chOff x="2584440" y="2038320"/>
              <a:chExt cx="464040" cy="1811520"/>
            </a:xfrm>
          </p:grpSpPr>
          <p:sp>
            <p:nvSpPr>
              <p:cNvPr id="976" name=""/>
              <p:cNvSpPr/>
              <p:nvPr/>
            </p:nvSpPr>
            <p:spPr>
              <a:xfrm>
                <a:off x="2584440" y="2038320"/>
                <a:ext cx="464040" cy="1811520"/>
              </a:xfrm>
              <a:custGeom>
                <a:avLst/>
                <a:gdLst/>
                <a:ahLst/>
                <a:rect l="0" t="0" r="r" b="b"/>
                <a:pathLst>
                  <a:path w="1289" h="5032">
                    <a:moveTo>
                      <a:pt x="0" y="0"/>
                    </a:moveTo>
                    <a:lnTo>
                      <a:pt x="0" y="5032"/>
                    </a:lnTo>
                    <a:lnTo>
                      <a:pt x="636" y="5023"/>
                    </a:lnTo>
                    <a:lnTo>
                      <a:pt x="636" y="2482"/>
                    </a:lnTo>
                    <a:lnTo>
                      <a:pt x="1289" y="2482"/>
                    </a:lnTo>
                    <a:lnTo>
                      <a:pt x="12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09800" y="2038320"/>
                <a:ext cx="0" cy="89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 flipV="1">
              <a:off x="2346480" y="2940120"/>
              <a:ext cx="2347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>
              <a:off x="2320920" y="2138400"/>
              <a:ext cx="33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3489480" y="2038320"/>
              <a:ext cx="464040" cy="1811520"/>
              <a:chOff x="3489480" y="2038320"/>
              <a:chExt cx="464040" cy="1811520"/>
            </a:xfrm>
          </p:grpSpPr>
          <p:sp>
            <p:nvSpPr>
              <p:cNvPr id="981" name=""/>
              <p:cNvSpPr/>
              <p:nvPr/>
            </p:nvSpPr>
            <p:spPr>
              <a:xfrm>
                <a:off x="3489480" y="2038320"/>
                <a:ext cx="464040" cy="1811520"/>
              </a:xfrm>
              <a:custGeom>
                <a:avLst/>
                <a:gdLst/>
                <a:ahLst/>
                <a:rect l="0" t="0" r="r" b="b"/>
                <a:pathLst>
                  <a:path w="1289" h="5032">
                    <a:moveTo>
                      <a:pt x="0" y="0"/>
                    </a:moveTo>
                    <a:lnTo>
                      <a:pt x="0" y="5032"/>
                    </a:lnTo>
                    <a:lnTo>
                      <a:pt x="636" y="5023"/>
                    </a:lnTo>
                    <a:lnTo>
                      <a:pt x="636" y="2482"/>
                    </a:lnTo>
                    <a:lnTo>
                      <a:pt x="1289" y="2482"/>
                    </a:lnTo>
                    <a:lnTo>
                      <a:pt x="12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3714840" y="2038320"/>
                <a:ext cx="0" cy="89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"/>
            <p:cNvSpPr txBox="1"/>
            <p:nvPr/>
          </p:nvSpPr>
          <p:spPr>
            <a:xfrm>
              <a:off x="2308320" y="3021120"/>
              <a:ext cx="34308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 txBox="1"/>
            <p:nvPr/>
          </p:nvSpPr>
          <p:spPr>
            <a:xfrm>
              <a:off x="2544840" y="2575080"/>
              <a:ext cx="33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 txBox="1"/>
            <p:nvPr/>
          </p:nvSpPr>
          <p:spPr>
            <a:xfrm>
              <a:off x="3456000" y="2575080"/>
              <a:ext cx="33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4422600" y="2038320"/>
              <a:ext cx="464040" cy="1811520"/>
              <a:chOff x="4422600" y="2038320"/>
              <a:chExt cx="464040" cy="1811520"/>
            </a:xfrm>
          </p:grpSpPr>
          <p:sp>
            <p:nvSpPr>
              <p:cNvPr id="987" name=""/>
              <p:cNvSpPr/>
              <p:nvPr/>
            </p:nvSpPr>
            <p:spPr>
              <a:xfrm>
                <a:off x="4422600" y="2038320"/>
                <a:ext cx="464040" cy="1811520"/>
              </a:xfrm>
              <a:custGeom>
                <a:avLst/>
                <a:gdLst/>
                <a:ahLst/>
                <a:rect l="0" t="0" r="r" b="b"/>
                <a:pathLst>
                  <a:path w="1289" h="5032">
                    <a:moveTo>
                      <a:pt x="0" y="0"/>
                    </a:moveTo>
                    <a:lnTo>
                      <a:pt x="0" y="5032"/>
                    </a:lnTo>
                    <a:lnTo>
                      <a:pt x="636" y="5023"/>
                    </a:lnTo>
                    <a:lnTo>
                      <a:pt x="636" y="2482"/>
                    </a:lnTo>
                    <a:lnTo>
                      <a:pt x="1289" y="2482"/>
                    </a:lnTo>
                    <a:lnTo>
                      <a:pt x="12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648320" y="2038320"/>
                <a:ext cx="0" cy="89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9" name=""/>
            <p:cNvSpPr txBox="1"/>
            <p:nvPr/>
          </p:nvSpPr>
          <p:spPr>
            <a:xfrm>
              <a:off x="4367160" y="2575080"/>
              <a:ext cx="33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5337000" y="2038320"/>
              <a:ext cx="464040" cy="1811520"/>
              <a:chOff x="5337000" y="2038320"/>
              <a:chExt cx="464040" cy="1811520"/>
            </a:xfrm>
          </p:grpSpPr>
          <p:sp>
            <p:nvSpPr>
              <p:cNvPr id="991" name=""/>
              <p:cNvSpPr/>
              <p:nvPr/>
            </p:nvSpPr>
            <p:spPr>
              <a:xfrm>
                <a:off x="5337000" y="2038320"/>
                <a:ext cx="464040" cy="1811520"/>
              </a:xfrm>
              <a:custGeom>
                <a:avLst/>
                <a:gdLst/>
                <a:ahLst/>
                <a:rect l="0" t="0" r="r" b="b"/>
                <a:pathLst>
                  <a:path w="1289" h="5032">
                    <a:moveTo>
                      <a:pt x="0" y="0"/>
                    </a:moveTo>
                    <a:lnTo>
                      <a:pt x="0" y="5032"/>
                    </a:lnTo>
                    <a:lnTo>
                      <a:pt x="636" y="5023"/>
                    </a:lnTo>
                    <a:lnTo>
                      <a:pt x="636" y="2482"/>
                    </a:lnTo>
                    <a:lnTo>
                      <a:pt x="1289" y="2482"/>
                    </a:lnTo>
                    <a:lnTo>
                      <a:pt x="12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5562720" y="2038320"/>
                <a:ext cx="0" cy="89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251400" y="2038320"/>
              <a:ext cx="464040" cy="1811520"/>
              <a:chOff x="6251400" y="2038320"/>
              <a:chExt cx="464040" cy="1811520"/>
            </a:xfrm>
          </p:grpSpPr>
          <p:sp>
            <p:nvSpPr>
              <p:cNvPr id="994" name=""/>
              <p:cNvSpPr/>
              <p:nvPr/>
            </p:nvSpPr>
            <p:spPr>
              <a:xfrm>
                <a:off x="6251400" y="2038320"/>
                <a:ext cx="464040" cy="1811520"/>
              </a:xfrm>
              <a:custGeom>
                <a:avLst/>
                <a:gdLst/>
                <a:ahLst/>
                <a:rect l="0" t="0" r="r" b="b"/>
                <a:pathLst>
                  <a:path w="1289" h="5032">
                    <a:moveTo>
                      <a:pt x="0" y="0"/>
                    </a:moveTo>
                    <a:lnTo>
                      <a:pt x="0" y="5032"/>
                    </a:lnTo>
                    <a:lnTo>
                      <a:pt x="636" y="5023"/>
                    </a:lnTo>
                    <a:lnTo>
                      <a:pt x="636" y="2482"/>
                    </a:lnTo>
                    <a:lnTo>
                      <a:pt x="1289" y="2482"/>
                    </a:lnTo>
                    <a:lnTo>
                      <a:pt x="12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6477120" y="2038320"/>
                <a:ext cx="0" cy="89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 txBox="1"/>
            <p:nvPr/>
          </p:nvSpPr>
          <p:spPr>
            <a:xfrm>
              <a:off x="5281560" y="2575080"/>
              <a:ext cx="33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 txBox="1"/>
            <p:nvPr/>
          </p:nvSpPr>
          <p:spPr>
            <a:xfrm>
              <a:off x="6208560" y="2575080"/>
              <a:ext cx="33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8" name=""/>
            <p:cNvGrpSpPr/>
            <p:nvPr/>
          </p:nvGrpSpPr>
          <p:grpSpPr>
            <a:xfrm>
              <a:off x="7147080" y="2038320"/>
              <a:ext cx="464040" cy="1811520"/>
              <a:chOff x="7147080" y="2038320"/>
              <a:chExt cx="464040" cy="1811520"/>
            </a:xfrm>
          </p:grpSpPr>
          <p:sp>
            <p:nvSpPr>
              <p:cNvPr id="999" name=""/>
              <p:cNvSpPr/>
              <p:nvPr/>
            </p:nvSpPr>
            <p:spPr>
              <a:xfrm>
                <a:off x="7147080" y="2038320"/>
                <a:ext cx="464040" cy="1811520"/>
              </a:xfrm>
              <a:custGeom>
                <a:avLst/>
                <a:gdLst/>
                <a:ahLst/>
                <a:rect l="0" t="0" r="r" b="b"/>
                <a:pathLst>
                  <a:path w="1289" h="5032">
                    <a:moveTo>
                      <a:pt x="0" y="0"/>
                    </a:moveTo>
                    <a:lnTo>
                      <a:pt x="0" y="5032"/>
                    </a:lnTo>
                    <a:lnTo>
                      <a:pt x="635" y="5023"/>
                    </a:lnTo>
                    <a:lnTo>
                      <a:pt x="635" y="2482"/>
                    </a:lnTo>
                    <a:lnTo>
                      <a:pt x="1289" y="2482"/>
                    </a:lnTo>
                    <a:lnTo>
                      <a:pt x="12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7372440" y="2038320"/>
                <a:ext cx="0" cy="89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 txBox="1"/>
            <p:nvPr/>
          </p:nvSpPr>
          <p:spPr>
            <a:xfrm>
              <a:off x="7113600" y="2575080"/>
              <a:ext cx="33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 txBox="1"/>
            <p:nvPr/>
          </p:nvSpPr>
          <p:spPr>
            <a:xfrm>
              <a:off x="2943360" y="2922480"/>
              <a:ext cx="5049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           AC           AC           AC           AC           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81200" y="3895560"/>
              <a:ext cx="0" cy="4669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486240" y="3895560"/>
              <a:ext cx="0" cy="4669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419720" y="3895560"/>
              <a:ext cx="0" cy="4669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34120" y="3895560"/>
              <a:ext cx="0" cy="4669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48520" y="3895560"/>
              <a:ext cx="0" cy="4669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62920" y="3895560"/>
              <a:ext cx="0" cy="4669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096400" y="3895560"/>
              <a:ext cx="0" cy="4669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90920" y="4105440"/>
              <a:ext cx="9046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486240" y="4105440"/>
              <a:ext cx="9334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419720" y="4105440"/>
              <a:ext cx="9144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34120" y="4105440"/>
              <a:ext cx="9144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48520" y="4105440"/>
              <a:ext cx="9144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162920" y="4105440"/>
              <a:ext cx="9334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 txBox="1"/>
            <p:nvPr/>
          </p:nvSpPr>
          <p:spPr>
            <a:xfrm>
              <a:off x="2832120" y="3817800"/>
              <a:ext cx="433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Y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 txBox="1"/>
            <p:nvPr/>
          </p:nvSpPr>
          <p:spPr>
            <a:xfrm>
              <a:off x="3774960" y="3817800"/>
              <a:ext cx="433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Y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>
              <a:off x="4641840" y="3817800"/>
              <a:ext cx="433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Y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 txBox="1"/>
            <p:nvPr/>
          </p:nvSpPr>
          <p:spPr>
            <a:xfrm>
              <a:off x="5584680" y="3817800"/>
              <a:ext cx="433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Y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 txBox="1"/>
            <p:nvPr/>
          </p:nvSpPr>
          <p:spPr>
            <a:xfrm>
              <a:off x="6518160" y="3817800"/>
              <a:ext cx="477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C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7413480" y="3817800"/>
              <a:ext cx="477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C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 txBox="1"/>
            <p:nvPr/>
          </p:nvSpPr>
          <p:spPr>
            <a:xfrm>
              <a:off x="2546280" y="420840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4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 txBox="1"/>
            <p:nvPr/>
          </p:nvSpPr>
          <p:spPr>
            <a:xfrm>
              <a:off x="2298600" y="1751040"/>
              <a:ext cx="59450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5  6  7         21 22        34 35       48 49       62 63       72 73     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>
              <a:off x="4316400" y="1484280"/>
              <a:ext cx="2273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Byte position numb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>
              <a:off x="3456000" y="420840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4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 txBox="1"/>
            <p:nvPr/>
          </p:nvSpPr>
          <p:spPr>
            <a:xfrm>
              <a:off x="4394160" y="420840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4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5289480" y="420840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4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 txBox="1"/>
            <p:nvPr/>
          </p:nvSpPr>
          <p:spPr>
            <a:xfrm>
              <a:off x="6227640" y="420840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0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 txBox="1"/>
            <p:nvPr/>
          </p:nvSpPr>
          <p:spPr>
            <a:xfrm>
              <a:off x="7122960" y="420840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0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2479680" y="4627440"/>
              <a:ext cx="56815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TA  - Status of Compressed Macro Block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b4, ..., b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QNO - Table Quantization Number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b0, ... , b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ize  - 76 Compressed Data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2590920" y="125748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8067600" y="1257480"/>
              <a:ext cx="0" cy="380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590920" y="1447920"/>
              <a:ext cx="54673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 txBox="1"/>
            <p:nvPr/>
          </p:nvSpPr>
          <p:spPr>
            <a:xfrm>
              <a:off x="4784760" y="1141560"/>
              <a:ext cx="996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76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42880" y="3843360"/>
              <a:ext cx="3430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38200" y="2057400"/>
              <a:ext cx="3430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 txBox="1"/>
            <p:nvPr/>
          </p:nvSpPr>
          <p:spPr>
            <a:xfrm>
              <a:off x="1179360" y="2755800"/>
              <a:ext cx="771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 by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1614600" y="2057400"/>
              <a:ext cx="0" cy="685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23960" y="3086280"/>
              <a:ext cx="0" cy="7570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 txBox="1"/>
          <p:nvPr/>
        </p:nvSpPr>
        <p:spPr>
          <a:xfrm>
            <a:off x="3622680" y="6000840"/>
            <a:ext cx="29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Compressed Macr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1" name=""/>
          <p:cNvGrpSpPr/>
          <p:nvPr/>
        </p:nvGrpSpPr>
        <p:grpSpPr>
          <a:xfrm>
            <a:off x="1635120" y="1246320"/>
            <a:ext cx="6710400" cy="3927240"/>
            <a:chOff x="1635120" y="1246320"/>
            <a:chExt cx="6710400" cy="3927240"/>
          </a:xfrm>
        </p:grpSpPr>
        <p:sp>
          <p:nvSpPr>
            <p:cNvPr id="1042" name=""/>
            <p:cNvSpPr/>
            <p:nvPr/>
          </p:nvSpPr>
          <p:spPr>
            <a:xfrm>
              <a:off x="2967120" y="1486080"/>
              <a:ext cx="4468680" cy="8794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3151080" y="1486080"/>
              <a:ext cx="362160" cy="881280"/>
              <a:chOff x="3151080" y="1486080"/>
              <a:chExt cx="362160" cy="881280"/>
            </a:xfrm>
          </p:grpSpPr>
          <p:sp>
            <p:nvSpPr>
              <p:cNvPr id="1044" name=""/>
              <p:cNvSpPr/>
              <p:nvPr/>
            </p:nvSpPr>
            <p:spPr>
              <a:xfrm>
                <a:off x="3151080" y="1486080"/>
                <a:ext cx="362160" cy="881280"/>
              </a:xfrm>
              <a:custGeom>
                <a:avLst/>
                <a:gdLst/>
                <a:ahLst/>
                <a:rect l="0" t="0" r="r" b="b"/>
                <a:pathLst>
                  <a:path w="1006" h="2448">
                    <a:moveTo>
                      <a:pt x="0" y="0"/>
                    </a:moveTo>
                    <a:lnTo>
                      <a:pt x="0" y="2448"/>
                    </a:lnTo>
                    <a:lnTo>
                      <a:pt x="493" y="2443"/>
                    </a:lnTo>
                    <a:lnTo>
                      <a:pt x="493" y="1208"/>
                    </a:lnTo>
                    <a:lnTo>
                      <a:pt x="1006" y="1208"/>
                    </a:lnTo>
                    <a:lnTo>
                      <a:pt x="10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3327480" y="1486080"/>
                <a:ext cx="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 flipV="1">
              <a:off x="2967120" y="1924200"/>
              <a:ext cx="1825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2900520" y="151128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3855960" y="1486080"/>
              <a:ext cx="360720" cy="881280"/>
              <a:chOff x="3855960" y="1486080"/>
              <a:chExt cx="360720" cy="881280"/>
            </a:xfrm>
          </p:grpSpPr>
          <p:sp>
            <p:nvSpPr>
              <p:cNvPr id="1049" name=""/>
              <p:cNvSpPr/>
              <p:nvPr/>
            </p:nvSpPr>
            <p:spPr>
              <a:xfrm>
                <a:off x="3855960" y="1486080"/>
                <a:ext cx="360720" cy="881280"/>
              </a:xfrm>
              <a:custGeom>
                <a:avLst/>
                <a:gdLst/>
                <a:ahLst/>
                <a:rect l="0" t="0" r="r" b="b"/>
                <a:pathLst>
                  <a:path w="1002" h="2448">
                    <a:moveTo>
                      <a:pt x="0" y="0"/>
                    </a:moveTo>
                    <a:lnTo>
                      <a:pt x="0" y="2448"/>
                    </a:lnTo>
                    <a:lnTo>
                      <a:pt x="493" y="2443"/>
                    </a:lnTo>
                    <a:lnTo>
                      <a:pt x="493" y="1208"/>
                    </a:lnTo>
                    <a:lnTo>
                      <a:pt x="1002" y="1208"/>
                    </a:lnTo>
                    <a:lnTo>
                      <a:pt x="100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4030560" y="1486080"/>
                <a:ext cx="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1" name=""/>
            <p:cNvSpPr txBox="1"/>
            <p:nvPr/>
          </p:nvSpPr>
          <p:spPr>
            <a:xfrm>
              <a:off x="2894040" y="194004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 txBox="1"/>
            <p:nvPr/>
          </p:nvSpPr>
          <p:spPr>
            <a:xfrm>
              <a:off x="3073320" y="1517760"/>
              <a:ext cx="312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3782880" y="1517760"/>
              <a:ext cx="312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4581360" y="1486080"/>
              <a:ext cx="362160" cy="881280"/>
              <a:chOff x="4581360" y="1486080"/>
              <a:chExt cx="362160" cy="881280"/>
            </a:xfrm>
          </p:grpSpPr>
          <p:sp>
            <p:nvSpPr>
              <p:cNvPr id="1055" name=""/>
              <p:cNvSpPr/>
              <p:nvPr/>
            </p:nvSpPr>
            <p:spPr>
              <a:xfrm>
                <a:off x="4581360" y="1486080"/>
                <a:ext cx="362160" cy="881280"/>
              </a:xfrm>
              <a:custGeom>
                <a:avLst/>
                <a:gdLst/>
                <a:ahLst/>
                <a:rect l="0" t="0" r="r" b="b"/>
                <a:pathLst>
                  <a:path w="1006" h="2448">
                    <a:moveTo>
                      <a:pt x="0" y="0"/>
                    </a:moveTo>
                    <a:lnTo>
                      <a:pt x="0" y="2448"/>
                    </a:lnTo>
                    <a:lnTo>
                      <a:pt x="493" y="2443"/>
                    </a:lnTo>
                    <a:lnTo>
                      <a:pt x="493" y="1208"/>
                    </a:lnTo>
                    <a:lnTo>
                      <a:pt x="1006" y="1208"/>
                    </a:lnTo>
                    <a:lnTo>
                      <a:pt x="10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4757760" y="1486080"/>
                <a:ext cx="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7" name=""/>
            <p:cNvSpPr txBox="1"/>
            <p:nvPr/>
          </p:nvSpPr>
          <p:spPr>
            <a:xfrm>
              <a:off x="4503600" y="1530360"/>
              <a:ext cx="312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5292720" y="1486080"/>
              <a:ext cx="360720" cy="881280"/>
              <a:chOff x="5292720" y="1486080"/>
              <a:chExt cx="360720" cy="881280"/>
            </a:xfrm>
          </p:grpSpPr>
          <p:sp>
            <p:nvSpPr>
              <p:cNvPr id="1059" name=""/>
              <p:cNvSpPr/>
              <p:nvPr/>
            </p:nvSpPr>
            <p:spPr>
              <a:xfrm>
                <a:off x="5292720" y="1486080"/>
                <a:ext cx="360720" cy="881280"/>
              </a:xfrm>
              <a:custGeom>
                <a:avLst/>
                <a:gdLst/>
                <a:ahLst/>
                <a:rect l="0" t="0" r="r" b="b"/>
                <a:pathLst>
                  <a:path w="1002" h="2448">
                    <a:moveTo>
                      <a:pt x="0" y="0"/>
                    </a:moveTo>
                    <a:lnTo>
                      <a:pt x="0" y="2448"/>
                    </a:lnTo>
                    <a:lnTo>
                      <a:pt x="493" y="2443"/>
                    </a:lnTo>
                    <a:lnTo>
                      <a:pt x="493" y="1208"/>
                    </a:lnTo>
                    <a:lnTo>
                      <a:pt x="1002" y="1208"/>
                    </a:lnTo>
                    <a:lnTo>
                      <a:pt x="100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5467320" y="1486080"/>
                <a:ext cx="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004080" y="1486080"/>
              <a:ext cx="360720" cy="881280"/>
              <a:chOff x="6004080" y="1486080"/>
              <a:chExt cx="360720" cy="881280"/>
            </a:xfrm>
          </p:grpSpPr>
          <p:sp>
            <p:nvSpPr>
              <p:cNvPr id="1062" name=""/>
              <p:cNvSpPr/>
              <p:nvPr/>
            </p:nvSpPr>
            <p:spPr>
              <a:xfrm>
                <a:off x="6004080" y="1486080"/>
                <a:ext cx="360720" cy="881280"/>
              </a:xfrm>
              <a:custGeom>
                <a:avLst/>
                <a:gdLst/>
                <a:ahLst/>
                <a:rect l="0" t="0" r="r" b="b"/>
                <a:pathLst>
                  <a:path w="1002" h="2448">
                    <a:moveTo>
                      <a:pt x="0" y="0"/>
                    </a:moveTo>
                    <a:lnTo>
                      <a:pt x="0" y="2448"/>
                    </a:lnTo>
                    <a:lnTo>
                      <a:pt x="493" y="2443"/>
                    </a:lnTo>
                    <a:lnTo>
                      <a:pt x="493" y="1208"/>
                    </a:lnTo>
                    <a:lnTo>
                      <a:pt x="1002" y="1208"/>
                    </a:lnTo>
                    <a:lnTo>
                      <a:pt x="100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6180120" y="1486080"/>
                <a:ext cx="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 txBox="1"/>
            <p:nvPr/>
          </p:nvSpPr>
          <p:spPr>
            <a:xfrm>
              <a:off x="5221440" y="1530360"/>
              <a:ext cx="312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5923080" y="1530360"/>
              <a:ext cx="312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647800" y="3295800"/>
              <a:ext cx="1391040" cy="1829160"/>
            </a:xfrm>
            <a:custGeom>
              <a:avLst/>
              <a:gdLst/>
              <a:ahLst/>
              <a:rect l="0" t="0" r="r" b="b"/>
              <a:pathLst>
                <a:path w="3864" h="5081">
                  <a:moveTo>
                    <a:pt x="864" y="0"/>
                  </a:moveTo>
                  <a:lnTo>
                    <a:pt x="3864" y="0"/>
                  </a:lnTo>
                  <a:lnTo>
                    <a:pt x="3864" y="5081"/>
                  </a:lnTo>
                  <a:lnTo>
                    <a:pt x="0" y="5081"/>
                  </a:lnTo>
                  <a:lnTo>
                    <a:pt x="864" y="0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6700680" y="1486080"/>
              <a:ext cx="360720" cy="881280"/>
              <a:chOff x="6700680" y="1486080"/>
              <a:chExt cx="360720" cy="881280"/>
            </a:xfrm>
          </p:grpSpPr>
          <p:sp>
            <p:nvSpPr>
              <p:cNvPr id="1068" name=""/>
              <p:cNvSpPr/>
              <p:nvPr/>
            </p:nvSpPr>
            <p:spPr>
              <a:xfrm>
                <a:off x="6700680" y="1486080"/>
                <a:ext cx="360720" cy="881280"/>
              </a:xfrm>
              <a:custGeom>
                <a:avLst/>
                <a:gdLst/>
                <a:ahLst/>
                <a:rect l="0" t="0" r="r" b="b"/>
                <a:pathLst>
                  <a:path w="1002" h="2448">
                    <a:moveTo>
                      <a:pt x="0" y="0"/>
                    </a:moveTo>
                    <a:lnTo>
                      <a:pt x="0" y="2448"/>
                    </a:lnTo>
                    <a:lnTo>
                      <a:pt x="493" y="2443"/>
                    </a:lnTo>
                    <a:lnTo>
                      <a:pt x="493" y="1208"/>
                    </a:lnTo>
                    <a:lnTo>
                      <a:pt x="1002" y="1208"/>
                    </a:lnTo>
                    <a:lnTo>
                      <a:pt x="100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6877080" y="1486080"/>
                <a:ext cx="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0" name=""/>
            <p:cNvSpPr txBox="1"/>
            <p:nvPr/>
          </p:nvSpPr>
          <p:spPr>
            <a:xfrm>
              <a:off x="6634080" y="1530360"/>
              <a:ext cx="31284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00200" y="4143240"/>
              <a:ext cx="585720" cy="95724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>
              <a:off x="3409920" y="1916280"/>
              <a:ext cx="3997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         AC         AC         AC          AC         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 txBox="1"/>
            <p:nvPr/>
          </p:nvSpPr>
          <p:spPr>
            <a:xfrm>
              <a:off x="3324240" y="1246320"/>
              <a:ext cx="401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Y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 txBox="1"/>
            <p:nvPr/>
          </p:nvSpPr>
          <p:spPr>
            <a:xfrm>
              <a:off x="4057560" y="1246320"/>
              <a:ext cx="401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Y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>
              <a:off x="4732200" y="1246320"/>
              <a:ext cx="401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Y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 txBox="1"/>
            <p:nvPr/>
          </p:nvSpPr>
          <p:spPr>
            <a:xfrm>
              <a:off x="5464080" y="1246320"/>
              <a:ext cx="4017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Y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6191280" y="1246320"/>
              <a:ext cx="441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 txBox="1"/>
            <p:nvPr/>
          </p:nvSpPr>
          <p:spPr>
            <a:xfrm>
              <a:off x="6888240" y="1246320"/>
              <a:ext cx="441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73400" y="3292560"/>
              <a:ext cx="686160" cy="1829160"/>
            </a:xfrm>
            <a:custGeom>
              <a:avLst/>
              <a:gdLst/>
              <a:ahLst/>
              <a:rect l="0" t="0" r="r" b="b"/>
              <a:pathLst>
                <a:path w="1906" h="5081">
                  <a:moveTo>
                    <a:pt x="0" y="5081"/>
                  </a:moveTo>
                  <a:lnTo>
                    <a:pt x="0" y="0"/>
                  </a:lnTo>
                  <a:lnTo>
                    <a:pt x="1906" y="0"/>
                  </a:lnTo>
                  <a:lnTo>
                    <a:pt x="1906" y="2541"/>
                  </a:lnTo>
                  <a:lnTo>
                    <a:pt x="1041" y="2541"/>
                  </a:lnTo>
                  <a:lnTo>
                    <a:pt x="1041" y="5081"/>
                  </a:lnTo>
                  <a:lnTo>
                    <a:pt x="0" y="5081"/>
                  </a:lnTo>
                  <a:close/>
                </a:path>
              </a:pathLst>
            </a:custGeom>
            <a:solidFill>
              <a:srgbClr val="60c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 txBox="1"/>
            <p:nvPr/>
          </p:nvSpPr>
          <p:spPr>
            <a:xfrm>
              <a:off x="1635120" y="3255840"/>
              <a:ext cx="6350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1662120" y="4836960"/>
              <a:ext cx="590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>
              <a:off x="2262240" y="3267000"/>
              <a:ext cx="846000" cy="188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7  b8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6  m0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5  c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4  c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 txBox="1"/>
            <p:nvPr/>
          </p:nvSpPr>
          <p:spPr>
            <a:xfrm>
              <a:off x="4322880" y="3675240"/>
              <a:ext cx="4022640" cy="10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DC coefficient: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b0, .........b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DCT mode bit: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 class bits: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c0, c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EOB-End of Block: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01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3009960" y="3618000"/>
              <a:ext cx="7254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eff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2286000" y="2451240"/>
              <a:ext cx="851040" cy="711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48040" y="2457360"/>
              <a:ext cx="190440" cy="704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733920" y="4200480"/>
              <a:ext cx="305280" cy="924120"/>
            </a:xfrm>
            <a:custGeom>
              <a:avLst/>
              <a:gdLst/>
              <a:ahLst/>
              <a:rect l="0" t="0" r="r" b="b"/>
              <a:pathLst>
                <a:path fill="none" w="848" h="2567">
                  <a:moveTo>
                    <a:pt x="848" y="0"/>
                  </a:moveTo>
                  <a:lnTo>
                    <a:pt x="0" y="0"/>
                  </a:lnTo>
                  <a:lnTo>
                    <a:pt x="0" y="25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 txBox="1"/>
            <p:nvPr/>
          </p:nvSpPr>
          <p:spPr>
            <a:xfrm>
              <a:off x="3745080" y="4194000"/>
              <a:ext cx="28260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 txBox="1"/>
          <p:nvPr/>
        </p:nvSpPr>
        <p:spPr>
          <a:xfrm>
            <a:off x="2327400" y="5996160"/>
            <a:ext cx="5634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etail of Compressed DCT Block in a Macr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324240" y="6000840"/>
            <a:ext cx="3638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Compression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467160" y="1579680"/>
            <a:ext cx="3402000" cy="3378240"/>
            <a:chOff x="3467160" y="1579680"/>
            <a:chExt cx="3402000" cy="3378240"/>
          </a:xfrm>
        </p:grpSpPr>
        <p:sp>
          <p:nvSpPr>
            <p:cNvPr id="47" name=""/>
            <p:cNvSpPr txBox="1"/>
            <p:nvPr/>
          </p:nvSpPr>
          <p:spPr>
            <a:xfrm>
              <a:off x="3807000" y="1579680"/>
              <a:ext cx="3062160" cy="3378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asic Spec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C Data Shuffl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C Compre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C Bus 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C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467160" y="1697040"/>
              <a:ext cx="114480" cy="3049920"/>
              <a:chOff x="3467160" y="1697040"/>
              <a:chExt cx="114480" cy="3049920"/>
            </a:xfrm>
          </p:grpSpPr>
          <p:sp>
            <p:nvSpPr>
              <p:cNvPr id="49" name=""/>
              <p:cNvSpPr/>
              <p:nvPr/>
            </p:nvSpPr>
            <p:spPr>
              <a:xfrm>
                <a:off x="3467160" y="169704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67160" y="244620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67160" y="318780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467160" y="389880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467160" y="463248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2313000" y="5991120"/>
            <a:ext cx="574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asic Block Diagram of DVC Compress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358920" y="1409760"/>
            <a:ext cx="9553680" cy="4025880"/>
            <a:chOff x="358920" y="1409760"/>
            <a:chExt cx="9553680" cy="4025880"/>
          </a:xfrm>
        </p:grpSpPr>
        <p:grpSp>
          <p:nvGrpSpPr>
            <p:cNvPr id="1092" name=""/>
            <p:cNvGrpSpPr/>
            <p:nvPr/>
          </p:nvGrpSpPr>
          <p:grpSpPr>
            <a:xfrm>
              <a:off x="358920" y="2228760"/>
              <a:ext cx="3001680" cy="2536920"/>
              <a:chOff x="358920" y="2228760"/>
              <a:chExt cx="3001680" cy="2536920"/>
            </a:xfrm>
          </p:grpSpPr>
          <p:sp>
            <p:nvSpPr>
              <p:cNvPr id="1093" name=""/>
              <p:cNvSpPr/>
              <p:nvPr/>
            </p:nvSpPr>
            <p:spPr>
              <a:xfrm>
                <a:off x="361800" y="2228760"/>
                <a:ext cx="2685960" cy="144792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0680" y="29005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30080" y="287028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868320" y="258588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ae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 txBox="1"/>
              <p:nvPr/>
            </p:nvSpPr>
            <p:spPr>
              <a:xfrm>
                <a:off x="873000" y="2631960"/>
                <a:ext cx="85572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ro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l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019240" y="3719520"/>
                <a:ext cx="1028880" cy="1004760"/>
              </a:xfrm>
              <a:prstGeom prst="rect">
                <a:avLst/>
              </a:prstGeom>
              <a:gradFill rotWithShape="0">
                <a:gsLst>
                  <a:gs pos="0">
                    <a:srgbClr val="fc0128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2543040" y="3168720"/>
                <a:ext cx="0" cy="73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506680" y="318924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0" y="371"/>
                    </a:moveTo>
                    <a:lnTo>
                      <a:pt x="186" y="371"/>
                    </a:lnTo>
                    <a:lnTo>
                      <a:pt x="88" y="0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125800" y="258444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ae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 txBox="1"/>
              <p:nvPr/>
            </p:nvSpPr>
            <p:spPr>
              <a:xfrm>
                <a:off x="2063880" y="2647800"/>
                <a:ext cx="95400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uffl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119320" y="386388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128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>
                <a:off x="2128680" y="3908520"/>
                <a:ext cx="8650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uff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mo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727280" y="28987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989000" y="286560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979720" y="28926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 txBox="1"/>
              <p:nvPr/>
            </p:nvSpPr>
            <p:spPr>
              <a:xfrm>
                <a:off x="1673280" y="2617920"/>
                <a:ext cx="53964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4:1: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Y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R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 txBox="1"/>
              <p:nvPr/>
            </p:nvSpPr>
            <p:spPr>
              <a:xfrm>
                <a:off x="2152800" y="4460760"/>
                <a:ext cx="8017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&lt; 5Mbi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>
                <a:off x="358920" y="2631960"/>
                <a:ext cx="53964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4:2: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Y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R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3098880" y="1409760"/>
              <a:ext cx="6813720" cy="4025880"/>
              <a:chOff x="3098880" y="1409760"/>
              <a:chExt cx="6813720" cy="4025880"/>
            </a:xfrm>
          </p:grpSpPr>
          <p:sp>
            <p:nvSpPr>
              <p:cNvPr id="1112" name=""/>
              <p:cNvSpPr/>
              <p:nvPr/>
            </p:nvSpPr>
            <p:spPr>
              <a:xfrm>
                <a:off x="3098880" y="1409760"/>
                <a:ext cx="6813720" cy="4025880"/>
              </a:xfrm>
              <a:prstGeom prst="rect">
                <a:avLst/>
              </a:prstGeom>
              <a:gradFill rotWithShape="0">
                <a:gsLst>
                  <a:gs pos="0">
                    <a:srgbClr val="a2c1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241800" y="285912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54440" y="258768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578480" y="2714760"/>
                <a:ext cx="10429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395520" y="258444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 txBox="1"/>
              <p:nvPr/>
            </p:nvSpPr>
            <p:spPr>
              <a:xfrm>
                <a:off x="3259080" y="2616120"/>
                <a:ext cx="116676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Weight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8" name=""/>
              <p:cNvGrpSpPr/>
              <p:nvPr/>
            </p:nvGrpSpPr>
            <p:grpSpPr>
              <a:xfrm>
                <a:off x="3324240" y="1542960"/>
                <a:ext cx="1054080" cy="635040"/>
                <a:chOff x="3324240" y="1542960"/>
                <a:chExt cx="1054080" cy="63504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3416400" y="1550880"/>
                  <a:ext cx="857160" cy="60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618ffd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 txBox="1"/>
                <p:nvPr/>
              </p:nvSpPr>
              <p:spPr>
                <a:xfrm>
                  <a:off x="3324240" y="1542960"/>
                  <a:ext cx="1054080" cy="63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5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trafram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5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o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5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tec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1" name=""/>
              <p:cNvSpPr/>
              <p:nvPr/>
            </p:nvSpPr>
            <p:spPr>
              <a:xfrm>
                <a:off x="3838680" y="2157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01960" y="244476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186" y="0"/>
                    </a:moveTo>
                    <a:lnTo>
                      <a:pt x="0" y="0"/>
                    </a:lnTo>
                    <a:lnTo>
                      <a:pt x="98" y="37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3" name=""/>
              <p:cNvGrpSpPr/>
              <p:nvPr/>
            </p:nvGrpSpPr>
            <p:grpSpPr>
              <a:xfrm>
                <a:off x="6351480" y="4149720"/>
                <a:ext cx="66960" cy="380880"/>
                <a:chOff x="6351480" y="4149720"/>
                <a:chExt cx="66960" cy="380880"/>
              </a:xfrm>
            </p:grpSpPr>
            <p:sp>
              <p:nvSpPr>
                <p:cNvPr id="1124" name=""/>
                <p:cNvSpPr/>
                <p:nvPr/>
              </p:nvSpPr>
              <p:spPr>
                <a:xfrm flipV="1">
                  <a:off x="6381720" y="41497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6351480" y="4157640"/>
                  <a:ext cx="66960" cy="133560"/>
                </a:xfrm>
                <a:custGeom>
                  <a:avLst/>
                  <a:gdLst/>
                  <a:ahLst/>
                  <a:rect l="0" t="0" r="r" b="b"/>
                  <a:pathLst>
                    <a:path w="186" h="371">
                      <a:moveTo>
                        <a:pt x="0" y="371"/>
                      </a:moveTo>
                      <a:lnTo>
                        <a:pt x="186" y="371"/>
                      </a:lnTo>
                      <a:lnTo>
                        <a:pt x="88" y="0"/>
                      </a:lnTo>
                      <a:lnTo>
                        <a:pt x="0" y="3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6" name=""/>
              <p:cNvGrpSpPr/>
              <p:nvPr/>
            </p:nvGrpSpPr>
            <p:grpSpPr>
              <a:xfrm>
                <a:off x="4245120" y="2859120"/>
                <a:ext cx="392040" cy="66960"/>
                <a:chOff x="4245120" y="2859120"/>
                <a:chExt cx="392040" cy="6696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4245120" y="289548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503600" y="2859120"/>
                  <a:ext cx="133560" cy="66960"/>
                </a:xfrm>
                <a:custGeom>
                  <a:avLst/>
                  <a:gdLst/>
                  <a:ahLst/>
                  <a:rect l="0" t="0" r="r" b="b"/>
                  <a:pathLst>
                    <a:path w="371" h="186">
                      <a:moveTo>
                        <a:pt x="0" y="0"/>
                      </a:moveTo>
                      <a:lnTo>
                        <a:pt x="0" y="186"/>
                      </a:lnTo>
                      <a:lnTo>
                        <a:pt x="371" y="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9" name=""/>
              <p:cNvGrpSpPr/>
              <p:nvPr/>
            </p:nvGrpSpPr>
            <p:grpSpPr>
              <a:xfrm>
                <a:off x="6308640" y="3173400"/>
                <a:ext cx="66960" cy="392040"/>
                <a:chOff x="6308640" y="3173400"/>
                <a:chExt cx="66960" cy="392040"/>
              </a:xfrm>
            </p:grpSpPr>
            <p:sp>
              <p:nvSpPr>
                <p:cNvPr id="1130" name=""/>
                <p:cNvSpPr/>
                <p:nvPr/>
              </p:nvSpPr>
              <p:spPr>
                <a:xfrm flipV="1">
                  <a:off x="6345360" y="318456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6308640" y="3173400"/>
                  <a:ext cx="66960" cy="133560"/>
                </a:xfrm>
                <a:custGeom>
                  <a:avLst/>
                  <a:gdLst/>
                  <a:ahLst/>
                  <a:rect l="0" t="0" r="r" b="b"/>
                  <a:pathLst>
                    <a:path w="186" h="371">
                      <a:moveTo>
                        <a:pt x="0" y="371"/>
                      </a:moveTo>
                      <a:lnTo>
                        <a:pt x="186" y="371"/>
                      </a:lnTo>
                      <a:lnTo>
                        <a:pt x="88" y="0"/>
                      </a:lnTo>
                      <a:lnTo>
                        <a:pt x="0" y="3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2" name=""/>
              <p:cNvSpPr/>
              <p:nvPr/>
            </p:nvSpPr>
            <p:spPr>
              <a:xfrm>
                <a:off x="5935680" y="257652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 txBox="1"/>
              <p:nvPr/>
            </p:nvSpPr>
            <p:spPr>
              <a:xfrm>
                <a:off x="5934240" y="2738520"/>
                <a:ext cx="8650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4608360" y="4535640"/>
                <a:ext cx="974880" cy="668160"/>
                <a:chOff x="4608360" y="4535640"/>
                <a:chExt cx="974880" cy="66816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4660920" y="4546440"/>
                  <a:ext cx="857160" cy="60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618ffd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 txBox="1"/>
                <p:nvPr/>
              </p:nvSpPr>
              <p:spPr>
                <a:xfrm>
                  <a:off x="4608360" y="4535640"/>
                  <a:ext cx="974880" cy="6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9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as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elec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7" name=""/>
              <p:cNvSpPr/>
              <p:nvPr/>
            </p:nvSpPr>
            <p:spPr>
              <a:xfrm>
                <a:off x="5942160" y="355608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 txBox="1"/>
              <p:nvPr/>
            </p:nvSpPr>
            <p:spPr>
              <a:xfrm>
                <a:off x="6006960" y="3578400"/>
                <a:ext cx="747720" cy="62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7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e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9" name=""/>
              <p:cNvGrpSpPr/>
              <p:nvPr/>
            </p:nvGrpSpPr>
            <p:grpSpPr>
              <a:xfrm>
                <a:off x="6807240" y="2855880"/>
                <a:ext cx="401760" cy="66960"/>
                <a:chOff x="6807240" y="2855880"/>
                <a:chExt cx="401760" cy="669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6807240" y="289548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075440" y="2855880"/>
                  <a:ext cx="133560" cy="66960"/>
                </a:xfrm>
                <a:custGeom>
                  <a:avLst/>
                  <a:gdLst/>
                  <a:ahLst/>
                  <a:rect l="0" t="0" r="r" b="b"/>
                  <a:pathLst>
                    <a:path w="371" h="186">
                      <a:moveTo>
                        <a:pt x="0" y="0"/>
                      </a:moveTo>
                      <a:lnTo>
                        <a:pt x="0" y="186"/>
                      </a:lnTo>
                      <a:lnTo>
                        <a:pt x="371" y="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>
                <a:off x="7221600" y="257976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 txBox="1"/>
              <p:nvPr/>
            </p:nvSpPr>
            <p:spPr>
              <a:xfrm>
                <a:off x="7369200" y="2739960"/>
                <a:ext cx="539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L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4" name=""/>
              <p:cNvGrpSpPr/>
              <p:nvPr/>
            </p:nvGrpSpPr>
            <p:grpSpPr>
              <a:xfrm>
                <a:off x="3132000" y="1846440"/>
                <a:ext cx="290880" cy="1036800"/>
                <a:chOff x="3132000" y="1846440"/>
                <a:chExt cx="290880" cy="103680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3132000" y="1884240"/>
                  <a:ext cx="287640" cy="999000"/>
                </a:xfrm>
                <a:custGeom>
                  <a:avLst/>
                  <a:gdLst/>
                  <a:ahLst/>
                  <a:rect l="0" t="0" r="r" b="b"/>
                  <a:pathLst>
                    <a:path fill="none" w="799" h="2775">
                      <a:moveTo>
                        <a:pt x="0" y="2775"/>
                      </a:moveTo>
                      <a:lnTo>
                        <a:pt x="4" y="8"/>
                      </a:lnTo>
                      <a:lnTo>
                        <a:pt x="799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3289320" y="1846440"/>
                  <a:ext cx="133560" cy="68760"/>
                </a:xfrm>
                <a:custGeom>
                  <a:avLst/>
                  <a:gdLst/>
                  <a:ahLst/>
                  <a:rect l="0" t="0" r="r" b="b"/>
                  <a:pathLst>
                    <a:path w="371" h="191">
                      <a:moveTo>
                        <a:pt x="0" y="0"/>
                      </a:moveTo>
                      <a:lnTo>
                        <a:pt x="0" y="191"/>
                      </a:lnTo>
                      <a:lnTo>
                        <a:pt x="371" y="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7" name=""/>
              <p:cNvSpPr/>
              <p:nvPr/>
            </p:nvSpPr>
            <p:spPr>
              <a:xfrm>
                <a:off x="5519880" y="28926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794200" y="285912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186"/>
                    </a:moveTo>
                    <a:lnTo>
                      <a:pt x="0" y="0"/>
                    </a:lnTo>
                    <a:lnTo>
                      <a:pt x="371" y="9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491680" y="258588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 txBox="1"/>
              <p:nvPr/>
            </p:nvSpPr>
            <p:spPr>
              <a:xfrm>
                <a:off x="8434440" y="2619360"/>
                <a:ext cx="96516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a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8077320" y="2855880"/>
                <a:ext cx="401760" cy="66960"/>
                <a:chOff x="8077320" y="2855880"/>
                <a:chExt cx="401760" cy="6696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8077320" y="289548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8345520" y="2855880"/>
                  <a:ext cx="133560" cy="66960"/>
                </a:xfrm>
                <a:custGeom>
                  <a:avLst/>
                  <a:gdLst/>
                  <a:ahLst/>
                  <a:rect l="0" t="0" r="r" b="b"/>
                  <a:pathLst>
                    <a:path w="371" h="186">
                      <a:moveTo>
                        <a:pt x="0" y="0"/>
                      </a:moveTo>
                      <a:lnTo>
                        <a:pt x="0" y="186"/>
                      </a:lnTo>
                      <a:lnTo>
                        <a:pt x="371" y="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9347040" y="2867040"/>
                <a:ext cx="398880" cy="66960"/>
                <a:chOff x="9347040" y="2867040"/>
                <a:chExt cx="398880" cy="6696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9347040" y="290052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9612360" y="2867040"/>
                  <a:ext cx="133560" cy="66960"/>
                </a:xfrm>
                <a:custGeom>
                  <a:avLst/>
                  <a:gdLst/>
                  <a:ahLst/>
                  <a:rect l="0" t="0" r="r" b="b"/>
                  <a:pathLst>
                    <a:path w="371" h="186">
                      <a:moveTo>
                        <a:pt x="0" y="0"/>
                      </a:moveTo>
                      <a:lnTo>
                        <a:pt x="0" y="186"/>
                      </a:lnTo>
                      <a:lnTo>
                        <a:pt x="371" y="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"/>
              <p:cNvSpPr txBox="1"/>
              <p:nvPr/>
            </p:nvSpPr>
            <p:spPr>
              <a:xfrm>
                <a:off x="5130720" y="5124600"/>
                <a:ext cx="1182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lass 0,---,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6315120" y="3222720"/>
                <a:ext cx="11620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tep 0,...,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 txBox="1"/>
              <p:nvPr/>
            </p:nvSpPr>
            <p:spPr>
              <a:xfrm>
                <a:off x="3162240" y="2135160"/>
                <a:ext cx="189216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8-8 or  2-4-8 Mo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 txBox="1"/>
              <p:nvPr/>
            </p:nvSpPr>
            <p:spPr>
              <a:xfrm>
                <a:off x="9317160" y="2549520"/>
                <a:ext cx="569880" cy="90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D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4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B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 txBox="1"/>
              <p:nvPr/>
            </p:nvSpPr>
            <p:spPr>
              <a:xfrm>
                <a:off x="4732200" y="2730600"/>
                <a:ext cx="7081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ff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959440" y="453852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 txBox="1"/>
              <p:nvPr/>
            </p:nvSpPr>
            <p:spPr>
              <a:xfrm>
                <a:off x="5886360" y="4567320"/>
                <a:ext cx="1054080" cy="60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stimato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403880" y="2895480"/>
                <a:ext cx="254520" cy="1991160"/>
              </a:xfrm>
              <a:custGeom>
                <a:avLst/>
                <a:gdLst/>
                <a:ahLst/>
                <a:rect l="0" t="0" r="r" b="b"/>
                <a:pathLst>
                  <a:path fill="none" w="707" h="5531">
                    <a:moveTo>
                      <a:pt x="0" y="0"/>
                    </a:moveTo>
                    <a:lnTo>
                      <a:pt x="0" y="5531"/>
                    </a:lnTo>
                    <a:lnTo>
                      <a:pt x="707" y="553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513320" y="485316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186"/>
                    </a:moveTo>
                    <a:lnTo>
                      <a:pt x="0" y="0"/>
                    </a:lnTo>
                    <a:lnTo>
                      <a:pt x="371" y="98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5529240" y="4853160"/>
                <a:ext cx="427320" cy="66960"/>
                <a:chOff x="5529240" y="4853160"/>
                <a:chExt cx="427320" cy="6696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5529240" y="488628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823000" y="4853160"/>
                  <a:ext cx="133560" cy="66960"/>
                </a:xfrm>
                <a:custGeom>
                  <a:avLst/>
                  <a:gdLst/>
                  <a:ahLst/>
                  <a:rect l="0" t="0" r="r" b="b"/>
                  <a:pathLst>
                    <a:path w="371" h="186">
                      <a:moveTo>
                        <a:pt x="0" y="186"/>
                      </a:moveTo>
                      <a:lnTo>
                        <a:pt x="0" y="0"/>
                      </a:lnTo>
                      <a:lnTo>
                        <a:pt x="371" y="98"/>
                      </a:lnTo>
                      <a:lnTo>
                        <a:pt x="0" y="1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 txBox="1"/>
          <p:nvPr/>
        </p:nvSpPr>
        <p:spPr>
          <a:xfrm>
            <a:off x="2236680" y="5991120"/>
            <a:ext cx="5900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lock Diagram of DVCPRO De-compress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376200" y="2000160"/>
            <a:ext cx="9618840" cy="2880000"/>
            <a:chOff x="376200" y="2000160"/>
            <a:chExt cx="9618840" cy="2880000"/>
          </a:xfrm>
        </p:grpSpPr>
        <p:sp>
          <p:nvSpPr>
            <p:cNvPr id="1171" name=""/>
            <p:cNvSpPr/>
            <p:nvPr/>
          </p:nvSpPr>
          <p:spPr>
            <a:xfrm>
              <a:off x="425520" y="2000160"/>
              <a:ext cx="6648480" cy="2629080"/>
            </a:xfrm>
            <a:prstGeom prst="rect">
              <a:avLst/>
            </a:prstGeom>
            <a:gradFill rotWithShape="0">
              <a:gsLst>
                <a:gs pos="0">
                  <a:srgbClr val="a2c1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26280" y="2286000"/>
              <a:ext cx="2685960" cy="144792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32760" y="3827520"/>
              <a:ext cx="1028880" cy="1004760"/>
            </a:xfrm>
            <a:prstGeom prst="rect">
              <a:avLst/>
            </a:prstGeom>
            <a:gradFill rotWithShape="0">
              <a:gsLst>
                <a:gs pos="0">
                  <a:srgbClr val="fc0128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>
              <a:off x="9407520" y="2738520"/>
              <a:ext cx="5875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4:2: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CR, C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9381960" y="2979720"/>
              <a:ext cx="381240" cy="66960"/>
              <a:chOff x="9381960" y="2979720"/>
              <a:chExt cx="381240" cy="66960"/>
            </a:xfrm>
          </p:grpSpPr>
          <p:sp>
            <p:nvSpPr>
              <p:cNvPr id="1176" name=""/>
              <p:cNvSpPr/>
              <p:nvPr/>
            </p:nvSpPr>
            <p:spPr>
              <a:xfrm>
                <a:off x="9381960" y="300996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9621720" y="297972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8561520" y="269388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ae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 txBox="1"/>
            <p:nvPr/>
          </p:nvSpPr>
          <p:spPr>
            <a:xfrm>
              <a:off x="8523360" y="2703600"/>
              <a:ext cx="925560" cy="60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l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7713720" y="3282840"/>
              <a:ext cx="66960" cy="730440"/>
              <a:chOff x="7713720" y="3282840"/>
              <a:chExt cx="66960" cy="730440"/>
            </a:xfrm>
          </p:grpSpPr>
          <p:sp>
            <p:nvSpPr>
              <p:cNvPr id="1181" name=""/>
              <p:cNvSpPr/>
              <p:nvPr/>
            </p:nvSpPr>
            <p:spPr>
              <a:xfrm flipV="1">
                <a:off x="7743960" y="3282840"/>
                <a:ext cx="0" cy="73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713720" y="330372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186" y="371"/>
                    </a:moveTo>
                    <a:lnTo>
                      <a:pt x="0" y="371"/>
                    </a:lnTo>
                    <a:lnTo>
                      <a:pt x="98" y="0"/>
                    </a:lnTo>
                    <a:lnTo>
                      <a:pt x="186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7304040" y="269892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ae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 txBox="1"/>
            <p:nvPr/>
          </p:nvSpPr>
          <p:spPr>
            <a:xfrm>
              <a:off x="7269120" y="2697120"/>
              <a:ext cx="954000" cy="63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uff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5" name=""/>
            <p:cNvGrpSpPr/>
            <p:nvPr/>
          </p:nvGrpSpPr>
          <p:grpSpPr>
            <a:xfrm>
              <a:off x="7292880" y="3978360"/>
              <a:ext cx="874800" cy="600120"/>
              <a:chOff x="7292880" y="3978360"/>
              <a:chExt cx="874800" cy="600120"/>
            </a:xfrm>
          </p:grpSpPr>
          <p:sp>
            <p:nvSpPr>
              <p:cNvPr id="1186" name=""/>
              <p:cNvSpPr/>
              <p:nvPr/>
            </p:nvSpPr>
            <p:spPr>
              <a:xfrm>
                <a:off x="7310520" y="397836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128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 txBox="1"/>
              <p:nvPr/>
            </p:nvSpPr>
            <p:spPr>
              <a:xfrm>
                <a:off x="7292880" y="4022640"/>
                <a:ext cx="8650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uff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mo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>
              <a:off x="4773600" y="268272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 txBox="1"/>
            <p:nvPr/>
          </p:nvSpPr>
          <p:spPr>
            <a:xfrm>
              <a:off x="4684680" y="2720880"/>
              <a:ext cx="10429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r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gh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040440" y="269892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 txBox="1"/>
            <p:nvPr/>
          </p:nvSpPr>
          <p:spPr>
            <a:xfrm>
              <a:off x="6051600" y="2746440"/>
              <a:ext cx="80640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r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629320" y="2960640"/>
              <a:ext cx="398520" cy="66960"/>
              <a:chOff x="5629320" y="2960640"/>
              <a:chExt cx="398520" cy="66960"/>
            </a:xfrm>
          </p:grpSpPr>
          <p:sp>
            <p:nvSpPr>
              <p:cNvPr id="1193" name=""/>
              <p:cNvSpPr/>
              <p:nvPr/>
            </p:nvSpPr>
            <p:spPr>
              <a:xfrm>
                <a:off x="5629320" y="299736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94280" y="296064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8163000" y="2979720"/>
              <a:ext cx="395280" cy="66960"/>
              <a:chOff x="8163000" y="2979720"/>
              <a:chExt cx="395280" cy="66960"/>
            </a:xfrm>
          </p:grpSpPr>
          <p:sp>
            <p:nvSpPr>
              <p:cNvPr id="1196" name=""/>
              <p:cNvSpPr/>
              <p:nvPr/>
            </p:nvSpPr>
            <p:spPr>
              <a:xfrm>
                <a:off x="8163000" y="301320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424720" y="297972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3911760" y="3287880"/>
              <a:ext cx="66960" cy="392040"/>
              <a:chOff x="3911760" y="3287880"/>
              <a:chExt cx="66960" cy="392040"/>
            </a:xfrm>
          </p:grpSpPr>
          <p:sp>
            <p:nvSpPr>
              <p:cNvPr id="1199" name=""/>
              <p:cNvSpPr/>
              <p:nvPr/>
            </p:nvSpPr>
            <p:spPr>
              <a:xfrm flipV="1">
                <a:off x="3941640" y="329868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911760" y="328788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186" y="371"/>
                    </a:moveTo>
                    <a:lnTo>
                      <a:pt x="0" y="371"/>
                    </a:lnTo>
                    <a:lnTo>
                      <a:pt x="98" y="0"/>
                    </a:lnTo>
                    <a:lnTo>
                      <a:pt x="186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3494160" y="269064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 txBox="1"/>
            <p:nvPr/>
          </p:nvSpPr>
          <p:spPr>
            <a:xfrm>
              <a:off x="3486240" y="2738520"/>
              <a:ext cx="8650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r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87680" y="367020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 txBox="1"/>
            <p:nvPr/>
          </p:nvSpPr>
          <p:spPr>
            <a:xfrm>
              <a:off x="3502080" y="3662280"/>
              <a:ext cx="806400" cy="63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ver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5" name=""/>
            <p:cNvGrpSpPr/>
            <p:nvPr/>
          </p:nvGrpSpPr>
          <p:grpSpPr>
            <a:xfrm>
              <a:off x="3076560" y="2970360"/>
              <a:ext cx="401760" cy="66960"/>
              <a:chOff x="3076560" y="2970360"/>
              <a:chExt cx="401760" cy="669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076560" y="300996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344760" y="297036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2208240" y="269388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 txBox="1"/>
            <p:nvPr/>
          </p:nvSpPr>
          <p:spPr>
            <a:xfrm>
              <a:off x="2378160" y="286056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6897600" y="2973240"/>
              <a:ext cx="395640" cy="66960"/>
              <a:chOff x="6897600" y="2973240"/>
              <a:chExt cx="395640" cy="66960"/>
            </a:xfrm>
          </p:grpSpPr>
          <p:sp>
            <p:nvSpPr>
              <p:cNvPr id="1211" name=""/>
              <p:cNvSpPr/>
              <p:nvPr/>
            </p:nvSpPr>
            <p:spPr>
              <a:xfrm>
                <a:off x="6897600" y="300672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159680" y="297324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1968480" y="3014640"/>
              <a:ext cx="1499040" cy="948240"/>
            </a:xfrm>
            <a:custGeom>
              <a:avLst/>
              <a:gdLst/>
              <a:ahLst/>
              <a:rect l="0" t="0" r="r" b="b"/>
              <a:pathLst>
                <a:path fill="none" w="4164" h="2634">
                  <a:moveTo>
                    <a:pt x="0" y="0"/>
                  </a:moveTo>
                  <a:lnTo>
                    <a:pt x="0" y="2634"/>
                  </a:lnTo>
                  <a:lnTo>
                    <a:pt x="4164" y="263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346560" y="392256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186"/>
                  </a:moveTo>
                  <a:lnTo>
                    <a:pt x="0" y="0"/>
                  </a:lnTo>
                  <a:lnTo>
                    <a:pt x="371" y="9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357800" y="30067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38600" y="297324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186"/>
                  </a:moveTo>
                  <a:lnTo>
                    <a:pt x="0" y="0"/>
                  </a:lnTo>
                  <a:lnTo>
                    <a:pt x="371" y="9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938160" y="2700360"/>
              <a:ext cx="857160" cy="600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 txBox="1"/>
            <p:nvPr/>
          </p:nvSpPr>
          <p:spPr>
            <a:xfrm>
              <a:off x="887400" y="2687760"/>
              <a:ext cx="965160" cy="63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1806480" y="2970360"/>
              <a:ext cx="402120" cy="66960"/>
              <a:chOff x="1806480" y="2970360"/>
              <a:chExt cx="402120" cy="66960"/>
            </a:xfrm>
          </p:grpSpPr>
          <p:sp>
            <p:nvSpPr>
              <p:cNvPr id="1220" name=""/>
              <p:cNvSpPr/>
              <p:nvPr/>
            </p:nvSpPr>
            <p:spPr>
              <a:xfrm>
                <a:off x="1806480" y="300996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75040" y="297036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539640" y="2981160"/>
              <a:ext cx="398880" cy="66960"/>
              <a:chOff x="539640" y="2981160"/>
              <a:chExt cx="398880" cy="66960"/>
            </a:xfrm>
          </p:grpSpPr>
          <p:sp>
            <p:nvSpPr>
              <p:cNvPr id="1223" name=""/>
              <p:cNvSpPr/>
              <p:nvPr/>
            </p:nvSpPr>
            <p:spPr>
              <a:xfrm>
                <a:off x="539640" y="3014640"/>
                <a:ext cx="38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04960" y="298116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 txBox="1"/>
            <p:nvPr/>
          </p:nvSpPr>
          <p:spPr>
            <a:xfrm>
              <a:off x="2270160" y="3708360"/>
              <a:ext cx="11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lass 0,---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 txBox="1"/>
            <p:nvPr/>
          </p:nvSpPr>
          <p:spPr>
            <a:xfrm>
              <a:off x="2838600" y="3336840"/>
              <a:ext cx="1162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tep 0,...,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>
              <a:off x="8099280" y="2751120"/>
              <a:ext cx="53964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4:1: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C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 txBox="1"/>
            <p:nvPr/>
          </p:nvSpPr>
          <p:spPr>
            <a:xfrm>
              <a:off x="7332840" y="4575240"/>
              <a:ext cx="801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&lt; 5M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 txBox="1"/>
            <p:nvPr/>
          </p:nvSpPr>
          <p:spPr>
            <a:xfrm>
              <a:off x="376200" y="2625840"/>
              <a:ext cx="569880" cy="9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968480" y="2257560"/>
              <a:ext cx="3226320" cy="752760"/>
            </a:xfrm>
            <a:custGeom>
              <a:avLst/>
              <a:gdLst/>
              <a:ahLst/>
              <a:rect l="0" t="0" r="r" b="b"/>
              <a:pathLst>
                <a:path fill="none" w="8962" h="2091">
                  <a:moveTo>
                    <a:pt x="0" y="2091"/>
                  </a:moveTo>
                  <a:lnTo>
                    <a:pt x="0" y="8"/>
                  </a:lnTo>
                  <a:lnTo>
                    <a:pt x="8953" y="0"/>
                  </a:lnTo>
                  <a:lnTo>
                    <a:pt x="8962" y="12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167440" y="2549520"/>
              <a:ext cx="66960" cy="133560"/>
            </a:xfrm>
            <a:custGeom>
              <a:avLst/>
              <a:gdLst/>
              <a:ahLst/>
              <a:rect l="0" t="0" r="r" b="b"/>
              <a:pathLst>
                <a:path w="186" h="371">
                  <a:moveTo>
                    <a:pt x="0" y="0"/>
                  </a:moveTo>
                  <a:lnTo>
                    <a:pt x="186" y="0"/>
                  </a:lnTo>
                  <a:lnTo>
                    <a:pt x="88" y="3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 txBox="1"/>
            <p:nvPr/>
          </p:nvSpPr>
          <p:spPr>
            <a:xfrm>
              <a:off x="2813040" y="2022480"/>
              <a:ext cx="1646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8-8 or 2-4-8 Mo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139920" y="5989680"/>
            <a:ext cx="4008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Compressed Data Bu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2413080" y="1457280"/>
            <a:ext cx="5461200" cy="3565440"/>
            <a:chOff x="2413080" y="1457280"/>
            <a:chExt cx="5461200" cy="3565440"/>
          </a:xfrm>
        </p:grpSpPr>
        <p:sp>
          <p:nvSpPr>
            <p:cNvPr id="1235" name=""/>
            <p:cNvSpPr txBox="1"/>
            <p:nvPr/>
          </p:nvSpPr>
          <p:spPr>
            <a:xfrm>
              <a:off x="2803680" y="1457280"/>
              <a:ext cx="5070600" cy="356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C Compressed Data  Form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intended for internal equipment 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Flexible DVC Bus 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robust &amp; si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Parallel Bu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8 data bits, clock, 2 control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C Chipset Interface Protoc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upports IEEE 1394 AV/C form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2413080" y="1584360"/>
              <a:ext cx="128520" cy="2851200"/>
              <a:chOff x="2413080" y="1584360"/>
              <a:chExt cx="128520" cy="2851200"/>
            </a:xfrm>
          </p:grpSpPr>
          <p:sp>
            <p:nvSpPr>
              <p:cNvPr id="1237" name=""/>
              <p:cNvSpPr/>
              <p:nvPr/>
            </p:nvSpPr>
            <p:spPr>
              <a:xfrm>
                <a:off x="2413080" y="1584360"/>
                <a:ext cx="12852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413080" y="2492280"/>
                <a:ext cx="12852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413080" y="3387600"/>
                <a:ext cx="12852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413080" y="4321080"/>
                <a:ext cx="12852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 txBox="1"/>
          <p:nvPr/>
        </p:nvSpPr>
        <p:spPr>
          <a:xfrm>
            <a:off x="2478240" y="5991120"/>
            <a:ext cx="5418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asic Block Diagram of DVC Recording 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235080" y="1057320"/>
            <a:ext cx="10038960" cy="4888080"/>
            <a:chOff x="235080" y="1057320"/>
            <a:chExt cx="10038960" cy="4888080"/>
          </a:xfrm>
        </p:grpSpPr>
        <p:grpSp>
          <p:nvGrpSpPr>
            <p:cNvPr id="1243" name=""/>
            <p:cNvGrpSpPr/>
            <p:nvPr/>
          </p:nvGrpSpPr>
          <p:grpSpPr>
            <a:xfrm>
              <a:off x="235080" y="1057320"/>
              <a:ext cx="10038960" cy="4888080"/>
              <a:chOff x="235080" y="1057320"/>
              <a:chExt cx="10038960" cy="4888080"/>
            </a:xfrm>
          </p:grpSpPr>
          <p:grpSp>
            <p:nvGrpSpPr>
              <p:cNvPr id="1244" name=""/>
              <p:cNvGrpSpPr/>
              <p:nvPr/>
            </p:nvGrpSpPr>
            <p:grpSpPr>
              <a:xfrm>
                <a:off x="235080" y="1057320"/>
                <a:ext cx="10038960" cy="4888080"/>
                <a:chOff x="235080" y="1057320"/>
                <a:chExt cx="10038960" cy="4888080"/>
              </a:xfrm>
            </p:grpSpPr>
            <p:sp>
              <p:nvSpPr>
                <p:cNvPr id="1245" name=""/>
                <p:cNvSpPr txBox="1"/>
                <p:nvPr/>
              </p:nvSpPr>
              <p:spPr>
                <a:xfrm>
                  <a:off x="3886200" y="5407200"/>
                  <a:ext cx="2590920" cy="53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1199"/>
                    </a:spcBef>
                  </a:pPr>
                  <a:r>
                    <a:rPr b="1" lang="en-US" sz="14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Compressed Data Interfac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1199"/>
                    </a:spcBef>
                  </a:pPr>
                  <a:r>
                    <a:rPr b="1" lang="en-US" sz="14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IEEE 1394, othe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6" name=""/>
                <p:cNvGrpSpPr/>
                <p:nvPr/>
              </p:nvGrpSpPr>
              <p:grpSpPr>
                <a:xfrm>
                  <a:off x="235080" y="1057320"/>
                  <a:ext cx="10038960" cy="4286160"/>
                  <a:chOff x="235080" y="1057320"/>
                  <a:chExt cx="10038960" cy="4286160"/>
                </a:xfrm>
              </p:grpSpPr>
              <p:sp>
                <p:nvSpPr>
                  <p:cNvPr id="1247" name=""/>
                  <p:cNvSpPr txBox="1"/>
                  <p:nvPr/>
                </p:nvSpPr>
                <p:spPr>
                  <a:xfrm>
                    <a:off x="9296280" y="2679840"/>
                    <a:ext cx="977760" cy="53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80000"/>
                      </a:lnSpc>
                      <a:spcBef>
                        <a:spcPts val="1199"/>
                      </a:spcBef>
                    </a:pPr>
                    <a:r>
                      <a:rPr b="1" lang="en-US" sz="1400" spc="-1" strike="noStrike">
                        <a:solidFill>
                          <a:srgbClr val="fafd00"/>
                        </a:solidFill>
                        <a:latin typeface="Arial"/>
                        <a:ea typeface="Arial"/>
                      </a:rPr>
                      <a:t>to/fro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80000"/>
                      </a:lnSpc>
                      <a:spcBef>
                        <a:spcPts val="1199"/>
                      </a:spcBef>
                    </a:pPr>
                    <a:r>
                      <a:rPr b="1" lang="en-US" sz="1400" spc="-1" strike="noStrike">
                        <a:solidFill>
                          <a:srgbClr val="fafd00"/>
                        </a:solidFill>
                        <a:latin typeface="Arial"/>
                        <a:ea typeface="Arial"/>
                      </a:rPr>
                      <a:t>Tap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8" name=""/>
                  <p:cNvGrpSpPr/>
                  <p:nvPr/>
                </p:nvGrpSpPr>
                <p:grpSpPr>
                  <a:xfrm>
                    <a:off x="235080" y="1057320"/>
                    <a:ext cx="9918720" cy="4286160"/>
                    <a:chOff x="235080" y="1057320"/>
                    <a:chExt cx="9918720" cy="4286160"/>
                  </a:xfrm>
                </p:grpSpPr>
                <p:sp>
                  <p:nvSpPr>
                    <p:cNvPr id="1249" name=""/>
                    <p:cNvSpPr txBox="1"/>
                    <p:nvPr/>
                  </p:nvSpPr>
                  <p:spPr>
                    <a:xfrm>
                      <a:off x="235080" y="2622600"/>
                      <a:ext cx="787320" cy="517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fafd00"/>
                          </a:solidFill>
                          <a:latin typeface="Arial"/>
                          <a:ea typeface="Arial"/>
                        </a:rPr>
                        <a:t>VI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fafd00"/>
                          </a:solidFill>
                          <a:latin typeface="Arial"/>
                          <a:ea typeface="Arial"/>
                        </a:rPr>
                        <a:t>IN/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4394160" y="3409920"/>
                      <a:ext cx="1644480" cy="914400"/>
                    </a:xfrm>
                    <a:prstGeom prst="rect">
                      <a:avLst/>
                    </a:prstGeom>
                    <a:solidFill>
                      <a:srgbClr val="95b4fe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51" name=""/>
                    <p:cNvGrpSpPr/>
                    <p:nvPr/>
                  </p:nvGrpSpPr>
                  <p:grpSpPr>
                    <a:xfrm>
                      <a:off x="1012680" y="2114640"/>
                      <a:ext cx="3740040" cy="914400"/>
                      <a:chOff x="1012680" y="2114640"/>
                      <a:chExt cx="3740040" cy="914400"/>
                    </a:xfrm>
                  </p:grpSpPr>
                  <p:sp>
                    <p:nvSpPr>
                      <p:cNvPr id="1252" name=""/>
                      <p:cNvSpPr/>
                      <p:nvPr/>
                    </p:nvSpPr>
                    <p:spPr>
                      <a:xfrm>
                        <a:off x="1012680" y="2114640"/>
                        <a:ext cx="1644480" cy="914400"/>
                      </a:xfrm>
                      <a:prstGeom prst="rect">
                        <a:avLst/>
                      </a:prstGeom>
                      <a:solidFill>
                        <a:srgbClr val="95b4fe"/>
                      </a:solidFill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3" name=""/>
                      <p:cNvSpPr/>
                      <p:nvPr/>
                    </p:nvSpPr>
                    <p:spPr>
                      <a:xfrm>
                        <a:off x="3108240" y="2114640"/>
                        <a:ext cx="1644480" cy="914400"/>
                      </a:xfrm>
                      <a:prstGeom prst="rect">
                        <a:avLst/>
                      </a:prstGeom>
                      <a:solidFill>
                        <a:srgbClr val="95b4fe"/>
                      </a:solidFill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54" name=""/>
                    <p:cNvGrpSpPr/>
                    <p:nvPr/>
                  </p:nvGrpSpPr>
                  <p:grpSpPr>
                    <a:xfrm>
                      <a:off x="5641920" y="2114640"/>
                      <a:ext cx="3759120" cy="914400"/>
                      <a:chOff x="5641920" y="2114640"/>
                      <a:chExt cx="3759120" cy="914400"/>
                    </a:xfrm>
                  </p:grpSpPr>
                  <p:sp>
                    <p:nvSpPr>
                      <p:cNvPr id="1255" name=""/>
                      <p:cNvSpPr/>
                      <p:nvPr/>
                    </p:nvSpPr>
                    <p:spPr>
                      <a:xfrm>
                        <a:off x="5641920" y="2114640"/>
                        <a:ext cx="1644480" cy="914400"/>
                      </a:xfrm>
                      <a:prstGeom prst="rect">
                        <a:avLst/>
                      </a:prstGeom>
                      <a:solidFill>
                        <a:srgbClr val="95b4fe"/>
                      </a:solidFill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6" name=""/>
                      <p:cNvSpPr/>
                      <p:nvPr/>
                    </p:nvSpPr>
                    <p:spPr>
                      <a:xfrm>
                        <a:off x="7756560" y="2114640"/>
                        <a:ext cx="1644480" cy="914400"/>
                      </a:xfrm>
                      <a:prstGeom prst="rect">
                        <a:avLst/>
                      </a:prstGeom>
                      <a:solidFill>
                        <a:srgbClr val="95b4fe"/>
                      </a:solidFill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57" name=""/>
                    <p:cNvSpPr/>
                    <p:nvPr/>
                  </p:nvSpPr>
                  <p:spPr>
                    <a:xfrm>
                      <a:off x="523800" y="2552760"/>
                      <a:ext cx="48600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>
                      <a:off x="2647800" y="2543040"/>
                      <a:ext cx="44784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>
                      <a:off x="4743360" y="2552760"/>
                      <a:ext cx="88596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5067360" y="2390760"/>
                      <a:ext cx="285840" cy="304920"/>
                    </a:xfrm>
                    <a:prstGeom prst="ellipse">
                      <a:avLst/>
                    </a:prstGeom>
                    <a:solidFill>
                      <a:srgbClr val="a0bbfe"/>
                    </a:solidFill>
                    <a:ln w="255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7277040" y="2533680"/>
                      <a:ext cx="4669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9391680" y="2571840"/>
                      <a:ext cx="51444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5210280" y="2695680"/>
                      <a:ext cx="0" cy="70488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"/>
                    <p:cNvSpPr txBox="1"/>
                    <p:nvPr/>
                  </p:nvSpPr>
                  <p:spPr>
                    <a:xfrm>
                      <a:off x="1346040" y="2422440"/>
                      <a:ext cx="100332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UFF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"/>
                    <p:cNvSpPr txBox="1"/>
                    <p:nvPr/>
                  </p:nvSpPr>
                  <p:spPr>
                    <a:xfrm>
                      <a:off x="3156120" y="2422440"/>
                      <a:ext cx="151776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6" name=""/>
                    <p:cNvSpPr txBox="1"/>
                    <p:nvPr/>
                  </p:nvSpPr>
                  <p:spPr>
                    <a:xfrm>
                      <a:off x="6188040" y="2422440"/>
                      <a:ext cx="55872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7" name=""/>
                    <p:cNvSpPr txBox="1"/>
                    <p:nvPr/>
                  </p:nvSpPr>
                  <p:spPr>
                    <a:xfrm>
                      <a:off x="8132760" y="2432160"/>
                      <a:ext cx="95400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. M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"/>
                    <p:cNvSpPr txBox="1"/>
                    <p:nvPr/>
                  </p:nvSpPr>
                  <p:spPr>
                    <a:xfrm>
                      <a:off x="4579920" y="3622680"/>
                      <a:ext cx="1300320" cy="517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CK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 flipV="1">
                      <a:off x="568440" y="1857240"/>
                      <a:ext cx="4622760" cy="324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7880" bIns="-47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>
                      <a:off x="5210280" y="1390680"/>
                      <a:ext cx="0" cy="99072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 flipV="1">
                      <a:off x="568440" y="1476360"/>
                      <a:ext cx="4622760" cy="324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7880" bIns="-47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"/>
                    <p:cNvSpPr txBox="1"/>
                    <p:nvPr/>
                  </p:nvSpPr>
                  <p:spPr>
                    <a:xfrm>
                      <a:off x="4667400" y="1057320"/>
                      <a:ext cx="116208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</a:pPr>
                      <a:r>
                        <a:rPr b="1" lang="en-US" sz="1400" spc="-1" strike="noStrike">
                          <a:solidFill>
                            <a:srgbClr val="fafd00"/>
                          </a:solidFill>
                          <a:latin typeface="Arial"/>
                          <a:ea typeface="Arial"/>
                        </a:rPr>
                        <a:t>DV 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3" name=""/>
                    <p:cNvGrpSpPr/>
                    <p:nvPr/>
                  </p:nvGrpSpPr>
                  <p:grpSpPr>
                    <a:xfrm>
                      <a:off x="5119560" y="2457360"/>
                      <a:ext cx="162000" cy="162000"/>
                      <a:chOff x="5119560" y="2457360"/>
                      <a:chExt cx="162000" cy="162000"/>
                    </a:xfrm>
                  </p:grpSpPr>
                  <p:sp>
                    <p:nvSpPr>
                      <p:cNvPr id="1274" name=""/>
                      <p:cNvSpPr/>
                      <p:nvPr/>
                    </p:nvSpPr>
                    <p:spPr>
                      <a:xfrm>
                        <a:off x="5210280" y="2457360"/>
                        <a:ext cx="0" cy="16200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5" name=""/>
                      <p:cNvSpPr/>
                      <p:nvPr/>
                    </p:nvSpPr>
                    <p:spPr>
                      <a:xfrm flipH="1">
                        <a:off x="5119560" y="2548080"/>
                        <a:ext cx="162000" cy="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-57600" bIns="-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76" name=""/>
                    <p:cNvSpPr txBox="1"/>
                    <p:nvPr/>
                  </p:nvSpPr>
                  <p:spPr>
                    <a:xfrm>
                      <a:off x="770040" y="1612800"/>
                      <a:ext cx="150804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fafd00"/>
                          </a:solidFill>
                          <a:latin typeface="Arial"/>
                          <a:ea typeface="Arial"/>
                        </a:rPr>
                        <a:t>AUDIO   IN/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7" name=""/>
                    <p:cNvSpPr txBox="1"/>
                    <p:nvPr/>
                  </p:nvSpPr>
                  <p:spPr>
                    <a:xfrm>
                      <a:off x="730080" y="1231920"/>
                      <a:ext cx="197172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fafd00"/>
                          </a:solidFill>
                          <a:latin typeface="Arial"/>
                          <a:ea typeface="Arial"/>
                        </a:rPr>
                        <a:t>Subcode, TC  IN/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8" name=""/>
                    <p:cNvGrpSpPr/>
                    <p:nvPr/>
                  </p:nvGrpSpPr>
                  <p:grpSpPr>
                    <a:xfrm>
                      <a:off x="6334200" y="4314960"/>
                      <a:ext cx="1838160" cy="685440"/>
                      <a:chOff x="6334200" y="4314960"/>
                      <a:chExt cx="1838160" cy="685440"/>
                    </a:xfrm>
                  </p:grpSpPr>
                  <p:sp>
                    <p:nvSpPr>
                      <p:cNvPr id="1279" name=""/>
                      <p:cNvSpPr txBox="1"/>
                      <p:nvPr/>
                    </p:nvSpPr>
                    <p:spPr>
                      <a:xfrm>
                        <a:off x="6411960" y="4667400"/>
                        <a:ext cx="18432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99"/>
                          </a:spcBef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0" name=""/>
                      <p:cNvSpPr/>
                      <p:nvPr/>
                    </p:nvSpPr>
                    <p:spPr>
                      <a:xfrm>
                        <a:off x="6334200" y="4581360"/>
                        <a:ext cx="1817640" cy="419040"/>
                      </a:xfrm>
                      <a:prstGeom prst="rect">
                        <a:avLst/>
                      </a:prstGeom>
                      <a:solidFill>
                        <a:srgbClr val="98b6fe"/>
                      </a:solidFill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1" name=""/>
                      <p:cNvSpPr/>
                      <p:nvPr/>
                    </p:nvSpPr>
                    <p:spPr>
                      <a:xfrm>
                        <a:off x="6694560" y="4581360"/>
                        <a:ext cx="0" cy="4003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2" name=""/>
                      <p:cNvSpPr/>
                      <p:nvPr/>
                    </p:nvSpPr>
                    <p:spPr>
                      <a:xfrm>
                        <a:off x="6819840" y="4648320"/>
                        <a:ext cx="135252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3" name=""/>
                      <p:cNvSpPr txBox="1"/>
                      <p:nvPr/>
                    </p:nvSpPr>
                    <p:spPr>
                      <a:xfrm>
                        <a:off x="6353280" y="4651200"/>
                        <a:ext cx="28260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4" name=""/>
                      <p:cNvSpPr txBox="1"/>
                      <p:nvPr/>
                    </p:nvSpPr>
                    <p:spPr>
                      <a:xfrm>
                        <a:off x="6492960" y="4314960"/>
                        <a:ext cx="15908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99"/>
                          </a:spcBef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DIF packet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85" name=""/>
                    <p:cNvGrpSpPr/>
                    <p:nvPr/>
                  </p:nvGrpSpPr>
                  <p:grpSpPr>
                    <a:xfrm>
                      <a:off x="4572000" y="4305240"/>
                      <a:ext cx="1667160" cy="1038240"/>
                      <a:chOff x="4572000" y="4305240"/>
                      <a:chExt cx="1667160" cy="1038240"/>
                    </a:xfrm>
                  </p:grpSpPr>
                  <p:sp>
                    <p:nvSpPr>
                      <p:cNvPr id="1286" name=""/>
                      <p:cNvSpPr/>
                      <p:nvPr/>
                    </p:nvSpPr>
                    <p:spPr>
                      <a:xfrm>
                        <a:off x="5219640" y="4305240"/>
                        <a:ext cx="0" cy="50472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round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7" name=""/>
                      <p:cNvSpPr/>
                      <p:nvPr/>
                    </p:nvSpPr>
                    <p:spPr>
                      <a:xfrm>
                        <a:off x="4572000" y="4809960"/>
                        <a:ext cx="1285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custDash>
                          <a:ds d="202857" sp="202857"/>
                        </a:custDash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51120" bIns="-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8" name=""/>
                      <p:cNvSpPr txBox="1"/>
                      <p:nvPr/>
                    </p:nvSpPr>
                    <p:spPr>
                      <a:xfrm>
                        <a:off x="5229360" y="4524480"/>
                        <a:ext cx="100980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99"/>
                          </a:spcBef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DIF Bus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9" name=""/>
                      <p:cNvSpPr/>
                      <p:nvPr/>
                    </p:nvSpPr>
                    <p:spPr>
                      <a:xfrm>
                        <a:off x="5205240" y="4791240"/>
                        <a:ext cx="5040" cy="552240"/>
                      </a:xfrm>
                      <a:prstGeom prst="line">
                        <a:avLst/>
                      </a:prstGeom>
                      <a:ln w="12600">
                        <a:solidFill>
                          <a:srgbClr val="fafd00"/>
                        </a:solidFill>
                        <a:round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0" name=""/>
                    <p:cNvGrpSpPr/>
                    <p:nvPr/>
                  </p:nvGrpSpPr>
                  <p:grpSpPr>
                    <a:xfrm>
                      <a:off x="235080" y="4286160"/>
                      <a:ext cx="3848040" cy="969840"/>
                      <a:chOff x="235080" y="4286160"/>
                      <a:chExt cx="3848040" cy="969840"/>
                    </a:xfrm>
                  </p:grpSpPr>
                  <p:sp>
                    <p:nvSpPr>
                      <p:cNvPr id="1291" name=""/>
                      <p:cNvSpPr/>
                      <p:nvPr/>
                    </p:nvSpPr>
                    <p:spPr>
                      <a:xfrm>
                        <a:off x="311040" y="4495680"/>
                        <a:ext cx="3732120" cy="741240"/>
                      </a:xfrm>
                      <a:prstGeom prst="rect">
                        <a:avLst/>
                      </a:prstGeom>
                      <a:solidFill>
                        <a:srgbClr val="c1ce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92" name=""/>
                      <p:cNvGrpSpPr/>
                      <p:nvPr/>
                    </p:nvGrpSpPr>
                    <p:grpSpPr>
                      <a:xfrm>
                        <a:off x="465120" y="4495680"/>
                        <a:ext cx="303480" cy="743400"/>
                        <a:chOff x="465120" y="4495680"/>
                        <a:chExt cx="303480" cy="743400"/>
                      </a:xfrm>
                    </p:grpSpPr>
                    <p:sp>
                      <p:nvSpPr>
                        <p:cNvPr id="1293" name=""/>
                        <p:cNvSpPr/>
                        <p:nvPr/>
                      </p:nvSpPr>
                      <p:spPr>
                        <a:xfrm>
                          <a:off x="465120" y="4495680"/>
                          <a:ext cx="303480" cy="7434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43" h="2065">
                              <a:moveTo>
                                <a:pt x="0" y="0"/>
                              </a:moveTo>
                              <a:lnTo>
                                <a:pt x="0" y="2065"/>
                              </a:lnTo>
                              <a:lnTo>
                                <a:pt x="414" y="2061"/>
                              </a:lnTo>
                              <a:lnTo>
                                <a:pt x="414" y="1019"/>
                              </a:lnTo>
                              <a:lnTo>
                                <a:pt x="843" y="1019"/>
                              </a:lnTo>
                              <a:lnTo>
                                <a:pt x="843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1dc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 flipV="1">
                          <a:off x="612720" y="4495680"/>
                          <a:ext cx="0" cy="366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custDash>
                            <a:ds d="100000" sp="100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95" name=""/>
                      <p:cNvSpPr/>
                      <p:nvPr/>
                    </p:nvSpPr>
                    <p:spPr>
                      <a:xfrm flipV="1">
                        <a:off x="311040" y="4865760"/>
                        <a:ext cx="15264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-49680" bIns="-49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6" name=""/>
                      <p:cNvSpPr txBox="1"/>
                      <p:nvPr/>
                    </p:nvSpPr>
                    <p:spPr>
                      <a:xfrm>
                        <a:off x="241200" y="4510080"/>
                        <a:ext cx="318960" cy="336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S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97" name=""/>
                      <p:cNvGrpSpPr/>
                      <p:nvPr/>
                    </p:nvGrpSpPr>
                    <p:grpSpPr>
                      <a:xfrm>
                        <a:off x="1054080" y="4495680"/>
                        <a:ext cx="302040" cy="743400"/>
                        <a:chOff x="1054080" y="4495680"/>
                        <a:chExt cx="302040" cy="743400"/>
                      </a:xfrm>
                    </p:grpSpPr>
                    <p:sp>
                      <p:nvSpPr>
                        <p:cNvPr id="1298" name=""/>
                        <p:cNvSpPr/>
                        <p:nvPr/>
                      </p:nvSpPr>
                      <p:spPr>
                        <a:xfrm>
                          <a:off x="1054080" y="4495680"/>
                          <a:ext cx="302040" cy="7434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39" h="2065">
                              <a:moveTo>
                                <a:pt x="0" y="0"/>
                              </a:moveTo>
                              <a:lnTo>
                                <a:pt x="0" y="2065"/>
                              </a:lnTo>
                              <a:lnTo>
                                <a:pt x="415" y="2061"/>
                              </a:lnTo>
                              <a:lnTo>
                                <a:pt x="415" y="1019"/>
                              </a:lnTo>
                              <a:lnTo>
                                <a:pt x="839" y="1019"/>
                              </a:lnTo>
                              <a:lnTo>
                                <a:pt x="839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1dc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9" name=""/>
                        <p:cNvSpPr/>
                        <p:nvPr/>
                      </p:nvSpPr>
                      <p:spPr>
                        <a:xfrm flipV="1">
                          <a:off x="1200240" y="4495680"/>
                          <a:ext cx="0" cy="366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custDash>
                            <a:ds d="100000" sp="100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00" name=""/>
                      <p:cNvSpPr txBox="1"/>
                      <p:nvPr/>
                    </p:nvSpPr>
                    <p:spPr>
                      <a:xfrm>
                        <a:off x="235080" y="4871880"/>
                        <a:ext cx="343080" cy="336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Q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1" name=""/>
                      <p:cNvSpPr txBox="1"/>
                      <p:nvPr/>
                    </p:nvSpPr>
                    <p:spPr>
                      <a:xfrm>
                        <a:off x="374760" y="4516560"/>
                        <a:ext cx="312840" cy="730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C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2" name=""/>
                      <p:cNvSpPr txBox="1"/>
                      <p:nvPr/>
                    </p:nvSpPr>
                    <p:spPr>
                      <a:xfrm>
                        <a:off x="966960" y="4516560"/>
                        <a:ext cx="312840" cy="730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C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03" name=""/>
                      <p:cNvGrpSpPr/>
                      <p:nvPr/>
                    </p:nvGrpSpPr>
                    <p:grpSpPr>
                      <a:xfrm>
                        <a:off x="1660680" y="4495680"/>
                        <a:ext cx="302040" cy="743400"/>
                        <a:chOff x="1660680" y="4495680"/>
                        <a:chExt cx="302040" cy="743400"/>
                      </a:xfrm>
                    </p:grpSpPr>
                    <p:sp>
                      <p:nvSpPr>
                        <p:cNvPr id="1304" name=""/>
                        <p:cNvSpPr/>
                        <p:nvPr/>
                      </p:nvSpPr>
                      <p:spPr>
                        <a:xfrm>
                          <a:off x="1660680" y="4495680"/>
                          <a:ext cx="302040" cy="7434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39" h="2065">
                              <a:moveTo>
                                <a:pt x="0" y="0"/>
                              </a:moveTo>
                              <a:lnTo>
                                <a:pt x="0" y="2065"/>
                              </a:lnTo>
                              <a:lnTo>
                                <a:pt x="415" y="2061"/>
                              </a:lnTo>
                              <a:lnTo>
                                <a:pt x="415" y="1019"/>
                              </a:lnTo>
                              <a:lnTo>
                                <a:pt x="839" y="1019"/>
                              </a:lnTo>
                              <a:lnTo>
                                <a:pt x="839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1dc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5" name=""/>
                        <p:cNvSpPr/>
                        <p:nvPr/>
                      </p:nvSpPr>
                      <p:spPr>
                        <a:xfrm flipV="1">
                          <a:off x="1806480" y="4495680"/>
                          <a:ext cx="0" cy="366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custDash>
                            <a:ds d="100000" sp="100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06" name=""/>
                      <p:cNvSpPr txBox="1"/>
                      <p:nvPr/>
                    </p:nvSpPr>
                    <p:spPr>
                      <a:xfrm>
                        <a:off x="1569960" y="4525920"/>
                        <a:ext cx="312840" cy="730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C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07" name=""/>
                      <p:cNvGrpSpPr/>
                      <p:nvPr/>
                    </p:nvGrpSpPr>
                    <p:grpSpPr>
                      <a:xfrm>
                        <a:off x="2254320" y="4495680"/>
                        <a:ext cx="300240" cy="743400"/>
                        <a:chOff x="2254320" y="4495680"/>
                        <a:chExt cx="300240" cy="743400"/>
                      </a:xfrm>
                    </p:grpSpPr>
                    <p:sp>
                      <p:nvSpPr>
                        <p:cNvPr id="1308" name=""/>
                        <p:cNvSpPr/>
                        <p:nvPr/>
                      </p:nvSpPr>
                      <p:spPr>
                        <a:xfrm>
                          <a:off x="2254320" y="4495680"/>
                          <a:ext cx="300240" cy="7434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34" h="2065">
                              <a:moveTo>
                                <a:pt x="0" y="0"/>
                              </a:moveTo>
                              <a:lnTo>
                                <a:pt x="0" y="2065"/>
                              </a:lnTo>
                              <a:lnTo>
                                <a:pt x="410" y="2061"/>
                              </a:lnTo>
                              <a:lnTo>
                                <a:pt x="410" y="1019"/>
                              </a:lnTo>
                              <a:lnTo>
                                <a:pt x="834" y="1019"/>
                              </a:lnTo>
                              <a:lnTo>
                                <a:pt x="834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1dc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9" name=""/>
                        <p:cNvSpPr/>
                        <p:nvPr/>
                      </p:nvSpPr>
                      <p:spPr>
                        <a:xfrm flipV="1">
                          <a:off x="2400480" y="4495680"/>
                          <a:ext cx="0" cy="366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custDash>
                            <a:ds d="100000" sp="100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310" name=""/>
                      <p:cNvGrpSpPr/>
                      <p:nvPr/>
                    </p:nvGrpSpPr>
                    <p:grpSpPr>
                      <a:xfrm>
                        <a:off x="2847960" y="4495680"/>
                        <a:ext cx="300240" cy="743400"/>
                        <a:chOff x="2847960" y="4495680"/>
                        <a:chExt cx="300240" cy="743400"/>
                      </a:xfrm>
                    </p:grpSpPr>
                    <p:sp>
                      <p:nvSpPr>
                        <p:cNvPr id="1311" name=""/>
                        <p:cNvSpPr/>
                        <p:nvPr/>
                      </p:nvSpPr>
                      <p:spPr>
                        <a:xfrm>
                          <a:off x="2847960" y="4495680"/>
                          <a:ext cx="300240" cy="7434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34" h="2065">
                              <a:moveTo>
                                <a:pt x="0" y="0"/>
                              </a:moveTo>
                              <a:lnTo>
                                <a:pt x="0" y="2065"/>
                              </a:lnTo>
                              <a:lnTo>
                                <a:pt x="410" y="2061"/>
                              </a:lnTo>
                              <a:lnTo>
                                <a:pt x="410" y="1019"/>
                              </a:lnTo>
                              <a:lnTo>
                                <a:pt x="834" y="1019"/>
                              </a:lnTo>
                              <a:lnTo>
                                <a:pt x="834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1dc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2" name=""/>
                        <p:cNvSpPr/>
                        <p:nvPr/>
                      </p:nvSpPr>
                      <p:spPr>
                        <a:xfrm flipV="1">
                          <a:off x="2994120" y="4495680"/>
                          <a:ext cx="0" cy="366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custDash>
                            <a:ds d="100000" sp="100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3" name=""/>
                      <p:cNvSpPr txBox="1"/>
                      <p:nvPr/>
                    </p:nvSpPr>
                    <p:spPr>
                      <a:xfrm>
                        <a:off x="2168640" y="4525920"/>
                        <a:ext cx="312840" cy="730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C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4" name=""/>
                      <p:cNvSpPr txBox="1"/>
                      <p:nvPr/>
                    </p:nvSpPr>
                    <p:spPr>
                      <a:xfrm>
                        <a:off x="2754360" y="4525920"/>
                        <a:ext cx="312840" cy="730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C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4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315" name=""/>
                      <p:cNvGrpSpPr/>
                      <p:nvPr/>
                    </p:nvGrpSpPr>
                    <p:grpSpPr>
                      <a:xfrm>
                        <a:off x="3429000" y="4495680"/>
                        <a:ext cx="302040" cy="743400"/>
                        <a:chOff x="3429000" y="4495680"/>
                        <a:chExt cx="302040" cy="743400"/>
                      </a:xfrm>
                    </p:grpSpPr>
                    <p:sp>
                      <p:nvSpPr>
                        <p:cNvPr id="1316" name=""/>
                        <p:cNvSpPr/>
                        <p:nvPr/>
                      </p:nvSpPr>
                      <p:spPr>
                        <a:xfrm>
                          <a:off x="3429000" y="4495680"/>
                          <a:ext cx="302040" cy="7434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39" h="2065">
                              <a:moveTo>
                                <a:pt x="0" y="0"/>
                              </a:moveTo>
                              <a:lnTo>
                                <a:pt x="0" y="2065"/>
                              </a:lnTo>
                              <a:lnTo>
                                <a:pt x="415" y="2061"/>
                              </a:lnTo>
                              <a:lnTo>
                                <a:pt x="415" y="1019"/>
                              </a:lnTo>
                              <a:lnTo>
                                <a:pt x="839" y="1019"/>
                              </a:lnTo>
                              <a:lnTo>
                                <a:pt x="839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1dc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7" name=""/>
                        <p:cNvSpPr/>
                        <p:nvPr/>
                      </p:nvSpPr>
                      <p:spPr>
                        <a:xfrm flipV="1">
                          <a:off x="3576600" y="4495680"/>
                          <a:ext cx="0" cy="3668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custDash>
                            <a:ds d="100000" sp="100000"/>
                          </a:custDash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18" name=""/>
                      <p:cNvSpPr txBox="1"/>
                      <p:nvPr/>
                    </p:nvSpPr>
                    <p:spPr>
                      <a:xfrm>
                        <a:off x="3348000" y="4525920"/>
                        <a:ext cx="312840" cy="730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D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C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5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9" name=""/>
                      <p:cNvSpPr txBox="1"/>
                      <p:nvPr/>
                    </p:nvSpPr>
                    <p:spPr>
                      <a:xfrm>
                        <a:off x="628560" y="4851360"/>
                        <a:ext cx="345456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AC       AC       AC       AC       AC       AC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0" name=""/>
                      <p:cNvSpPr txBox="1"/>
                      <p:nvPr/>
                    </p:nvSpPr>
                    <p:spPr>
                      <a:xfrm>
                        <a:off x="595440" y="4286160"/>
                        <a:ext cx="40176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Y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"/>
                      <p:cNvSpPr txBox="1"/>
                      <p:nvPr/>
                    </p:nvSpPr>
                    <p:spPr>
                      <a:xfrm>
                        <a:off x="1208160" y="4286160"/>
                        <a:ext cx="40176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Y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2" name=""/>
                      <p:cNvSpPr txBox="1"/>
                      <p:nvPr/>
                    </p:nvSpPr>
                    <p:spPr>
                      <a:xfrm>
                        <a:off x="1770120" y="4286160"/>
                        <a:ext cx="40176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Y2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3" name=""/>
                      <p:cNvSpPr txBox="1"/>
                      <p:nvPr/>
                    </p:nvSpPr>
                    <p:spPr>
                      <a:xfrm>
                        <a:off x="2381400" y="4286160"/>
                        <a:ext cx="40176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Y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4" name=""/>
                      <p:cNvSpPr txBox="1"/>
                      <p:nvPr/>
                    </p:nvSpPr>
                    <p:spPr>
                      <a:xfrm>
                        <a:off x="2989440" y="4286160"/>
                        <a:ext cx="44136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CR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5" name=""/>
                      <p:cNvSpPr txBox="1"/>
                      <p:nvPr/>
                    </p:nvSpPr>
                    <p:spPr>
                      <a:xfrm>
                        <a:off x="3570120" y="4286160"/>
                        <a:ext cx="44136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CB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6" name=""/>
                    <p:cNvSpPr txBox="1"/>
                    <p:nvPr/>
                  </p:nvSpPr>
                  <p:spPr>
                    <a:xfrm>
                      <a:off x="6858000" y="4651200"/>
                      <a:ext cx="91584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27" name=""/>
                    <p:cNvGrpSpPr/>
                    <p:nvPr/>
                  </p:nvGrpSpPr>
                  <p:grpSpPr>
                    <a:xfrm>
                      <a:off x="8143920" y="4314960"/>
                      <a:ext cx="1838160" cy="685440"/>
                      <a:chOff x="8143920" y="4314960"/>
                      <a:chExt cx="1838160" cy="685440"/>
                    </a:xfrm>
                  </p:grpSpPr>
                  <p:sp>
                    <p:nvSpPr>
                      <p:cNvPr id="1328" name=""/>
                      <p:cNvSpPr txBox="1"/>
                      <p:nvPr/>
                    </p:nvSpPr>
                    <p:spPr>
                      <a:xfrm>
                        <a:off x="8221680" y="4667400"/>
                        <a:ext cx="18432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99"/>
                          </a:spcBef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9" name=""/>
                      <p:cNvSpPr/>
                      <p:nvPr/>
                    </p:nvSpPr>
                    <p:spPr>
                      <a:xfrm>
                        <a:off x="8143920" y="4581360"/>
                        <a:ext cx="1817640" cy="419040"/>
                      </a:xfrm>
                      <a:prstGeom prst="rect">
                        <a:avLst/>
                      </a:prstGeom>
                      <a:solidFill>
                        <a:srgbClr val="98b6fe"/>
                      </a:solidFill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"/>
                      <p:cNvSpPr/>
                      <p:nvPr/>
                    </p:nvSpPr>
                    <p:spPr>
                      <a:xfrm>
                        <a:off x="8504280" y="4581360"/>
                        <a:ext cx="0" cy="4003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1" name=""/>
                      <p:cNvSpPr/>
                      <p:nvPr/>
                    </p:nvSpPr>
                    <p:spPr>
                      <a:xfrm>
                        <a:off x="8629560" y="4648320"/>
                        <a:ext cx="135252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2" name=""/>
                      <p:cNvSpPr txBox="1"/>
                      <p:nvPr/>
                    </p:nvSpPr>
                    <p:spPr>
                      <a:xfrm>
                        <a:off x="8163000" y="4651200"/>
                        <a:ext cx="28260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3" name=""/>
                      <p:cNvSpPr txBox="1"/>
                      <p:nvPr/>
                    </p:nvSpPr>
                    <p:spPr>
                      <a:xfrm>
                        <a:off x="8302680" y="4314960"/>
                        <a:ext cx="15908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99"/>
                          </a:spcBef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DIF packet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34" name=""/>
                    <p:cNvSpPr/>
                    <p:nvPr/>
                  </p:nvSpPr>
                  <p:spPr>
                    <a:xfrm>
                      <a:off x="9963000" y="4600440"/>
                      <a:ext cx="171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custDash>
                        <a:ds d="202857" sp="2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5" name=""/>
                    <p:cNvSpPr/>
                    <p:nvPr/>
                  </p:nvSpPr>
                  <p:spPr>
                    <a:xfrm>
                      <a:off x="9982080" y="4981680"/>
                      <a:ext cx="171720" cy="0"/>
                    </a:xfrm>
                    <a:prstGeom prst="line">
                      <a:avLst/>
                    </a:prstGeom>
                    <a:ln w="12600">
                      <a:solidFill>
                        <a:srgbClr val="fafd00"/>
                      </a:solidFill>
                      <a:custDash>
                        <a:ds d="202857" sp="202857"/>
                      </a:custDash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6" name=""/>
                    <p:cNvSpPr txBox="1"/>
                    <p:nvPr/>
                  </p:nvSpPr>
                  <p:spPr>
                    <a:xfrm>
                      <a:off x="8772480" y="4641840"/>
                      <a:ext cx="91584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7" name=""/>
                    <p:cNvGrpSpPr/>
                    <p:nvPr/>
                  </p:nvGrpSpPr>
                  <p:grpSpPr>
                    <a:xfrm>
                      <a:off x="5607000" y="1155600"/>
                      <a:ext cx="4132440" cy="702000"/>
                      <a:chOff x="5607000" y="1155600"/>
                      <a:chExt cx="4132440" cy="702000"/>
                    </a:xfrm>
                  </p:grpSpPr>
                  <p:sp>
                    <p:nvSpPr>
                      <p:cNvPr id="1338" name=""/>
                      <p:cNvSpPr/>
                      <p:nvPr/>
                    </p:nvSpPr>
                    <p:spPr>
                      <a:xfrm>
                        <a:off x="5610240" y="1438200"/>
                        <a:ext cx="1790640" cy="419040"/>
                      </a:xfrm>
                      <a:prstGeom prst="rect">
                        <a:avLst/>
                      </a:prstGeom>
                      <a:solidFill>
                        <a:srgbClr val="98b6fe"/>
                      </a:solidFill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9" name=""/>
                      <p:cNvSpPr txBox="1"/>
                      <p:nvPr/>
                    </p:nvSpPr>
                    <p:spPr>
                      <a:xfrm>
                        <a:off x="5607000" y="1171440"/>
                        <a:ext cx="15908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99"/>
                          </a:spcBef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DV packet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0" name=""/>
                      <p:cNvSpPr/>
                      <p:nvPr/>
                    </p:nvSpPr>
                    <p:spPr>
                      <a:xfrm>
                        <a:off x="6016680" y="1441440"/>
                        <a:ext cx="0" cy="39996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"/>
                      <p:cNvSpPr txBox="1"/>
                      <p:nvPr/>
                    </p:nvSpPr>
                    <p:spPr>
                      <a:xfrm>
                        <a:off x="6064200" y="1498680"/>
                        <a:ext cx="9842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99"/>
                          </a:spcBef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77Bytes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"/>
                      <p:cNvSpPr txBox="1"/>
                      <p:nvPr/>
                    </p:nvSpPr>
                    <p:spPr>
                      <a:xfrm>
                        <a:off x="5681520" y="1495440"/>
                        <a:ext cx="28260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"/>
                      <p:cNvSpPr/>
                      <p:nvPr/>
                    </p:nvSpPr>
                    <p:spPr>
                      <a:xfrm>
                        <a:off x="7070760" y="1450800"/>
                        <a:ext cx="0" cy="40032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"/>
                      <p:cNvSpPr txBox="1"/>
                      <p:nvPr/>
                    </p:nvSpPr>
                    <p:spPr>
                      <a:xfrm>
                        <a:off x="7088040" y="1488960"/>
                        <a:ext cx="28260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4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"/>
                      <p:cNvSpPr/>
                      <p:nvPr/>
                    </p:nvSpPr>
                    <p:spPr>
                      <a:xfrm>
                        <a:off x="7400880" y="1438200"/>
                        <a:ext cx="1790640" cy="419040"/>
                      </a:xfrm>
                      <a:prstGeom prst="rect">
                        <a:avLst/>
                      </a:prstGeom>
                      <a:solidFill>
                        <a:srgbClr val="98b6fe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6" name=""/>
                      <p:cNvSpPr txBox="1"/>
                      <p:nvPr/>
                    </p:nvSpPr>
                    <p:spPr>
                      <a:xfrm>
                        <a:off x="7618320" y="1508040"/>
                        <a:ext cx="128124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Empty space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7" name=""/>
                      <p:cNvSpPr/>
                      <p:nvPr/>
                    </p:nvSpPr>
                    <p:spPr>
                      <a:xfrm>
                        <a:off x="9191520" y="1438200"/>
                        <a:ext cx="429120" cy="4194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92" h="1165">
                            <a:moveTo>
                              <a:pt x="1192" y="0"/>
                            </a:moveTo>
                            <a:lnTo>
                              <a:pt x="0" y="26"/>
                            </a:lnTo>
                            <a:lnTo>
                              <a:pt x="0" y="1165"/>
                            </a:lnTo>
                            <a:lnTo>
                              <a:pt x="1166" y="1138"/>
                            </a:lnTo>
                            <a:lnTo>
                              <a:pt x="1192" y="0"/>
                            </a:lnTo>
                            <a:close/>
                          </a:path>
                        </a:pathLst>
                      </a:custGeom>
                      <a:solidFill>
                        <a:srgbClr val="9ab8fe"/>
                      </a:solidFill>
                      <a:ln w="2556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"/>
                      <p:cNvSpPr txBox="1"/>
                      <p:nvPr/>
                    </p:nvSpPr>
                    <p:spPr>
                      <a:xfrm>
                        <a:off x="9159840" y="1155600"/>
                        <a:ext cx="57960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fafd00"/>
                            </a:solidFill>
                            <a:latin typeface="Arial"/>
                            <a:ea typeface="Arial"/>
                          </a:rPr>
                          <a:t>DV...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"/>
                      <p:cNvSpPr txBox="1"/>
                      <p:nvPr/>
                    </p:nvSpPr>
                    <p:spPr>
                      <a:xfrm>
                        <a:off x="9231480" y="1498680"/>
                        <a:ext cx="282600" cy="30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Arial"/>
                            <a:ea typeface="Arial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350" name=""/>
              <p:cNvSpPr txBox="1"/>
              <p:nvPr/>
            </p:nvSpPr>
            <p:spPr>
              <a:xfrm>
                <a:off x="870120" y="4057560"/>
                <a:ext cx="25970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77 Bytes Payloa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1" name=""/>
            <p:cNvSpPr txBox="1"/>
            <p:nvPr/>
          </p:nvSpPr>
          <p:spPr>
            <a:xfrm>
              <a:off x="7370640" y="4060800"/>
              <a:ext cx="1566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A/V Data Str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2892600" y="6014880"/>
            <a:ext cx="450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Bus Structure in 525/60 TV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927000" y="1185840"/>
            <a:ext cx="8428320" cy="4424040"/>
            <a:chOff x="927000" y="1185840"/>
            <a:chExt cx="8428320" cy="4424040"/>
          </a:xfrm>
        </p:grpSpPr>
        <p:grpSp>
          <p:nvGrpSpPr>
            <p:cNvPr id="1354" name=""/>
            <p:cNvGrpSpPr/>
            <p:nvPr/>
          </p:nvGrpSpPr>
          <p:grpSpPr>
            <a:xfrm>
              <a:off x="3981600" y="3767040"/>
              <a:ext cx="3627360" cy="1842840"/>
              <a:chOff x="3981600" y="3767040"/>
              <a:chExt cx="3627360" cy="1842840"/>
            </a:xfrm>
          </p:grpSpPr>
          <p:sp>
            <p:nvSpPr>
              <p:cNvPr id="1355" name=""/>
              <p:cNvSpPr/>
              <p:nvPr/>
            </p:nvSpPr>
            <p:spPr>
              <a:xfrm>
                <a:off x="4010040" y="3782880"/>
                <a:ext cx="3540240" cy="137160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 txBox="1"/>
              <p:nvPr/>
            </p:nvSpPr>
            <p:spPr>
              <a:xfrm>
                <a:off x="3981600" y="3767040"/>
                <a:ext cx="3627360" cy="18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2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D [7:0]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, 8 bits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DE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 enable sig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DCK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 clock, 9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QUIE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art 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056200" y="3792600"/>
                <a:ext cx="0" cy="135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4016520" y="4135320"/>
                <a:ext cx="35226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021200" y="4476600"/>
                <a:ext cx="351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V="1">
                <a:off x="4016520" y="4827600"/>
                <a:ext cx="352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2217600" y="2174760"/>
              <a:ext cx="7137720" cy="295560"/>
            </a:xfrm>
            <a:custGeom>
              <a:avLst/>
              <a:gdLst/>
              <a:ahLst/>
              <a:rect l="0" t="0" r="r" b="b"/>
              <a:pathLst>
                <a:path fill="none" w="19827" h="821">
                  <a:moveTo>
                    <a:pt x="0" y="821"/>
                  </a:moveTo>
                  <a:lnTo>
                    <a:pt x="458" y="821"/>
                  </a:lnTo>
                  <a:lnTo>
                    <a:pt x="458" y="0"/>
                  </a:lnTo>
                  <a:lnTo>
                    <a:pt x="670" y="0"/>
                  </a:lnTo>
                  <a:lnTo>
                    <a:pt x="670" y="821"/>
                  </a:lnTo>
                  <a:lnTo>
                    <a:pt x="18204" y="821"/>
                  </a:lnTo>
                  <a:lnTo>
                    <a:pt x="18204" y="0"/>
                  </a:lnTo>
                  <a:lnTo>
                    <a:pt x="18451" y="0"/>
                  </a:lnTo>
                  <a:lnTo>
                    <a:pt x="18451" y="821"/>
                  </a:lnTo>
                  <a:lnTo>
                    <a:pt x="19827" y="821"/>
                  </a:lnTo>
                </a:path>
              </a:pathLst>
            </a:custGeom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471760" y="2835360"/>
              <a:ext cx="3162600" cy="305280"/>
            </a:xfrm>
            <a:custGeom>
              <a:avLst/>
              <a:gdLst/>
              <a:ahLst/>
              <a:rect l="0" t="0" r="r" b="b"/>
              <a:pathLst>
                <a:path w="8785" h="848">
                  <a:moveTo>
                    <a:pt x="8785" y="848"/>
                  </a:moveTo>
                  <a:lnTo>
                    <a:pt x="0" y="848"/>
                  </a:lnTo>
                  <a:lnTo>
                    <a:pt x="0" y="0"/>
                  </a:lnTo>
                  <a:lnTo>
                    <a:pt x="8749" y="0"/>
                  </a:lnTo>
                  <a:lnTo>
                    <a:pt x="8785" y="848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138480" y="2835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516560" y="2835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24280" y="2835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202360" y="2835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62880" y="2835360"/>
              <a:ext cx="1924560" cy="305280"/>
            </a:xfrm>
            <a:custGeom>
              <a:avLst/>
              <a:gdLst/>
              <a:ahLst/>
              <a:rect l="0" t="0" r="r" b="b"/>
              <a:pathLst>
                <a:path w="5346" h="848">
                  <a:moveTo>
                    <a:pt x="0" y="848"/>
                  </a:moveTo>
                  <a:lnTo>
                    <a:pt x="5346" y="848"/>
                  </a:lnTo>
                  <a:lnTo>
                    <a:pt x="5346" y="0"/>
                  </a:lnTo>
                  <a:lnTo>
                    <a:pt x="2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920000" y="28414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234200" y="28414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678640" y="2835360"/>
              <a:ext cx="92700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684760" y="3139920"/>
              <a:ext cx="92700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 txBox="1"/>
            <p:nvPr/>
          </p:nvSpPr>
          <p:spPr>
            <a:xfrm>
              <a:off x="2470320" y="2843280"/>
              <a:ext cx="6199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T0    SCT1     SCT2     SCT3                                               SCT8   SCT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3" name=""/>
            <p:cNvGrpSpPr/>
            <p:nvPr/>
          </p:nvGrpSpPr>
          <p:grpSpPr>
            <a:xfrm>
              <a:off x="2357280" y="1692360"/>
              <a:ext cx="6387120" cy="321120"/>
              <a:chOff x="2357280" y="1692360"/>
              <a:chExt cx="6387120" cy="321120"/>
            </a:xfrm>
          </p:grpSpPr>
          <p:sp>
            <p:nvSpPr>
              <p:cNvPr id="1374" name=""/>
              <p:cNvSpPr/>
              <p:nvPr/>
            </p:nvSpPr>
            <p:spPr>
              <a:xfrm>
                <a:off x="5551560" y="1692360"/>
                <a:ext cx="3192840" cy="321120"/>
              </a:xfrm>
              <a:custGeom>
                <a:avLst/>
                <a:gdLst/>
                <a:ahLst/>
                <a:rect l="0" t="0" r="r" b="b"/>
                <a:pathLst>
                  <a:path fill="none" w="8869" h="892">
                    <a:moveTo>
                      <a:pt x="0" y="0"/>
                    </a:moveTo>
                    <a:lnTo>
                      <a:pt x="0" y="892"/>
                    </a:lnTo>
                    <a:lnTo>
                      <a:pt x="8869" y="892"/>
                    </a:lnTo>
                    <a:lnTo>
                      <a:pt x="8869" y="0"/>
                    </a:ln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357280" y="1692360"/>
                <a:ext cx="3194280" cy="321120"/>
              </a:xfrm>
              <a:custGeom>
                <a:avLst/>
                <a:gdLst/>
                <a:ahLst/>
                <a:rect l="0" t="0" r="r" b="b"/>
                <a:pathLst>
                  <a:path fill="none" w="8873" h="892">
                    <a:moveTo>
                      <a:pt x="0" y="892"/>
                    </a:moveTo>
                    <a:lnTo>
                      <a:pt x="0" y="0"/>
                    </a:lnTo>
                    <a:lnTo>
                      <a:pt x="8873" y="0"/>
                    </a:lnTo>
                    <a:lnTo>
                      <a:pt x="8873" y="892"/>
                    </a:ln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 flipV="1">
              <a:off x="2357280" y="1305000"/>
              <a:ext cx="0" cy="2905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8744040" y="1327320"/>
              <a:ext cx="0" cy="2905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355840" y="1463760"/>
              <a:ext cx="6383520" cy="32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599320" y="1428840"/>
              <a:ext cx="135360" cy="66960"/>
            </a:xfrm>
            <a:custGeom>
              <a:avLst/>
              <a:gdLst/>
              <a:ahLst/>
              <a:rect l="0" t="0" r="r" b="b"/>
              <a:pathLst>
                <a:path w="376" h="186">
                  <a:moveTo>
                    <a:pt x="0" y="0"/>
                  </a:moveTo>
                  <a:lnTo>
                    <a:pt x="0" y="186"/>
                  </a:lnTo>
                  <a:lnTo>
                    <a:pt x="37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90760" y="1433520"/>
              <a:ext cx="135360" cy="66960"/>
            </a:xfrm>
            <a:custGeom>
              <a:avLst/>
              <a:gdLst/>
              <a:ahLst/>
              <a:rect l="0" t="0" r="r" b="b"/>
              <a:pathLst>
                <a:path w="376" h="186">
                  <a:moveTo>
                    <a:pt x="376" y="0"/>
                  </a:moveTo>
                  <a:lnTo>
                    <a:pt x="376" y="186"/>
                  </a:lnTo>
                  <a:lnTo>
                    <a:pt x="0" y="88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 txBox="1"/>
            <p:nvPr/>
          </p:nvSpPr>
          <p:spPr>
            <a:xfrm>
              <a:off x="5060880" y="1185840"/>
              <a:ext cx="974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/30 s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 txBox="1"/>
            <p:nvPr/>
          </p:nvSpPr>
          <p:spPr>
            <a:xfrm>
              <a:off x="927000" y="1719360"/>
              <a:ext cx="1359000" cy="141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Frame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BQIU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    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2036880" y="6000840"/>
            <a:ext cx="619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Data Format of 25Mb/s Video+Audio+Data (525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298440" y="1092240"/>
            <a:ext cx="8985600" cy="4668840"/>
            <a:chOff x="298440" y="1092240"/>
            <a:chExt cx="8985600" cy="4668840"/>
          </a:xfrm>
        </p:grpSpPr>
        <p:grpSp>
          <p:nvGrpSpPr>
            <p:cNvPr id="1385" name=""/>
            <p:cNvGrpSpPr/>
            <p:nvPr/>
          </p:nvGrpSpPr>
          <p:grpSpPr>
            <a:xfrm>
              <a:off x="2100240" y="1092240"/>
              <a:ext cx="3162600" cy="305280"/>
              <a:chOff x="2100240" y="1092240"/>
              <a:chExt cx="3162600" cy="305280"/>
            </a:xfrm>
          </p:grpSpPr>
          <p:sp>
            <p:nvSpPr>
              <p:cNvPr id="1386" name=""/>
              <p:cNvSpPr/>
              <p:nvPr/>
            </p:nvSpPr>
            <p:spPr>
              <a:xfrm>
                <a:off x="2100240" y="1092240"/>
                <a:ext cx="3162600" cy="305280"/>
              </a:xfrm>
              <a:custGeom>
                <a:avLst/>
                <a:gdLst/>
                <a:ahLst/>
                <a:rect l="0" t="0" r="r" b="b"/>
                <a:pathLst>
                  <a:path w="8785" h="848">
                    <a:moveTo>
                      <a:pt x="8785" y="848"/>
                    </a:moveTo>
                    <a:lnTo>
                      <a:pt x="0" y="848"/>
                    </a:lnTo>
                    <a:lnTo>
                      <a:pt x="0" y="0"/>
                    </a:lnTo>
                    <a:lnTo>
                      <a:pt x="8749" y="0"/>
                    </a:lnTo>
                    <a:lnTo>
                      <a:pt x="8785" y="848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76696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14504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45276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83084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1" name=""/>
            <p:cNvSpPr/>
            <p:nvPr/>
          </p:nvSpPr>
          <p:spPr>
            <a:xfrm>
              <a:off x="6291360" y="1092240"/>
              <a:ext cx="1924560" cy="305280"/>
            </a:xfrm>
            <a:custGeom>
              <a:avLst/>
              <a:gdLst/>
              <a:ahLst/>
              <a:rect l="0" t="0" r="r" b="b"/>
              <a:pathLst>
                <a:path w="5346" h="848">
                  <a:moveTo>
                    <a:pt x="0" y="848"/>
                  </a:moveTo>
                  <a:lnTo>
                    <a:pt x="5346" y="848"/>
                  </a:lnTo>
                  <a:lnTo>
                    <a:pt x="5346" y="0"/>
                  </a:lnTo>
                  <a:lnTo>
                    <a:pt x="2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548480" y="10987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862680" y="10987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307120" y="1092240"/>
              <a:ext cx="92700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313240" y="1397160"/>
              <a:ext cx="92736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 txBox="1"/>
            <p:nvPr/>
          </p:nvSpPr>
          <p:spPr>
            <a:xfrm>
              <a:off x="2135160" y="1106640"/>
              <a:ext cx="6199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T0    SCT1     SCT2     SCT3                                              SCT8    SCT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7" name=""/>
            <p:cNvGrpSpPr/>
            <p:nvPr/>
          </p:nvGrpSpPr>
          <p:grpSpPr>
            <a:xfrm>
              <a:off x="2052720" y="1874880"/>
              <a:ext cx="5242320" cy="336600"/>
              <a:chOff x="2052720" y="1874880"/>
              <a:chExt cx="5242320" cy="336600"/>
            </a:xfrm>
          </p:grpSpPr>
          <p:sp>
            <p:nvSpPr>
              <p:cNvPr id="1398" name=""/>
              <p:cNvSpPr/>
              <p:nvPr/>
            </p:nvSpPr>
            <p:spPr>
              <a:xfrm>
                <a:off x="2052720" y="1892160"/>
                <a:ext cx="5242320" cy="298800"/>
              </a:xfrm>
              <a:custGeom>
                <a:avLst/>
                <a:gdLst/>
                <a:ahLst/>
                <a:rect l="0" t="0" r="r" b="b"/>
                <a:pathLst>
                  <a:path w="14562" h="830">
                    <a:moveTo>
                      <a:pt x="14562" y="830"/>
                    </a:moveTo>
                    <a:lnTo>
                      <a:pt x="0" y="830"/>
                    </a:lnTo>
                    <a:lnTo>
                      <a:pt x="0" y="0"/>
                    </a:lnTo>
                    <a:lnTo>
                      <a:pt x="14505" y="0"/>
                    </a:lnTo>
                    <a:lnTo>
                      <a:pt x="14562" y="830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13848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38164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25448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28964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 txBox="1"/>
              <p:nvPr/>
            </p:nvSpPr>
            <p:spPr>
              <a:xfrm>
                <a:off x="2168640" y="1874880"/>
                <a:ext cx="497520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der      Subcode       VAUX         Audio &amp; Vide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"/>
            <p:cNvSpPr/>
            <p:nvPr/>
          </p:nvSpPr>
          <p:spPr>
            <a:xfrm flipH="1">
              <a:off x="2060640" y="1457280"/>
              <a:ext cx="38160" cy="380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97200" y="1482840"/>
              <a:ext cx="4497480" cy="3175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011240" y="4657680"/>
              <a:ext cx="8268120" cy="1014840"/>
            </a:xfrm>
            <a:custGeom>
              <a:avLst/>
              <a:gdLst/>
              <a:ahLst/>
              <a:rect l="0" t="0" r="r" b="b"/>
              <a:pathLst>
                <a:path w="22967" h="2819">
                  <a:moveTo>
                    <a:pt x="0" y="26"/>
                  </a:moveTo>
                  <a:lnTo>
                    <a:pt x="0" y="2819"/>
                  </a:lnTo>
                  <a:lnTo>
                    <a:pt x="22967" y="2819"/>
                  </a:lnTo>
                  <a:lnTo>
                    <a:pt x="229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1ce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5920" y="2768760"/>
              <a:ext cx="8268120" cy="1222560"/>
            </a:xfrm>
            <a:custGeom>
              <a:avLst/>
              <a:gdLst/>
              <a:ahLst/>
              <a:rect l="0" t="0" r="r" b="b"/>
              <a:pathLst>
                <a:path w="22967" h="3396">
                  <a:moveTo>
                    <a:pt x="0" y="3365"/>
                  </a:moveTo>
                  <a:lnTo>
                    <a:pt x="0" y="0"/>
                  </a:lnTo>
                  <a:lnTo>
                    <a:pt x="22967" y="0"/>
                  </a:lnTo>
                  <a:lnTo>
                    <a:pt x="22967" y="3396"/>
                  </a:lnTo>
                  <a:lnTo>
                    <a:pt x="0" y="3365"/>
                  </a:lnTo>
                  <a:close/>
                </a:path>
              </a:pathLst>
            </a:custGeom>
            <a:solidFill>
              <a:srgbClr val="c1ce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 txBox="1"/>
            <p:nvPr/>
          </p:nvSpPr>
          <p:spPr>
            <a:xfrm>
              <a:off x="950760" y="2739960"/>
              <a:ext cx="839880" cy="302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427120" y="2722680"/>
              <a:ext cx="65880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798720" y="2709720"/>
              <a:ext cx="65880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57720" y="2709720"/>
              <a:ext cx="65880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541920" y="2709720"/>
              <a:ext cx="65880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1022400" y="4824360"/>
              <a:ext cx="82422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1022400" y="5114880"/>
              <a:ext cx="82422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1022400" y="5400720"/>
              <a:ext cx="82422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1022400" y="3892680"/>
              <a:ext cx="82422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1022400" y="3314880"/>
              <a:ext cx="82422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1022400" y="3594240"/>
              <a:ext cx="82422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1028880" y="3022560"/>
              <a:ext cx="82422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0028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0028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700280" y="4029120"/>
              <a:ext cx="0" cy="6332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395440" y="27669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95440" y="46386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395440" y="4024440"/>
              <a:ext cx="0" cy="6332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08124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08124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081240" y="4029120"/>
              <a:ext cx="0" cy="6476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76704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76704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762360" y="4029120"/>
              <a:ext cx="4680" cy="64296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3864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13864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38640" y="4010040"/>
              <a:ext cx="0" cy="65736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46256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6256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462560" y="4024440"/>
              <a:ext cx="0" cy="63792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81508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81508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815080" y="4024440"/>
              <a:ext cx="0" cy="64296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50088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50088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500880" y="4024440"/>
              <a:ext cx="0" cy="6620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18668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18668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182000" y="4019400"/>
              <a:ext cx="4680" cy="6620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9156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9156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91560" y="4019400"/>
              <a:ext cx="0" cy="65268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56764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56764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567640" y="4014720"/>
              <a:ext cx="0" cy="6476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9277200" y="4010040"/>
              <a:ext cx="0" cy="60948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014480" y="4019400"/>
              <a:ext cx="0" cy="6098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1028880" y="2190600"/>
              <a:ext cx="952200" cy="5382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53360" y="2171880"/>
              <a:ext cx="1876320" cy="4856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 txBox="1"/>
            <p:nvPr/>
          </p:nvSpPr>
          <p:spPr>
            <a:xfrm>
              <a:off x="2341440" y="2724120"/>
              <a:ext cx="839880" cy="299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 txBox="1"/>
            <p:nvPr/>
          </p:nvSpPr>
          <p:spPr>
            <a:xfrm>
              <a:off x="3693960" y="2724120"/>
              <a:ext cx="839880" cy="299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 txBox="1"/>
            <p:nvPr/>
          </p:nvSpPr>
          <p:spPr>
            <a:xfrm>
              <a:off x="5052960" y="2724120"/>
              <a:ext cx="839880" cy="299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 txBox="1"/>
            <p:nvPr/>
          </p:nvSpPr>
          <p:spPr>
            <a:xfrm>
              <a:off x="6432480" y="2736720"/>
              <a:ext cx="839880" cy="299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 txBox="1"/>
            <p:nvPr/>
          </p:nvSpPr>
          <p:spPr>
            <a:xfrm>
              <a:off x="7785000" y="2733840"/>
              <a:ext cx="91440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"/>
            <p:cNvGrpSpPr/>
            <p:nvPr/>
          </p:nvGrpSpPr>
          <p:grpSpPr>
            <a:xfrm>
              <a:off x="324000" y="1490760"/>
              <a:ext cx="1447920" cy="304920"/>
              <a:chOff x="324000" y="1490760"/>
              <a:chExt cx="1447920" cy="304920"/>
            </a:xfrm>
          </p:grpSpPr>
          <p:sp>
            <p:nvSpPr>
              <p:cNvPr id="1463" name=""/>
              <p:cNvSpPr/>
              <p:nvPr/>
            </p:nvSpPr>
            <p:spPr>
              <a:xfrm>
                <a:off x="324000" y="1490760"/>
                <a:ext cx="1447920" cy="30492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47640" y="149868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5" name=""/>
            <p:cNvSpPr txBox="1"/>
            <p:nvPr/>
          </p:nvSpPr>
          <p:spPr>
            <a:xfrm>
              <a:off x="353880" y="1496880"/>
              <a:ext cx="2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 txBox="1"/>
            <p:nvPr/>
          </p:nvSpPr>
          <p:spPr>
            <a:xfrm>
              <a:off x="938160" y="1503360"/>
              <a:ext cx="382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 txBox="1"/>
            <p:nvPr/>
          </p:nvSpPr>
          <p:spPr>
            <a:xfrm>
              <a:off x="298440" y="1212840"/>
              <a:ext cx="1488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 Data Pa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 txBox="1"/>
          <p:nvPr/>
        </p:nvSpPr>
        <p:spPr>
          <a:xfrm>
            <a:off x="171360" y="3632040"/>
            <a:ext cx="1673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4:2:2 video I/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695600" y="1390680"/>
            <a:ext cx="4133880" cy="314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a2c1f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809720" y="3276720"/>
            <a:ext cx="1523880" cy="1143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809720" y="1504800"/>
            <a:ext cx="152388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066080" y="3276720"/>
            <a:ext cx="1523880" cy="114300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4172040" y="3276720"/>
            <a:ext cx="1523880" cy="1143000"/>
            <a:chOff x="4172040" y="3276720"/>
            <a:chExt cx="1523880" cy="1143000"/>
          </a:xfrm>
        </p:grpSpPr>
        <p:sp>
          <p:nvSpPr>
            <p:cNvPr id="1474" name=""/>
            <p:cNvSpPr/>
            <p:nvPr/>
          </p:nvSpPr>
          <p:spPr>
            <a:xfrm>
              <a:off x="4172040" y="3276720"/>
              <a:ext cx="1523880" cy="1143000"/>
            </a:xfrm>
            <a:prstGeom prst="rect">
              <a:avLst/>
            </a:prstGeom>
            <a:gradFill rotWithShape="0">
              <a:gsLst>
                <a:gs pos="0">
                  <a:srgbClr val="a2c1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 txBox="1"/>
            <p:nvPr/>
          </p:nvSpPr>
          <p:spPr>
            <a:xfrm>
              <a:off x="4243320" y="3675240"/>
              <a:ext cx="1380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mpres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6" name=""/>
          <p:cNvSpPr txBox="1"/>
          <p:nvPr/>
        </p:nvSpPr>
        <p:spPr>
          <a:xfrm>
            <a:off x="2125800" y="3560760"/>
            <a:ext cx="873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25Mb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Shuff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2117880" y="1819440"/>
            <a:ext cx="963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961920" y="4181400"/>
            <a:ext cx="847800" cy="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324240" y="3867120"/>
            <a:ext cx="847800" cy="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571840" y="2657520"/>
            <a:ext cx="0" cy="61416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676840" y="3848040"/>
            <a:ext cx="1400400" cy="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221600" y="3551400"/>
            <a:ext cx="1235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DIF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forma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601120" y="3857760"/>
            <a:ext cx="1114560" cy="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952560" y="3600360"/>
            <a:ext cx="847800" cy="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8678880" y="3105000"/>
            <a:ext cx="13795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DIF 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1394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6005520" y="3279600"/>
            <a:ext cx="8650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DV 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381720" y="3886200"/>
            <a:ext cx="3277080" cy="1200600"/>
          </a:xfrm>
          <a:custGeom>
            <a:avLst/>
            <a:gdLst/>
            <a:ahLst/>
            <a:rect l="0" t="0" r="r" b="b"/>
            <a:pathLst>
              <a:path fill="none" w="9103" h="3335">
                <a:moveTo>
                  <a:pt x="0" y="0"/>
                </a:moveTo>
                <a:lnTo>
                  <a:pt x="0" y="3335"/>
                </a:lnTo>
                <a:lnTo>
                  <a:pt x="9103" y="3335"/>
                </a:ln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7602480" y="4746600"/>
            <a:ext cx="217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to / from record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610080" y="2171520"/>
            <a:ext cx="1905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DV 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033720" y="6000840"/>
            <a:ext cx="419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25Mb/s DV Codec and DIF Forma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 txBox="1"/>
          <p:nvPr/>
        </p:nvSpPr>
        <p:spPr>
          <a:xfrm>
            <a:off x="1179360" y="6000840"/>
            <a:ext cx="7907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Data - DIF Format Sequence of 25Mb/s Video+Audio+Data (525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460440" y="1092240"/>
            <a:ext cx="9556920" cy="4662360"/>
            <a:chOff x="460440" y="1092240"/>
            <a:chExt cx="9556920" cy="4662360"/>
          </a:xfrm>
        </p:grpSpPr>
        <p:grpSp>
          <p:nvGrpSpPr>
            <p:cNvPr id="1493" name=""/>
            <p:cNvGrpSpPr/>
            <p:nvPr/>
          </p:nvGrpSpPr>
          <p:grpSpPr>
            <a:xfrm>
              <a:off x="1373040" y="1092240"/>
              <a:ext cx="7561800" cy="4662360"/>
              <a:chOff x="1373040" y="1092240"/>
              <a:chExt cx="7561800" cy="4662360"/>
            </a:xfrm>
          </p:grpSpPr>
          <p:grpSp>
            <p:nvGrpSpPr>
              <p:cNvPr id="1494" name=""/>
              <p:cNvGrpSpPr/>
              <p:nvPr/>
            </p:nvGrpSpPr>
            <p:grpSpPr>
              <a:xfrm>
                <a:off x="2462040" y="1092240"/>
                <a:ext cx="3162600" cy="305280"/>
                <a:chOff x="2462040" y="1092240"/>
                <a:chExt cx="3162600" cy="3052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2462040" y="1092240"/>
                  <a:ext cx="3162600" cy="305280"/>
                </a:xfrm>
                <a:custGeom>
                  <a:avLst/>
                  <a:gdLst/>
                  <a:ahLst/>
                  <a:rect l="0" t="0" r="r" b="b"/>
                  <a:pathLst>
                    <a:path w="8785" h="848">
                      <a:moveTo>
                        <a:pt x="8785" y="848"/>
                      </a:moveTo>
                      <a:lnTo>
                        <a:pt x="0" y="848"/>
                      </a:lnTo>
                      <a:lnTo>
                        <a:pt x="0" y="0"/>
                      </a:lnTo>
                      <a:lnTo>
                        <a:pt x="8749" y="0"/>
                      </a:lnTo>
                      <a:lnTo>
                        <a:pt x="8785" y="848"/>
                      </a:lnTo>
                      <a:close/>
                    </a:path>
                  </a:pathLst>
                </a:custGeom>
                <a:solidFill>
                  <a:srgbClr val="c1ce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129120" y="109224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4506840" y="109224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3814920" y="109224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5192640" y="109224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0" name=""/>
              <p:cNvSpPr/>
              <p:nvPr/>
            </p:nvSpPr>
            <p:spPr>
              <a:xfrm>
                <a:off x="6653160" y="1092240"/>
                <a:ext cx="1924560" cy="305280"/>
              </a:xfrm>
              <a:custGeom>
                <a:avLst/>
                <a:gdLst/>
                <a:ahLst/>
                <a:rect l="0" t="0" r="r" b="b"/>
                <a:pathLst>
                  <a:path w="5346" h="848">
                    <a:moveTo>
                      <a:pt x="0" y="848"/>
                    </a:moveTo>
                    <a:lnTo>
                      <a:pt x="5346" y="848"/>
                    </a:lnTo>
                    <a:lnTo>
                      <a:pt x="5346" y="0"/>
                    </a:lnTo>
                    <a:lnTo>
                      <a:pt x="22" y="0"/>
                    </a:lnTo>
                    <a:lnTo>
                      <a:pt x="0" y="848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910640" y="109872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224840" y="109872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668920" y="1092240"/>
                <a:ext cx="9270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675400" y="1397160"/>
                <a:ext cx="9270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 txBox="1"/>
              <p:nvPr/>
            </p:nvSpPr>
            <p:spPr>
              <a:xfrm>
                <a:off x="2496960" y="1106640"/>
                <a:ext cx="61992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T0    SCT1     SCT2     SCT3                                              SCT8    SCT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6" name=""/>
              <p:cNvGrpSpPr/>
              <p:nvPr/>
            </p:nvGrpSpPr>
            <p:grpSpPr>
              <a:xfrm>
                <a:off x="2414520" y="1874880"/>
                <a:ext cx="5242320" cy="336600"/>
                <a:chOff x="2414520" y="1874880"/>
                <a:chExt cx="5242320" cy="33660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2414520" y="1892160"/>
                  <a:ext cx="5242320" cy="298800"/>
                </a:xfrm>
                <a:custGeom>
                  <a:avLst/>
                  <a:gdLst/>
                  <a:ahLst/>
                  <a:rect l="0" t="0" r="r" b="b"/>
                  <a:pathLst>
                    <a:path w="14562" h="830">
                      <a:moveTo>
                        <a:pt x="14562" y="830"/>
                      </a:moveTo>
                      <a:lnTo>
                        <a:pt x="0" y="830"/>
                      </a:lnTo>
                      <a:lnTo>
                        <a:pt x="0" y="0"/>
                      </a:lnTo>
                      <a:lnTo>
                        <a:pt x="14505" y="0"/>
                      </a:lnTo>
                      <a:lnTo>
                        <a:pt x="14562" y="830"/>
                      </a:lnTo>
                      <a:close/>
                    </a:path>
                  </a:pathLst>
                </a:custGeom>
                <a:solidFill>
                  <a:srgbClr val="c1ce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3500280" y="189216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5743440" y="189216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4616280" y="189216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651800" y="1892160"/>
                  <a:ext cx="0" cy="292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 txBox="1"/>
                <p:nvPr/>
              </p:nvSpPr>
              <p:spPr>
                <a:xfrm>
                  <a:off x="2530440" y="1874880"/>
                  <a:ext cx="497520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ader      Subcode       VAUX         Audio &amp; Vide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3" name=""/>
              <p:cNvSpPr/>
              <p:nvPr/>
            </p:nvSpPr>
            <p:spPr>
              <a:xfrm flipH="1">
                <a:off x="2422440" y="1457280"/>
                <a:ext cx="38160" cy="380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159000" y="1482840"/>
                <a:ext cx="4497480" cy="317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373040" y="4657680"/>
                <a:ext cx="7561800" cy="1014840"/>
              </a:xfrm>
              <a:custGeom>
                <a:avLst/>
                <a:gdLst/>
                <a:ahLst/>
                <a:rect l="0" t="0" r="r" b="b"/>
                <a:pathLst>
                  <a:path w="21005" h="2819">
                    <a:moveTo>
                      <a:pt x="0" y="26"/>
                    </a:moveTo>
                    <a:lnTo>
                      <a:pt x="0" y="2819"/>
                    </a:lnTo>
                    <a:lnTo>
                      <a:pt x="21005" y="2819"/>
                    </a:lnTo>
                    <a:lnTo>
                      <a:pt x="21005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c1ce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378080" y="2768760"/>
                <a:ext cx="7556760" cy="1222560"/>
              </a:xfrm>
              <a:custGeom>
                <a:avLst/>
                <a:gdLst/>
                <a:ahLst/>
                <a:rect l="0" t="0" r="r" b="b"/>
                <a:pathLst>
                  <a:path w="20991" h="3396">
                    <a:moveTo>
                      <a:pt x="0" y="3365"/>
                    </a:moveTo>
                    <a:lnTo>
                      <a:pt x="0" y="0"/>
                    </a:lnTo>
                    <a:lnTo>
                      <a:pt x="20991" y="0"/>
                    </a:lnTo>
                    <a:lnTo>
                      <a:pt x="20991" y="3396"/>
                    </a:lnTo>
                    <a:lnTo>
                      <a:pt x="0" y="3365"/>
                    </a:lnTo>
                    <a:close/>
                  </a:path>
                </a:pathLst>
              </a:custGeom>
              <a:solidFill>
                <a:srgbClr val="c1ce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386000" y="3328920"/>
                <a:ext cx="666720" cy="2811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071800" y="4838760"/>
                <a:ext cx="671400" cy="2761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 txBox="1"/>
              <p:nvPr/>
            </p:nvSpPr>
            <p:spPr>
              <a:xfrm>
                <a:off x="2065320" y="272268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 txBox="1"/>
              <p:nvPr/>
            </p:nvSpPr>
            <p:spPr>
              <a:xfrm>
                <a:off x="2789280" y="270972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0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 txBox="1"/>
              <p:nvPr/>
            </p:nvSpPr>
            <p:spPr>
              <a:xfrm>
                <a:off x="3462480" y="270972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0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 txBox="1"/>
              <p:nvPr/>
            </p:nvSpPr>
            <p:spPr>
              <a:xfrm>
                <a:off x="4160880" y="270972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834080" y="3624120"/>
                <a:ext cx="657360" cy="3049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 txBox="1"/>
              <p:nvPr/>
            </p:nvSpPr>
            <p:spPr>
              <a:xfrm>
                <a:off x="4859280" y="270972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1384200" y="4824360"/>
                <a:ext cx="75456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1384200" y="5114880"/>
                <a:ext cx="754056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384200" y="5400720"/>
                <a:ext cx="753588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1389240" y="3938760"/>
                <a:ext cx="75308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1384200" y="3314880"/>
                <a:ext cx="75358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1384200" y="3610080"/>
                <a:ext cx="753588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1390680" y="3043080"/>
                <a:ext cx="75340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062080" y="277164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062080" y="464328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062080" y="4029120"/>
                <a:ext cx="0" cy="633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757600" y="276696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757600" y="463860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757600" y="4024440"/>
                <a:ext cx="0" cy="633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443400" y="278136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443400" y="465300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443400" y="4029120"/>
                <a:ext cx="0" cy="64764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129200" y="278136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129200" y="465300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124160" y="4019400"/>
                <a:ext cx="5040" cy="64296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500800" y="277164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500800" y="464328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500800" y="4010040"/>
                <a:ext cx="0" cy="657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24360" y="277164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824360" y="464328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824360" y="4024440"/>
                <a:ext cx="0" cy="637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176880" y="277164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176880" y="464328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176880" y="4024440"/>
                <a:ext cx="0" cy="64296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 txBox="1"/>
              <p:nvPr/>
            </p:nvSpPr>
            <p:spPr>
              <a:xfrm>
                <a:off x="1409760" y="272556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0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862680" y="278136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862680" y="465300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862680" y="4024440"/>
                <a:ext cx="0" cy="662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548480" y="278136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548480" y="465300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543800" y="4019400"/>
                <a:ext cx="4680" cy="662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253360" y="2781360"/>
                <a:ext cx="0" cy="124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8253360" y="4653000"/>
                <a:ext cx="0" cy="10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253360" y="4019400"/>
                <a:ext cx="0" cy="6526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8929800" y="4014720"/>
                <a:ext cx="0" cy="64764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376280" y="4019400"/>
                <a:ext cx="0" cy="60984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1390680" y="2190600"/>
                <a:ext cx="952560" cy="53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715160" y="2171880"/>
                <a:ext cx="1219320" cy="5713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510160" y="2776680"/>
                <a:ext cx="662040" cy="2570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510160" y="5124600"/>
                <a:ext cx="662040" cy="2667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 txBox="1"/>
              <p:nvPr/>
            </p:nvSpPr>
            <p:spPr>
              <a:xfrm>
                <a:off x="5508720" y="270972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3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0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3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 txBox="1"/>
              <p:nvPr/>
            </p:nvSpPr>
            <p:spPr>
              <a:xfrm>
                <a:off x="6192720" y="270972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3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3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 txBox="1"/>
              <p:nvPr/>
            </p:nvSpPr>
            <p:spPr>
              <a:xfrm>
                <a:off x="6869160" y="270036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3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3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 txBox="1"/>
              <p:nvPr/>
            </p:nvSpPr>
            <p:spPr>
              <a:xfrm>
                <a:off x="7569360" y="270972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3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3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 txBox="1"/>
              <p:nvPr/>
            </p:nvSpPr>
            <p:spPr>
              <a:xfrm>
                <a:off x="8261280" y="2722680"/>
                <a:ext cx="658800" cy="302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2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1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2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13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460440" y="1289160"/>
              <a:ext cx="1711080" cy="593640"/>
              <a:chOff x="460440" y="1289160"/>
              <a:chExt cx="1711080" cy="593640"/>
            </a:xfrm>
          </p:grpSpPr>
          <p:sp>
            <p:nvSpPr>
              <p:cNvPr id="1575" name=""/>
              <p:cNvSpPr txBox="1"/>
              <p:nvPr/>
            </p:nvSpPr>
            <p:spPr>
              <a:xfrm>
                <a:off x="460440" y="1289160"/>
                <a:ext cx="1676520" cy="45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0"/>
                  </a:lnSpc>
                  <a:spcBef>
                    <a:spcPts val="1800"/>
                  </a:spcBef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DIF Packet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"/>
              <p:cNvGrpSpPr/>
              <p:nvPr/>
            </p:nvGrpSpPr>
            <p:grpSpPr>
              <a:xfrm>
                <a:off x="492120" y="1574640"/>
                <a:ext cx="1679400" cy="308160"/>
                <a:chOff x="492120" y="1574640"/>
                <a:chExt cx="1679400" cy="308160"/>
              </a:xfrm>
            </p:grpSpPr>
            <p:grpSp>
              <p:nvGrpSpPr>
                <p:cNvPr id="1577" name=""/>
                <p:cNvGrpSpPr/>
                <p:nvPr/>
              </p:nvGrpSpPr>
              <p:grpSpPr>
                <a:xfrm>
                  <a:off x="492120" y="1574640"/>
                  <a:ext cx="1679400" cy="304920"/>
                  <a:chOff x="492120" y="1574640"/>
                  <a:chExt cx="1679400" cy="30492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>
                    <a:off x="492120" y="1574640"/>
                    <a:ext cx="1679400" cy="304920"/>
                  </a:xfrm>
                  <a:prstGeom prst="rect">
                    <a:avLst/>
                  </a:prstGeom>
                  <a:solidFill>
                    <a:srgbClr val="a2c1fe"/>
                  </a:solidFill>
                  <a:ln w="25560">
                    <a:solidFill>
                      <a:srgbClr val="000000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866880" y="1577880"/>
                    <a:ext cx="0" cy="285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0" name=""/>
                <p:cNvSpPr txBox="1"/>
                <p:nvPr/>
              </p:nvSpPr>
              <p:spPr>
                <a:xfrm>
                  <a:off x="547560" y="1577880"/>
                  <a:ext cx="282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 txBox="1"/>
                <p:nvPr/>
              </p:nvSpPr>
              <p:spPr>
                <a:xfrm>
                  <a:off x="1047600" y="1577880"/>
                  <a:ext cx="8953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7 byt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2" name=""/>
            <p:cNvSpPr txBox="1"/>
            <p:nvPr/>
          </p:nvSpPr>
          <p:spPr>
            <a:xfrm>
              <a:off x="8069400" y="1521000"/>
              <a:ext cx="1947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1 Frame = 120k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"/>
          <p:cNvSpPr txBox="1"/>
          <p:nvPr/>
        </p:nvSpPr>
        <p:spPr>
          <a:xfrm>
            <a:off x="2892600" y="6014880"/>
            <a:ext cx="450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Bus Structure in 525/60 TV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927000" y="1185840"/>
            <a:ext cx="8428320" cy="4424040"/>
            <a:chOff x="927000" y="1185840"/>
            <a:chExt cx="8428320" cy="4424040"/>
          </a:xfrm>
        </p:grpSpPr>
        <p:grpSp>
          <p:nvGrpSpPr>
            <p:cNvPr id="1585" name=""/>
            <p:cNvGrpSpPr/>
            <p:nvPr/>
          </p:nvGrpSpPr>
          <p:grpSpPr>
            <a:xfrm>
              <a:off x="3981600" y="3767040"/>
              <a:ext cx="3627360" cy="1842840"/>
              <a:chOff x="3981600" y="3767040"/>
              <a:chExt cx="3627360" cy="1842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4010040" y="3782880"/>
                <a:ext cx="3540240" cy="137160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 txBox="1"/>
              <p:nvPr/>
            </p:nvSpPr>
            <p:spPr>
              <a:xfrm>
                <a:off x="3981600" y="3767040"/>
                <a:ext cx="3627360" cy="18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2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D [7:0]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, 8 bits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DEN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a enable sign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DCK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 clock, 9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QUIE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art 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056200" y="3792600"/>
                <a:ext cx="0" cy="135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4016520" y="4135320"/>
                <a:ext cx="352260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7880" bIns="-47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021200" y="4476600"/>
                <a:ext cx="3517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4016520" y="4827600"/>
                <a:ext cx="352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2" name=""/>
            <p:cNvSpPr/>
            <p:nvPr/>
          </p:nvSpPr>
          <p:spPr>
            <a:xfrm>
              <a:off x="2217600" y="2174760"/>
              <a:ext cx="7137720" cy="295560"/>
            </a:xfrm>
            <a:custGeom>
              <a:avLst/>
              <a:gdLst/>
              <a:ahLst/>
              <a:rect l="0" t="0" r="r" b="b"/>
              <a:pathLst>
                <a:path fill="none" w="19827" h="821">
                  <a:moveTo>
                    <a:pt x="0" y="821"/>
                  </a:moveTo>
                  <a:lnTo>
                    <a:pt x="458" y="821"/>
                  </a:lnTo>
                  <a:lnTo>
                    <a:pt x="458" y="0"/>
                  </a:lnTo>
                  <a:lnTo>
                    <a:pt x="670" y="0"/>
                  </a:lnTo>
                  <a:lnTo>
                    <a:pt x="670" y="821"/>
                  </a:lnTo>
                  <a:lnTo>
                    <a:pt x="18204" y="821"/>
                  </a:lnTo>
                  <a:lnTo>
                    <a:pt x="18204" y="0"/>
                  </a:lnTo>
                  <a:lnTo>
                    <a:pt x="18451" y="0"/>
                  </a:lnTo>
                  <a:lnTo>
                    <a:pt x="18451" y="821"/>
                  </a:lnTo>
                  <a:lnTo>
                    <a:pt x="19827" y="821"/>
                  </a:lnTo>
                </a:path>
              </a:pathLst>
            </a:custGeom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71760" y="2835360"/>
              <a:ext cx="3162600" cy="305280"/>
            </a:xfrm>
            <a:custGeom>
              <a:avLst/>
              <a:gdLst/>
              <a:ahLst/>
              <a:rect l="0" t="0" r="r" b="b"/>
              <a:pathLst>
                <a:path w="8785" h="848">
                  <a:moveTo>
                    <a:pt x="8785" y="848"/>
                  </a:moveTo>
                  <a:lnTo>
                    <a:pt x="0" y="848"/>
                  </a:lnTo>
                  <a:lnTo>
                    <a:pt x="0" y="0"/>
                  </a:lnTo>
                  <a:lnTo>
                    <a:pt x="8749" y="0"/>
                  </a:lnTo>
                  <a:lnTo>
                    <a:pt x="8785" y="848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138480" y="2835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516560" y="2835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824280" y="2835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202360" y="28353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62880" y="2835360"/>
              <a:ext cx="1924560" cy="305280"/>
            </a:xfrm>
            <a:custGeom>
              <a:avLst/>
              <a:gdLst/>
              <a:ahLst/>
              <a:rect l="0" t="0" r="r" b="b"/>
              <a:pathLst>
                <a:path w="5346" h="848">
                  <a:moveTo>
                    <a:pt x="0" y="848"/>
                  </a:moveTo>
                  <a:lnTo>
                    <a:pt x="5346" y="848"/>
                  </a:lnTo>
                  <a:lnTo>
                    <a:pt x="5346" y="0"/>
                  </a:lnTo>
                  <a:lnTo>
                    <a:pt x="2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920000" y="28414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234200" y="284148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678640" y="2835360"/>
              <a:ext cx="92700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684760" y="3139920"/>
              <a:ext cx="92700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 txBox="1"/>
            <p:nvPr/>
          </p:nvSpPr>
          <p:spPr>
            <a:xfrm>
              <a:off x="2470320" y="2843280"/>
              <a:ext cx="6199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T0    SCT1     SCT2     SCT3                                               SCT8   SCT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4" name=""/>
            <p:cNvGrpSpPr/>
            <p:nvPr/>
          </p:nvGrpSpPr>
          <p:grpSpPr>
            <a:xfrm>
              <a:off x="2357280" y="1692360"/>
              <a:ext cx="6387120" cy="321120"/>
              <a:chOff x="2357280" y="1692360"/>
              <a:chExt cx="6387120" cy="321120"/>
            </a:xfrm>
          </p:grpSpPr>
          <p:sp>
            <p:nvSpPr>
              <p:cNvPr id="1605" name=""/>
              <p:cNvSpPr/>
              <p:nvPr/>
            </p:nvSpPr>
            <p:spPr>
              <a:xfrm>
                <a:off x="5551560" y="1692360"/>
                <a:ext cx="3192840" cy="321120"/>
              </a:xfrm>
              <a:custGeom>
                <a:avLst/>
                <a:gdLst/>
                <a:ahLst/>
                <a:rect l="0" t="0" r="r" b="b"/>
                <a:pathLst>
                  <a:path fill="none" w="8869" h="892">
                    <a:moveTo>
                      <a:pt x="0" y="0"/>
                    </a:moveTo>
                    <a:lnTo>
                      <a:pt x="0" y="892"/>
                    </a:lnTo>
                    <a:lnTo>
                      <a:pt x="8869" y="892"/>
                    </a:lnTo>
                    <a:lnTo>
                      <a:pt x="8869" y="0"/>
                    </a:ln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357280" y="1692360"/>
                <a:ext cx="3194280" cy="321120"/>
              </a:xfrm>
              <a:custGeom>
                <a:avLst/>
                <a:gdLst/>
                <a:ahLst/>
                <a:rect l="0" t="0" r="r" b="b"/>
                <a:pathLst>
                  <a:path fill="none" w="8873" h="892">
                    <a:moveTo>
                      <a:pt x="0" y="892"/>
                    </a:moveTo>
                    <a:lnTo>
                      <a:pt x="0" y="0"/>
                    </a:lnTo>
                    <a:lnTo>
                      <a:pt x="8873" y="0"/>
                    </a:lnTo>
                    <a:lnTo>
                      <a:pt x="8873" y="892"/>
                    </a:lnTo>
                  </a:path>
                </a:pathLst>
              </a:custGeom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 flipV="1">
              <a:off x="2357280" y="1305000"/>
              <a:ext cx="0" cy="2905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8744040" y="1327320"/>
              <a:ext cx="0" cy="2905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2355840" y="1463760"/>
              <a:ext cx="6383520" cy="32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599320" y="1428840"/>
              <a:ext cx="135360" cy="66960"/>
            </a:xfrm>
            <a:custGeom>
              <a:avLst/>
              <a:gdLst/>
              <a:ahLst/>
              <a:rect l="0" t="0" r="r" b="b"/>
              <a:pathLst>
                <a:path w="376" h="186">
                  <a:moveTo>
                    <a:pt x="0" y="0"/>
                  </a:moveTo>
                  <a:lnTo>
                    <a:pt x="0" y="186"/>
                  </a:lnTo>
                  <a:lnTo>
                    <a:pt x="376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90760" y="1433520"/>
              <a:ext cx="135360" cy="66960"/>
            </a:xfrm>
            <a:custGeom>
              <a:avLst/>
              <a:gdLst/>
              <a:ahLst/>
              <a:rect l="0" t="0" r="r" b="b"/>
              <a:pathLst>
                <a:path w="376" h="186">
                  <a:moveTo>
                    <a:pt x="376" y="0"/>
                  </a:moveTo>
                  <a:lnTo>
                    <a:pt x="376" y="186"/>
                  </a:lnTo>
                  <a:lnTo>
                    <a:pt x="0" y="88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 txBox="1"/>
            <p:nvPr/>
          </p:nvSpPr>
          <p:spPr>
            <a:xfrm>
              <a:off x="5060880" y="1185840"/>
              <a:ext cx="974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/30 s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 txBox="1"/>
            <p:nvPr/>
          </p:nvSpPr>
          <p:spPr>
            <a:xfrm>
              <a:off x="927000" y="1719360"/>
              <a:ext cx="1359000" cy="1411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Frame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BQIU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    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4" name=""/>
          <p:cNvGrpSpPr/>
          <p:nvPr/>
        </p:nvGrpSpPr>
        <p:grpSpPr>
          <a:xfrm>
            <a:off x="298440" y="1092240"/>
            <a:ext cx="9207360" cy="4659480"/>
            <a:chOff x="298440" y="1092240"/>
            <a:chExt cx="9207360" cy="4659480"/>
          </a:xfrm>
        </p:grpSpPr>
        <p:grpSp>
          <p:nvGrpSpPr>
            <p:cNvPr id="1615" name=""/>
            <p:cNvGrpSpPr/>
            <p:nvPr/>
          </p:nvGrpSpPr>
          <p:grpSpPr>
            <a:xfrm>
              <a:off x="2100240" y="1092240"/>
              <a:ext cx="3162600" cy="305280"/>
              <a:chOff x="2100240" y="1092240"/>
              <a:chExt cx="3162600" cy="305280"/>
            </a:xfrm>
          </p:grpSpPr>
          <p:sp>
            <p:nvSpPr>
              <p:cNvPr id="1616" name=""/>
              <p:cNvSpPr/>
              <p:nvPr/>
            </p:nvSpPr>
            <p:spPr>
              <a:xfrm>
                <a:off x="2100240" y="1092240"/>
                <a:ext cx="3162600" cy="305280"/>
              </a:xfrm>
              <a:custGeom>
                <a:avLst/>
                <a:gdLst/>
                <a:ahLst/>
                <a:rect l="0" t="0" r="r" b="b"/>
                <a:pathLst>
                  <a:path w="8785" h="848">
                    <a:moveTo>
                      <a:pt x="8785" y="848"/>
                    </a:moveTo>
                    <a:lnTo>
                      <a:pt x="0" y="848"/>
                    </a:lnTo>
                    <a:lnTo>
                      <a:pt x="0" y="0"/>
                    </a:lnTo>
                    <a:lnTo>
                      <a:pt x="8749" y="0"/>
                    </a:lnTo>
                    <a:lnTo>
                      <a:pt x="8785" y="848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76696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14504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5276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83084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"/>
            <p:cNvSpPr/>
            <p:nvPr/>
          </p:nvSpPr>
          <p:spPr>
            <a:xfrm>
              <a:off x="6291360" y="1092240"/>
              <a:ext cx="1924560" cy="305280"/>
            </a:xfrm>
            <a:custGeom>
              <a:avLst/>
              <a:gdLst/>
              <a:ahLst/>
              <a:rect l="0" t="0" r="r" b="b"/>
              <a:pathLst>
                <a:path w="5346" h="848">
                  <a:moveTo>
                    <a:pt x="0" y="848"/>
                  </a:moveTo>
                  <a:lnTo>
                    <a:pt x="5346" y="848"/>
                  </a:lnTo>
                  <a:lnTo>
                    <a:pt x="5346" y="0"/>
                  </a:lnTo>
                  <a:lnTo>
                    <a:pt x="2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548480" y="10987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862680" y="10987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307120" y="1092240"/>
              <a:ext cx="92700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313240" y="1397160"/>
              <a:ext cx="92736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 txBox="1"/>
            <p:nvPr/>
          </p:nvSpPr>
          <p:spPr>
            <a:xfrm>
              <a:off x="2135160" y="1106640"/>
              <a:ext cx="6199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T0    SCT1     SCT2     SCT3                                              SCT8    SCT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2052720" y="1874880"/>
              <a:ext cx="5242320" cy="336600"/>
              <a:chOff x="2052720" y="1874880"/>
              <a:chExt cx="5242320" cy="336600"/>
            </a:xfrm>
          </p:grpSpPr>
          <p:sp>
            <p:nvSpPr>
              <p:cNvPr id="1628" name=""/>
              <p:cNvSpPr/>
              <p:nvPr/>
            </p:nvSpPr>
            <p:spPr>
              <a:xfrm>
                <a:off x="2052720" y="1892160"/>
                <a:ext cx="5242320" cy="298800"/>
              </a:xfrm>
              <a:custGeom>
                <a:avLst/>
                <a:gdLst/>
                <a:ahLst/>
                <a:rect l="0" t="0" r="r" b="b"/>
                <a:pathLst>
                  <a:path w="14562" h="830">
                    <a:moveTo>
                      <a:pt x="14562" y="830"/>
                    </a:moveTo>
                    <a:lnTo>
                      <a:pt x="0" y="830"/>
                    </a:lnTo>
                    <a:lnTo>
                      <a:pt x="0" y="0"/>
                    </a:lnTo>
                    <a:lnTo>
                      <a:pt x="14505" y="0"/>
                    </a:lnTo>
                    <a:lnTo>
                      <a:pt x="14562" y="830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13848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38164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25448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28964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 txBox="1"/>
              <p:nvPr/>
            </p:nvSpPr>
            <p:spPr>
              <a:xfrm>
                <a:off x="2168640" y="1874880"/>
                <a:ext cx="497520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der      Subcode       VAUX         Audio &amp; Vide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 flipH="1">
              <a:off x="2060640" y="1457280"/>
              <a:ext cx="38160" cy="380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797200" y="1482840"/>
              <a:ext cx="4497480" cy="3175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011240" y="4657680"/>
              <a:ext cx="8268120" cy="1014840"/>
            </a:xfrm>
            <a:custGeom>
              <a:avLst/>
              <a:gdLst/>
              <a:ahLst/>
              <a:rect l="0" t="0" r="r" b="b"/>
              <a:pathLst>
                <a:path w="22967" h="2819">
                  <a:moveTo>
                    <a:pt x="0" y="26"/>
                  </a:moveTo>
                  <a:lnTo>
                    <a:pt x="0" y="2819"/>
                  </a:lnTo>
                  <a:lnTo>
                    <a:pt x="22967" y="2819"/>
                  </a:lnTo>
                  <a:lnTo>
                    <a:pt x="22967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1ce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015920" y="2768760"/>
              <a:ext cx="8268120" cy="1222560"/>
            </a:xfrm>
            <a:custGeom>
              <a:avLst/>
              <a:gdLst/>
              <a:ahLst/>
              <a:rect l="0" t="0" r="r" b="b"/>
              <a:pathLst>
                <a:path w="22967" h="3396">
                  <a:moveTo>
                    <a:pt x="0" y="3365"/>
                  </a:moveTo>
                  <a:lnTo>
                    <a:pt x="0" y="0"/>
                  </a:lnTo>
                  <a:lnTo>
                    <a:pt x="22967" y="0"/>
                  </a:lnTo>
                  <a:lnTo>
                    <a:pt x="22967" y="3396"/>
                  </a:lnTo>
                  <a:lnTo>
                    <a:pt x="0" y="3365"/>
                  </a:lnTo>
                  <a:close/>
                </a:path>
              </a:pathLst>
            </a:custGeom>
            <a:solidFill>
              <a:srgbClr val="c1ce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 txBox="1"/>
            <p:nvPr/>
          </p:nvSpPr>
          <p:spPr>
            <a:xfrm>
              <a:off x="950760" y="2720880"/>
              <a:ext cx="1506600" cy="301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0       Pkt0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6       Pkt6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3  Pkt163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427120" y="2722680"/>
              <a:ext cx="65880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798720" y="2709720"/>
              <a:ext cx="65880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157720" y="2709720"/>
              <a:ext cx="65880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541920" y="2709720"/>
              <a:ext cx="65880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1022400" y="4824360"/>
              <a:ext cx="82422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1022400" y="5114880"/>
              <a:ext cx="82422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1022400" y="5400720"/>
              <a:ext cx="82422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1022400" y="3892680"/>
              <a:ext cx="82422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1022400" y="3314880"/>
              <a:ext cx="82422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1022400" y="3594240"/>
              <a:ext cx="824220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1028880" y="3022560"/>
              <a:ext cx="82422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70028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70028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700280" y="4029120"/>
              <a:ext cx="0" cy="6332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395440" y="27669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395440" y="46386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395440" y="4024440"/>
              <a:ext cx="0" cy="6332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08124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08124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081240" y="4029120"/>
              <a:ext cx="0" cy="6476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76704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76704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762360" y="4029120"/>
              <a:ext cx="4680" cy="64296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13864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3864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138640" y="4010040"/>
              <a:ext cx="0" cy="65736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46256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46256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62560" y="4024440"/>
              <a:ext cx="0" cy="63792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81508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81508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815080" y="4024440"/>
              <a:ext cx="0" cy="64296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50088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0088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00880" y="4024440"/>
              <a:ext cx="0" cy="6620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18668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18668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182000" y="4019400"/>
              <a:ext cx="4680" cy="6620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89156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89156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891560" y="4019400"/>
              <a:ext cx="0" cy="65268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56764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56764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567640" y="4014720"/>
              <a:ext cx="0" cy="6476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9277200" y="4010040"/>
              <a:ext cx="0" cy="60948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014480" y="4019400"/>
              <a:ext cx="0" cy="6098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1028880" y="2190600"/>
              <a:ext cx="952200" cy="5382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353360" y="2171880"/>
              <a:ext cx="1876320" cy="4856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 txBox="1"/>
            <p:nvPr/>
          </p:nvSpPr>
          <p:spPr>
            <a:xfrm>
              <a:off x="2382840" y="2733840"/>
              <a:ext cx="1522440" cy="29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1     Pkt1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7     Pkt7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4  Pkt164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 txBox="1"/>
            <p:nvPr/>
          </p:nvSpPr>
          <p:spPr>
            <a:xfrm>
              <a:off x="3735360" y="2733840"/>
              <a:ext cx="1617840" cy="29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2      Pkt 2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8      Pkt 8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5  Pkt165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 txBox="1"/>
            <p:nvPr/>
          </p:nvSpPr>
          <p:spPr>
            <a:xfrm>
              <a:off x="5094360" y="2733840"/>
              <a:ext cx="1611360" cy="29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3    Pkt 3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9    Pkt 9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6  Pkt166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 txBox="1"/>
            <p:nvPr/>
          </p:nvSpPr>
          <p:spPr>
            <a:xfrm>
              <a:off x="6473880" y="2746440"/>
              <a:ext cx="1536840" cy="29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4    Pkt 4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10   Pkt 10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7  Pkt167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 txBox="1"/>
            <p:nvPr/>
          </p:nvSpPr>
          <p:spPr>
            <a:xfrm>
              <a:off x="7851600" y="2733840"/>
              <a:ext cx="1654200" cy="297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5    Pkt 5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 11  Pkt 11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t168  Pkt168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2" name=""/>
            <p:cNvGrpSpPr/>
            <p:nvPr/>
          </p:nvGrpSpPr>
          <p:grpSpPr>
            <a:xfrm>
              <a:off x="324000" y="1490760"/>
              <a:ext cx="1447920" cy="304920"/>
              <a:chOff x="324000" y="1490760"/>
              <a:chExt cx="1447920" cy="304920"/>
            </a:xfrm>
          </p:grpSpPr>
          <p:sp>
            <p:nvSpPr>
              <p:cNvPr id="1693" name=""/>
              <p:cNvSpPr/>
              <p:nvPr/>
            </p:nvSpPr>
            <p:spPr>
              <a:xfrm>
                <a:off x="324000" y="1490760"/>
                <a:ext cx="1447920" cy="30492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47640" y="1498680"/>
                <a:ext cx="0" cy="28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5" name=""/>
            <p:cNvSpPr txBox="1"/>
            <p:nvPr/>
          </p:nvSpPr>
          <p:spPr>
            <a:xfrm>
              <a:off x="353880" y="1496880"/>
              <a:ext cx="2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 txBox="1"/>
            <p:nvPr/>
          </p:nvSpPr>
          <p:spPr>
            <a:xfrm>
              <a:off x="938160" y="1503360"/>
              <a:ext cx="382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 txBox="1"/>
            <p:nvPr/>
          </p:nvSpPr>
          <p:spPr>
            <a:xfrm>
              <a:off x="298440" y="1212840"/>
              <a:ext cx="1488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 Data Pa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"/>
          <p:cNvSpPr txBox="1"/>
          <p:nvPr/>
        </p:nvSpPr>
        <p:spPr>
          <a:xfrm>
            <a:off x="2036880" y="6000840"/>
            <a:ext cx="619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Data Format of 50Mb/s Video+Audio+Data (525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00480" y="5996160"/>
            <a:ext cx="598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asic Specification of DVC recording system (525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24200" y="1770120"/>
            <a:ext cx="7219800" cy="2892600"/>
            <a:chOff x="1924200" y="1770120"/>
            <a:chExt cx="7219800" cy="2892600"/>
          </a:xfrm>
        </p:grpSpPr>
        <p:sp>
          <p:nvSpPr>
            <p:cNvPr id="56" name=""/>
            <p:cNvSpPr txBox="1"/>
            <p:nvPr/>
          </p:nvSpPr>
          <p:spPr>
            <a:xfrm>
              <a:off x="2184480" y="1770120"/>
              <a:ext cx="6959520" cy="289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Video Signal Input 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4 : 2 : 2 Component 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mpressed data rat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25 Mbits/s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Video Signal Output 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4 : 2 : 2 Component Digi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Video Bandwidth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Y: 5.75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C: 1.5 M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Video S/N Ratio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&gt; 54 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924200" y="1898640"/>
              <a:ext cx="104760" cy="2551320"/>
              <a:chOff x="1924200" y="1898640"/>
              <a:chExt cx="104760" cy="2551320"/>
            </a:xfrm>
          </p:grpSpPr>
          <p:sp>
            <p:nvSpPr>
              <p:cNvPr id="58" name=""/>
              <p:cNvSpPr/>
              <p:nvPr/>
            </p:nvSpPr>
            <p:spPr>
              <a:xfrm>
                <a:off x="1924200" y="1898640"/>
                <a:ext cx="1047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24200" y="2444760"/>
                <a:ext cx="1047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24200" y="2997360"/>
                <a:ext cx="1047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24200" y="4335480"/>
                <a:ext cx="1047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24200" y="3548160"/>
                <a:ext cx="1047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 txBox="1"/>
          <p:nvPr/>
        </p:nvSpPr>
        <p:spPr>
          <a:xfrm>
            <a:off x="219240" y="4118040"/>
            <a:ext cx="1476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4:2:2 video I/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714680" y="1333440"/>
            <a:ext cx="4294080" cy="36669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a2c1fe"/>
              </a:gs>
            </a:gsLst>
            <a:lin ang="5400000"/>
          </a:gradFill>
          <a:ln w="12600">
            <a:solidFill>
              <a:srgbClr val="a2c1f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"/>
          <p:cNvGrpSpPr/>
          <p:nvPr/>
        </p:nvGrpSpPr>
        <p:grpSpPr>
          <a:xfrm>
            <a:off x="4351320" y="3743280"/>
            <a:ext cx="1523880" cy="1143000"/>
            <a:chOff x="4351320" y="3743280"/>
            <a:chExt cx="1523880" cy="1143000"/>
          </a:xfrm>
        </p:grpSpPr>
        <p:sp>
          <p:nvSpPr>
            <p:cNvPr id="1702" name=""/>
            <p:cNvSpPr/>
            <p:nvPr/>
          </p:nvSpPr>
          <p:spPr>
            <a:xfrm>
              <a:off x="4351320" y="3743280"/>
              <a:ext cx="1523880" cy="1143000"/>
            </a:xfrm>
            <a:prstGeom prst="rect">
              <a:avLst/>
            </a:prstGeom>
            <a:gradFill rotWithShape="0">
              <a:gsLst>
                <a:gs pos="0">
                  <a:srgbClr val="a2c1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 txBox="1"/>
            <p:nvPr/>
          </p:nvSpPr>
          <p:spPr>
            <a:xfrm>
              <a:off x="4422600" y="4141800"/>
              <a:ext cx="1380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mpres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"/>
          <p:cNvGrpSpPr/>
          <p:nvPr/>
        </p:nvGrpSpPr>
        <p:grpSpPr>
          <a:xfrm>
            <a:off x="2027160" y="1971720"/>
            <a:ext cx="1523880" cy="1143000"/>
            <a:chOff x="2027160" y="1971720"/>
            <a:chExt cx="1523880" cy="1143000"/>
          </a:xfrm>
        </p:grpSpPr>
        <p:sp>
          <p:nvSpPr>
            <p:cNvPr id="1705" name=""/>
            <p:cNvSpPr/>
            <p:nvPr/>
          </p:nvSpPr>
          <p:spPr>
            <a:xfrm>
              <a:off x="2027160" y="1971720"/>
              <a:ext cx="1523880" cy="1143000"/>
            </a:xfrm>
            <a:prstGeom prst="rect">
              <a:avLst/>
            </a:prstGeom>
            <a:gradFill rotWithShape="0">
              <a:gsLst>
                <a:gs pos="0">
                  <a:srgbClr val="fc0128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 txBox="1"/>
            <p:nvPr/>
          </p:nvSpPr>
          <p:spPr>
            <a:xfrm>
              <a:off x="2335320" y="2286000"/>
              <a:ext cx="963720" cy="63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601"/>
                </a:spcBef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7" name=""/>
          <p:cNvSpPr/>
          <p:nvPr/>
        </p:nvSpPr>
        <p:spPr>
          <a:xfrm>
            <a:off x="3503520" y="4657680"/>
            <a:ext cx="846360" cy="324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112920" y="3130560"/>
            <a:ext cx="0" cy="62856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3789360" y="2048040"/>
            <a:ext cx="1905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DV422 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1131840" y="4067280"/>
            <a:ext cx="847800" cy="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141560" y="4648320"/>
            <a:ext cx="847440" cy="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4151160" y="3029040"/>
            <a:ext cx="1523880" cy="1143000"/>
            <a:chOff x="4151160" y="3029040"/>
            <a:chExt cx="1523880" cy="1143000"/>
          </a:xfrm>
        </p:grpSpPr>
        <p:sp>
          <p:nvSpPr>
            <p:cNvPr id="1713" name=""/>
            <p:cNvSpPr/>
            <p:nvPr/>
          </p:nvSpPr>
          <p:spPr>
            <a:xfrm>
              <a:off x="4151160" y="3029040"/>
              <a:ext cx="1523880" cy="1143000"/>
            </a:xfrm>
            <a:prstGeom prst="rect">
              <a:avLst/>
            </a:prstGeom>
            <a:gradFill rotWithShape="0">
              <a:gsLst>
                <a:gs pos="0">
                  <a:srgbClr val="a2c1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 txBox="1"/>
            <p:nvPr/>
          </p:nvSpPr>
          <p:spPr>
            <a:xfrm>
              <a:off x="4222800" y="3427560"/>
              <a:ext cx="1380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mpress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1981080" y="3772080"/>
            <a:ext cx="1523880" cy="1143000"/>
            <a:chOff x="1981080" y="3772080"/>
            <a:chExt cx="1523880" cy="1143000"/>
          </a:xfrm>
        </p:grpSpPr>
        <p:sp>
          <p:nvSpPr>
            <p:cNvPr id="1716" name=""/>
            <p:cNvSpPr/>
            <p:nvPr/>
          </p:nvSpPr>
          <p:spPr>
            <a:xfrm>
              <a:off x="1981080" y="3772080"/>
              <a:ext cx="1523880" cy="11430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 txBox="1"/>
            <p:nvPr/>
          </p:nvSpPr>
          <p:spPr>
            <a:xfrm>
              <a:off x="2297160" y="4056120"/>
              <a:ext cx="8730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50Mb/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huff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828800" y="1447920"/>
            <a:ext cx="1523880" cy="1143000"/>
            <a:chOff x="1828800" y="1447920"/>
            <a:chExt cx="1523880" cy="1143000"/>
          </a:xfrm>
        </p:grpSpPr>
        <p:sp>
          <p:nvSpPr>
            <p:cNvPr id="1719" name=""/>
            <p:cNvSpPr/>
            <p:nvPr/>
          </p:nvSpPr>
          <p:spPr>
            <a:xfrm>
              <a:off x="1828800" y="1447920"/>
              <a:ext cx="1523880" cy="1143000"/>
            </a:xfrm>
            <a:prstGeom prst="rect">
              <a:avLst/>
            </a:prstGeom>
            <a:gradFill rotWithShape="0">
              <a:gsLst>
                <a:gs pos="0">
                  <a:srgbClr val="fc0128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 txBox="1"/>
            <p:nvPr/>
          </p:nvSpPr>
          <p:spPr>
            <a:xfrm>
              <a:off x="2136600" y="1762200"/>
              <a:ext cx="963720" cy="63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Fr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601"/>
                </a:spcBef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3511440" y="3924360"/>
            <a:ext cx="635040" cy="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247840" y="2606760"/>
            <a:ext cx="0" cy="116532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110360" y="2981160"/>
            <a:ext cx="1523880" cy="114300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7265880" y="3255840"/>
            <a:ext cx="1235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DIF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forma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645400" y="3562200"/>
            <a:ext cx="1114560" cy="0"/>
          </a:xfrm>
          <a:prstGeom prst="line">
            <a:avLst/>
          </a:pr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8589960" y="2809800"/>
            <a:ext cx="13795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DIF 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1394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 txBox="1"/>
          <p:nvPr/>
        </p:nvSpPr>
        <p:spPr>
          <a:xfrm>
            <a:off x="6116760" y="2936880"/>
            <a:ext cx="8650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DV 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6686640" y="3610080"/>
            <a:ext cx="3016440" cy="1200600"/>
          </a:xfrm>
          <a:custGeom>
            <a:avLst/>
            <a:gdLst/>
            <a:ahLst/>
            <a:rect l="0" t="0" r="r" b="b"/>
            <a:pathLst>
              <a:path fill="none" w="8379" h="3335">
                <a:moveTo>
                  <a:pt x="0" y="0"/>
                </a:moveTo>
                <a:lnTo>
                  <a:pt x="0" y="3335"/>
                </a:lnTo>
                <a:lnTo>
                  <a:pt x="8379" y="3335"/>
                </a:ln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7647120" y="4451400"/>
            <a:ext cx="2170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to / from record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5676840" y="3600360"/>
            <a:ext cx="552960" cy="724320"/>
          </a:xfrm>
          <a:custGeom>
            <a:avLst/>
            <a:gdLst/>
            <a:ahLst/>
            <a:rect l="0" t="0" r="r" b="b"/>
            <a:pathLst>
              <a:path fill="none" w="1536" h="2012">
                <a:moveTo>
                  <a:pt x="0" y="0"/>
                </a:moveTo>
                <a:lnTo>
                  <a:pt x="1536" y="0"/>
                </a:lnTo>
                <a:lnTo>
                  <a:pt x="1536" y="2012"/>
                </a:lnTo>
                <a:lnTo>
                  <a:pt x="530" y="2012"/>
                </a:ln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6229440" y="3600360"/>
            <a:ext cx="895320" cy="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3033720" y="6000840"/>
            <a:ext cx="419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50Mb/s DV Codec and DIF Forma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3" name=""/>
          <p:cNvGrpSpPr/>
          <p:nvPr/>
        </p:nvGrpSpPr>
        <p:grpSpPr>
          <a:xfrm>
            <a:off x="460440" y="1092240"/>
            <a:ext cx="9556920" cy="4662360"/>
            <a:chOff x="460440" y="1092240"/>
            <a:chExt cx="9556920" cy="4662360"/>
          </a:xfrm>
        </p:grpSpPr>
        <p:grpSp>
          <p:nvGrpSpPr>
            <p:cNvPr id="1734" name=""/>
            <p:cNvGrpSpPr/>
            <p:nvPr/>
          </p:nvGrpSpPr>
          <p:grpSpPr>
            <a:xfrm>
              <a:off x="2462040" y="1092240"/>
              <a:ext cx="3162600" cy="305280"/>
              <a:chOff x="2462040" y="1092240"/>
              <a:chExt cx="3162600" cy="305280"/>
            </a:xfrm>
          </p:grpSpPr>
          <p:sp>
            <p:nvSpPr>
              <p:cNvPr id="1735" name=""/>
              <p:cNvSpPr/>
              <p:nvPr/>
            </p:nvSpPr>
            <p:spPr>
              <a:xfrm>
                <a:off x="2462040" y="1092240"/>
                <a:ext cx="3162600" cy="305280"/>
              </a:xfrm>
              <a:custGeom>
                <a:avLst/>
                <a:gdLst/>
                <a:ahLst/>
                <a:rect l="0" t="0" r="r" b="b"/>
                <a:pathLst>
                  <a:path w="8785" h="848">
                    <a:moveTo>
                      <a:pt x="8785" y="848"/>
                    </a:moveTo>
                    <a:lnTo>
                      <a:pt x="0" y="848"/>
                    </a:lnTo>
                    <a:lnTo>
                      <a:pt x="0" y="0"/>
                    </a:lnTo>
                    <a:lnTo>
                      <a:pt x="8749" y="0"/>
                    </a:lnTo>
                    <a:lnTo>
                      <a:pt x="8785" y="848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12912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50684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81492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192640" y="1092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0" name=""/>
            <p:cNvSpPr/>
            <p:nvPr/>
          </p:nvSpPr>
          <p:spPr>
            <a:xfrm>
              <a:off x="6653160" y="1092240"/>
              <a:ext cx="1924560" cy="305280"/>
            </a:xfrm>
            <a:custGeom>
              <a:avLst/>
              <a:gdLst/>
              <a:ahLst/>
              <a:rect l="0" t="0" r="r" b="b"/>
              <a:pathLst>
                <a:path w="5346" h="848">
                  <a:moveTo>
                    <a:pt x="0" y="848"/>
                  </a:moveTo>
                  <a:lnTo>
                    <a:pt x="5346" y="848"/>
                  </a:lnTo>
                  <a:lnTo>
                    <a:pt x="5346" y="0"/>
                  </a:lnTo>
                  <a:lnTo>
                    <a:pt x="2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910640" y="10987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224840" y="10987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668920" y="1092240"/>
              <a:ext cx="92700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675400" y="1397160"/>
              <a:ext cx="927000" cy="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 txBox="1"/>
            <p:nvPr/>
          </p:nvSpPr>
          <p:spPr>
            <a:xfrm>
              <a:off x="2496960" y="1106640"/>
              <a:ext cx="6199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T0    SCT1     SCT2     SCT3                                              SCT8    SCT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6" name=""/>
            <p:cNvGrpSpPr/>
            <p:nvPr/>
          </p:nvGrpSpPr>
          <p:grpSpPr>
            <a:xfrm>
              <a:off x="2414520" y="1874880"/>
              <a:ext cx="5242320" cy="336600"/>
              <a:chOff x="2414520" y="1874880"/>
              <a:chExt cx="5242320" cy="336600"/>
            </a:xfrm>
          </p:grpSpPr>
          <p:sp>
            <p:nvSpPr>
              <p:cNvPr id="1747" name=""/>
              <p:cNvSpPr/>
              <p:nvPr/>
            </p:nvSpPr>
            <p:spPr>
              <a:xfrm>
                <a:off x="2414520" y="1892160"/>
                <a:ext cx="5242320" cy="298800"/>
              </a:xfrm>
              <a:custGeom>
                <a:avLst/>
                <a:gdLst/>
                <a:ahLst/>
                <a:rect l="0" t="0" r="r" b="b"/>
                <a:pathLst>
                  <a:path w="14562" h="830">
                    <a:moveTo>
                      <a:pt x="14562" y="830"/>
                    </a:moveTo>
                    <a:lnTo>
                      <a:pt x="0" y="830"/>
                    </a:lnTo>
                    <a:lnTo>
                      <a:pt x="0" y="0"/>
                    </a:lnTo>
                    <a:lnTo>
                      <a:pt x="14505" y="0"/>
                    </a:lnTo>
                    <a:lnTo>
                      <a:pt x="14562" y="830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50028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74344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61628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651800" y="189216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 txBox="1"/>
              <p:nvPr/>
            </p:nvSpPr>
            <p:spPr>
              <a:xfrm>
                <a:off x="2530440" y="1874880"/>
                <a:ext cx="497520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ader      Subcode       VAUX         Audio &amp; Vide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3" name=""/>
            <p:cNvSpPr/>
            <p:nvPr/>
          </p:nvSpPr>
          <p:spPr>
            <a:xfrm flipH="1">
              <a:off x="2422440" y="1457280"/>
              <a:ext cx="38160" cy="3808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159000" y="1482840"/>
              <a:ext cx="4461120" cy="3650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73040" y="4657680"/>
              <a:ext cx="7561800" cy="1014840"/>
            </a:xfrm>
            <a:custGeom>
              <a:avLst/>
              <a:gdLst/>
              <a:ahLst/>
              <a:rect l="0" t="0" r="r" b="b"/>
              <a:pathLst>
                <a:path w="21005" h="2819">
                  <a:moveTo>
                    <a:pt x="0" y="26"/>
                  </a:moveTo>
                  <a:lnTo>
                    <a:pt x="0" y="2819"/>
                  </a:lnTo>
                  <a:lnTo>
                    <a:pt x="21005" y="2819"/>
                  </a:lnTo>
                  <a:lnTo>
                    <a:pt x="2100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1ce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378080" y="2768760"/>
              <a:ext cx="7556760" cy="1222560"/>
            </a:xfrm>
            <a:custGeom>
              <a:avLst/>
              <a:gdLst/>
              <a:ahLst/>
              <a:rect l="0" t="0" r="r" b="b"/>
              <a:pathLst>
                <a:path w="20991" h="3396">
                  <a:moveTo>
                    <a:pt x="0" y="3365"/>
                  </a:moveTo>
                  <a:lnTo>
                    <a:pt x="0" y="0"/>
                  </a:lnTo>
                  <a:lnTo>
                    <a:pt x="20991" y="0"/>
                  </a:lnTo>
                  <a:lnTo>
                    <a:pt x="20991" y="3396"/>
                  </a:lnTo>
                  <a:lnTo>
                    <a:pt x="0" y="3365"/>
                  </a:lnTo>
                  <a:close/>
                </a:path>
              </a:pathLst>
            </a:custGeom>
            <a:solidFill>
              <a:srgbClr val="c1ce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05080" y="3043080"/>
              <a:ext cx="666720" cy="28116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071800" y="4838760"/>
              <a:ext cx="671400" cy="2761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 txBox="1"/>
            <p:nvPr/>
          </p:nvSpPr>
          <p:spPr>
            <a:xfrm>
              <a:off x="2025720" y="272268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0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5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4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766960" y="4843440"/>
              <a:ext cx="662040" cy="2570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 txBox="1"/>
            <p:nvPr/>
          </p:nvSpPr>
          <p:spPr>
            <a:xfrm>
              <a:off x="2749680" y="270972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0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1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8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0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 txBox="1"/>
            <p:nvPr/>
          </p:nvSpPr>
          <p:spPr>
            <a:xfrm>
              <a:off x="3422520" y="270972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0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6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5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 txBox="1"/>
            <p:nvPr/>
          </p:nvSpPr>
          <p:spPr>
            <a:xfrm>
              <a:off x="4121280" y="270972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0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1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562880" y="3624120"/>
              <a:ext cx="674640" cy="3049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 txBox="1"/>
            <p:nvPr/>
          </p:nvSpPr>
          <p:spPr>
            <a:xfrm>
              <a:off x="4819680" y="270972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0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7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6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1384200" y="4824360"/>
              <a:ext cx="754560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1384200" y="5114880"/>
              <a:ext cx="754056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1384200" y="5400720"/>
              <a:ext cx="75358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1389240" y="3938760"/>
              <a:ext cx="753084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1384200" y="3314880"/>
              <a:ext cx="7535880" cy="6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1384200" y="3610080"/>
              <a:ext cx="7535880" cy="9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1390680" y="3043080"/>
              <a:ext cx="7534080" cy="5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6208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6208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062080" y="4029120"/>
              <a:ext cx="0" cy="6332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57600" y="27669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757600" y="46386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757600" y="4024440"/>
              <a:ext cx="0" cy="6332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44340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44340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443400" y="4029120"/>
              <a:ext cx="0" cy="6476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2920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12920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124160" y="4019400"/>
              <a:ext cx="5040" cy="64296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50080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50080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500800" y="4010040"/>
              <a:ext cx="0" cy="65736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2436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82436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24360" y="4024440"/>
              <a:ext cx="0" cy="63792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176880" y="277164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176880" y="464328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176880" y="4024440"/>
              <a:ext cx="0" cy="64296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 txBox="1"/>
            <p:nvPr/>
          </p:nvSpPr>
          <p:spPr>
            <a:xfrm>
              <a:off x="1370160" y="272556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0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0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19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9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86268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86268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862680" y="4024440"/>
              <a:ext cx="0" cy="6620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54848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54848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543800" y="4019400"/>
              <a:ext cx="4680" cy="6620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253360" y="2781360"/>
              <a:ext cx="0" cy="124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253360" y="4653000"/>
              <a:ext cx="0" cy="10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253360" y="4019400"/>
              <a:ext cx="0" cy="65268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929800" y="4014720"/>
              <a:ext cx="0" cy="6476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376280" y="4019400"/>
              <a:ext cx="0" cy="60984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1390680" y="2190600"/>
              <a:ext cx="952560" cy="5382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715160" y="2171880"/>
              <a:ext cx="1219320" cy="5713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263080" y="3624120"/>
              <a:ext cx="657360" cy="3049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 txBox="1"/>
            <p:nvPr/>
          </p:nvSpPr>
          <p:spPr>
            <a:xfrm>
              <a:off x="5468760" y="270972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2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1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2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 txBox="1"/>
            <p:nvPr/>
          </p:nvSpPr>
          <p:spPr>
            <a:xfrm>
              <a:off x="6153120" y="270972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1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8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7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 txBox="1"/>
            <p:nvPr/>
          </p:nvSpPr>
          <p:spPr>
            <a:xfrm>
              <a:off x="6829560" y="270036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3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4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2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3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 txBox="1"/>
            <p:nvPr/>
          </p:nvSpPr>
          <p:spPr>
            <a:xfrm>
              <a:off x="7529400" y="270972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2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9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8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263080" y="2786040"/>
              <a:ext cx="652320" cy="2476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 txBox="1"/>
            <p:nvPr/>
          </p:nvSpPr>
          <p:spPr>
            <a:xfrm>
              <a:off x="8221680" y="2722680"/>
              <a:ext cx="738360" cy="302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4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1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3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134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 txBox="1"/>
            <p:nvPr/>
          </p:nvSpPr>
          <p:spPr>
            <a:xfrm>
              <a:off x="460440" y="1289160"/>
              <a:ext cx="1676520" cy="45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0"/>
                </a:lnSpc>
                <a:spcBef>
                  <a:spcPts val="1800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IF Pa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6" name=""/>
            <p:cNvGrpSpPr/>
            <p:nvPr/>
          </p:nvGrpSpPr>
          <p:grpSpPr>
            <a:xfrm>
              <a:off x="492120" y="1574640"/>
              <a:ext cx="1679400" cy="308160"/>
              <a:chOff x="492120" y="1574640"/>
              <a:chExt cx="1679400" cy="308160"/>
            </a:xfrm>
          </p:grpSpPr>
          <p:grpSp>
            <p:nvGrpSpPr>
              <p:cNvPr id="1817" name=""/>
              <p:cNvGrpSpPr/>
              <p:nvPr/>
            </p:nvGrpSpPr>
            <p:grpSpPr>
              <a:xfrm>
                <a:off x="492120" y="1574640"/>
                <a:ext cx="1679400" cy="304920"/>
                <a:chOff x="492120" y="1574640"/>
                <a:chExt cx="1679400" cy="30492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492120" y="1574640"/>
                  <a:ext cx="1679400" cy="304920"/>
                </a:xfrm>
                <a:prstGeom prst="rect">
                  <a:avLst/>
                </a:prstGeom>
                <a:solidFill>
                  <a:srgbClr val="a2c1fe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866880" y="1577880"/>
                  <a:ext cx="0" cy="285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0" name=""/>
              <p:cNvSpPr txBox="1"/>
              <p:nvPr/>
            </p:nvSpPr>
            <p:spPr>
              <a:xfrm>
                <a:off x="547560" y="1577880"/>
                <a:ext cx="282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 txBox="1"/>
              <p:nvPr/>
            </p:nvSpPr>
            <p:spPr>
              <a:xfrm>
                <a:off x="1047600" y="1577880"/>
                <a:ext cx="8953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7 by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2" name=""/>
            <p:cNvSpPr txBox="1"/>
            <p:nvPr/>
          </p:nvSpPr>
          <p:spPr>
            <a:xfrm>
              <a:off x="8069400" y="1521000"/>
              <a:ext cx="1947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1 Frame = 240k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"/>
          <p:cNvSpPr txBox="1"/>
          <p:nvPr/>
        </p:nvSpPr>
        <p:spPr>
          <a:xfrm>
            <a:off x="1179360" y="6000840"/>
            <a:ext cx="7907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Data - DIF Format Sequence of 50Mb/s Video+Audio+Data (525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"/>
          <p:cNvSpPr txBox="1"/>
          <p:nvPr/>
        </p:nvSpPr>
        <p:spPr>
          <a:xfrm>
            <a:off x="2232000" y="5996160"/>
            <a:ext cx="6149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Serial Data Transport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398520" y="923760"/>
            <a:ext cx="9101160" cy="4857840"/>
            <a:chOff x="398520" y="923760"/>
            <a:chExt cx="9101160" cy="4857840"/>
          </a:xfrm>
        </p:grpSpPr>
        <p:grpSp>
          <p:nvGrpSpPr>
            <p:cNvPr id="1826" name=""/>
            <p:cNvGrpSpPr/>
            <p:nvPr/>
          </p:nvGrpSpPr>
          <p:grpSpPr>
            <a:xfrm>
              <a:off x="1638360" y="1619280"/>
              <a:ext cx="7861320" cy="3322800"/>
              <a:chOff x="1638360" y="1619280"/>
              <a:chExt cx="7861320" cy="3322800"/>
            </a:xfrm>
          </p:grpSpPr>
          <p:sp>
            <p:nvSpPr>
              <p:cNvPr id="1827" name=""/>
              <p:cNvSpPr/>
              <p:nvPr/>
            </p:nvSpPr>
            <p:spPr>
              <a:xfrm>
                <a:off x="5950080" y="161928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343320" y="161928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648320" y="161928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277040" y="161928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009880" y="161928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638360" y="192096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349880" y="1920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016080" y="1920960"/>
                <a:ext cx="330480" cy="61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664240" y="192096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972480" y="192096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680000" y="428616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286760" y="428616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981760" y="428616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352680" y="428616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019240" y="4286160"/>
                <a:ext cx="1015920" cy="609480"/>
              </a:xfrm>
              <a:prstGeom prst="rect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638360" y="460044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6991200" y="458784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5676840" y="458784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368960" y="4587840"/>
                <a:ext cx="3045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3041640" y="4587840"/>
                <a:ext cx="3049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7" name=""/>
              <p:cNvGrpSpPr/>
              <p:nvPr/>
            </p:nvGrpSpPr>
            <p:grpSpPr>
              <a:xfrm>
                <a:off x="8315280" y="1905120"/>
                <a:ext cx="1184400" cy="2724120"/>
                <a:chOff x="8315280" y="1905120"/>
                <a:chExt cx="1184400" cy="272412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8483760" y="3000240"/>
                  <a:ext cx="1015920" cy="609480"/>
                </a:xfrm>
                <a:prstGeom prst="rect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8315280" y="1905120"/>
                  <a:ext cx="686160" cy="1047960"/>
                </a:xfrm>
                <a:custGeom>
                  <a:avLst/>
                  <a:gdLst/>
                  <a:ahLst/>
                  <a:rect l="0" t="0" r="r" b="b"/>
                  <a:pathLst>
                    <a:path fill="none" w="1906" h="2911">
                      <a:moveTo>
                        <a:pt x="0" y="0"/>
                      </a:moveTo>
                      <a:lnTo>
                        <a:pt x="1906" y="0"/>
                      </a:lnTo>
                      <a:lnTo>
                        <a:pt x="1906" y="2911"/>
                      </a:lnTo>
                    </a:path>
                  </a:pathLst>
                </a:custGeom>
                <a:ln w="12600">
                  <a:solidFill>
                    <a:srgbClr val="fafd00"/>
                  </a:solidFill>
                  <a:round/>
                  <a:tailEnd len="med" type="triangle" w="med"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8334360" y="3581280"/>
                  <a:ext cx="686160" cy="1047960"/>
                </a:xfrm>
                <a:custGeom>
                  <a:avLst/>
                  <a:gdLst/>
                  <a:ahLst/>
                  <a:rect l="0" t="0" r="r" b="b"/>
                  <a:pathLst>
                    <a:path fill="none" w="1906" h="2911">
                      <a:moveTo>
                        <a:pt x="0" y="2911"/>
                      </a:moveTo>
                      <a:lnTo>
                        <a:pt x="1906" y="2911"/>
                      </a:lnTo>
                      <a:lnTo>
                        <a:pt x="1906" y="0"/>
                      </a:lnTo>
                    </a:path>
                  </a:pathLst>
                </a:custGeom>
                <a:ln w="12600">
                  <a:solidFill>
                    <a:srgbClr val="fafd00"/>
                  </a:solidFill>
                  <a:round/>
                  <a:headEnd len="med" type="triangle" w="med"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1" name=""/>
              <p:cNvSpPr txBox="1"/>
              <p:nvPr/>
            </p:nvSpPr>
            <p:spPr>
              <a:xfrm>
                <a:off x="1924200" y="1679400"/>
                <a:ext cx="12016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ress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co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 txBox="1"/>
              <p:nvPr/>
            </p:nvSpPr>
            <p:spPr>
              <a:xfrm>
                <a:off x="3338640" y="1666800"/>
                <a:ext cx="10144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l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a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 txBox="1"/>
              <p:nvPr/>
            </p:nvSpPr>
            <p:spPr>
              <a:xfrm>
                <a:off x="4633920" y="1641600"/>
                <a:ext cx="10144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rea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a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 txBox="1"/>
              <p:nvPr/>
            </p:nvSpPr>
            <p:spPr>
              <a:xfrm>
                <a:off x="5942160" y="1654200"/>
                <a:ext cx="10144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a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 txBox="1"/>
              <p:nvPr/>
            </p:nvSpPr>
            <p:spPr>
              <a:xfrm>
                <a:off x="7262640" y="1666800"/>
                <a:ext cx="10144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D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a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 txBox="1"/>
              <p:nvPr/>
            </p:nvSpPr>
            <p:spPr>
              <a:xfrm>
                <a:off x="8561520" y="3051000"/>
                <a:ext cx="9064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 txBox="1"/>
              <p:nvPr/>
            </p:nvSpPr>
            <p:spPr>
              <a:xfrm>
                <a:off x="7324560" y="4307040"/>
                <a:ext cx="965160" cy="63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D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a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 txBox="1"/>
              <p:nvPr/>
            </p:nvSpPr>
            <p:spPr>
              <a:xfrm>
                <a:off x="6004080" y="4281480"/>
                <a:ext cx="965160" cy="63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xx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a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 txBox="1"/>
              <p:nvPr/>
            </p:nvSpPr>
            <p:spPr>
              <a:xfrm>
                <a:off x="4708440" y="4294080"/>
                <a:ext cx="965160" cy="63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ream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a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 txBox="1"/>
              <p:nvPr/>
            </p:nvSpPr>
            <p:spPr>
              <a:xfrm>
                <a:off x="3375000" y="4281480"/>
                <a:ext cx="965160" cy="63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l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at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 txBox="1"/>
              <p:nvPr/>
            </p:nvSpPr>
            <p:spPr>
              <a:xfrm>
                <a:off x="1998720" y="4321080"/>
                <a:ext cx="110340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r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o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511200" y="1797120"/>
              <a:ext cx="1162080" cy="2940120"/>
              <a:chOff x="511200" y="1797120"/>
              <a:chExt cx="1162080" cy="2940120"/>
            </a:xfrm>
          </p:grpSpPr>
          <p:sp>
            <p:nvSpPr>
              <p:cNvPr id="1863" name=""/>
              <p:cNvSpPr txBox="1"/>
              <p:nvPr/>
            </p:nvSpPr>
            <p:spPr>
              <a:xfrm>
                <a:off x="577800" y="1797120"/>
                <a:ext cx="965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VIDEO 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 txBox="1"/>
              <p:nvPr/>
            </p:nvSpPr>
            <p:spPr>
              <a:xfrm>
                <a:off x="511200" y="4432320"/>
                <a:ext cx="11620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VIDEO OU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1881360" y="1566720"/>
              <a:ext cx="5229000" cy="4214880"/>
              <a:chOff x="1881360" y="1566720"/>
              <a:chExt cx="5229000" cy="4214880"/>
            </a:xfrm>
          </p:grpSpPr>
          <p:sp>
            <p:nvSpPr>
              <p:cNvPr id="1866" name=""/>
              <p:cNvSpPr/>
              <p:nvPr/>
            </p:nvSpPr>
            <p:spPr>
              <a:xfrm>
                <a:off x="3143160" y="1566720"/>
                <a:ext cx="0" cy="4214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881360" y="1566720"/>
                <a:ext cx="0" cy="4214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462560" y="1566720"/>
                <a:ext cx="0" cy="4214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786280" y="1566720"/>
                <a:ext cx="0" cy="4214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110360" y="1566720"/>
                <a:ext cx="0" cy="4214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1998720" y="5043600"/>
              <a:ext cx="6265800" cy="730080"/>
              <a:chOff x="1998720" y="5043600"/>
              <a:chExt cx="6265800" cy="730080"/>
            </a:xfrm>
          </p:grpSpPr>
          <p:sp>
            <p:nvSpPr>
              <p:cNvPr id="1872" name=""/>
              <p:cNvSpPr txBox="1"/>
              <p:nvPr/>
            </p:nvSpPr>
            <p:spPr>
              <a:xfrm>
                <a:off x="1998720" y="5149800"/>
                <a:ext cx="103356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ISO, IE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tandar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 txBox="1"/>
              <p:nvPr/>
            </p:nvSpPr>
            <p:spPr>
              <a:xfrm>
                <a:off x="3308400" y="5149800"/>
                <a:ext cx="103356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ISO, IE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tandar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 txBox="1"/>
              <p:nvPr/>
            </p:nvSpPr>
            <p:spPr>
              <a:xfrm>
                <a:off x="4653000" y="5043600"/>
                <a:ext cx="934920" cy="73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MP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tandar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 txBox="1"/>
              <p:nvPr/>
            </p:nvSpPr>
            <p:spPr>
              <a:xfrm>
                <a:off x="5991120" y="5043600"/>
                <a:ext cx="934920" cy="73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xx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MP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tandar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 txBox="1"/>
              <p:nvPr/>
            </p:nvSpPr>
            <p:spPr>
              <a:xfrm>
                <a:off x="7329600" y="5043600"/>
                <a:ext cx="934920" cy="73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MP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259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tandar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859040" y="2822400"/>
              <a:ext cx="6610320" cy="942840"/>
              <a:chOff x="1859040" y="2822400"/>
              <a:chExt cx="6610320" cy="942840"/>
            </a:xfrm>
          </p:grpSpPr>
          <p:sp>
            <p:nvSpPr>
              <p:cNvPr id="1878" name=""/>
              <p:cNvSpPr txBox="1"/>
              <p:nvPr/>
            </p:nvSpPr>
            <p:spPr>
              <a:xfrm>
                <a:off x="1859040" y="2822400"/>
                <a:ext cx="1370160" cy="9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ompress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PEG 422,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DV 42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 txBox="1"/>
              <p:nvPr/>
            </p:nvSpPr>
            <p:spPr>
              <a:xfrm>
                <a:off x="3238560" y="2822400"/>
                <a:ext cx="1143000" cy="9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Basi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File Forma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PES, DI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 txBox="1"/>
              <p:nvPr/>
            </p:nvSpPr>
            <p:spPr>
              <a:xfrm>
                <a:off x="4592520" y="2822400"/>
                <a:ext cx="1054080" cy="9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trea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Attribu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MPEG, D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 txBox="1"/>
              <p:nvPr/>
            </p:nvSpPr>
            <p:spPr>
              <a:xfrm>
                <a:off x="5925960" y="2822400"/>
                <a:ext cx="1033560" cy="9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Data Typ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oth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 txBox="1"/>
              <p:nvPr/>
            </p:nvSpPr>
            <p:spPr>
              <a:xfrm>
                <a:off x="7209000" y="2822400"/>
                <a:ext cx="1260360" cy="9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erial Digit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Interfa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Lay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D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3" name=""/>
            <p:cNvSpPr/>
            <p:nvPr/>
          </p:nvSpPr>
          <p:spPr>
            <a:xfrm>
              <a:off x="1625760" y="1206360"/>
              <a:ext cx="4153320" cy="546480"/>
            </a:xfrm>
            <a:custGeom>
              <a:avLst/>
              <a:gdLst/>
              <a:ahLst/>
              <a:rect l="0" t="0" r="r" b="b"/>
              <a:pathLst>
                <a:path fill="none" w="11537" h="1518">
                  <a:moveTo>
                    <a:pt x="0" y="0"/>
                  </a:moveTo>
                  <a:lnTo>
                    <a:pt x="11537" y="0"/>
                  </a:lnTo>
                  <a:lnTo>
                    <a:pt x="11537" y="1518"/>
                  </a:lnTo>
                </a:path>
              </a:pathLst>
            </a:custGeom>
            <a:ln w="12600">
              <a:solidFill>
                <a:srgbClr val="fafd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676520" y="4013280"/>
              <a:ext cx="4153320" cy="546480"/>
            </a:xfrm>
            <a:custGeom>
              <a:avLst/>
              <a:gdLst/>
              <a:ahLst/>
              <a:rect l="0" t="0" r="r" b="b"/>
              <a:pathLst>
                <a:path fill="none" w="11537" h="1518">
                  <a:moveTo>
                    <a:pt x="0" y="0"/>
                  </a:moveTo>
                  <a:lnTo>
                    <a:pt x="11537" y="0"/>
                  </a:lnTo>
                  <a:lnTo>
                    <a:pt x="11537" y="1518"/>
                  </a:lnTo>
                </a:path>
              </a:pathLst>
            </a:custGeom>
            <a:ln w="12600">
              <a:solidFill>
                <a:srgbClr val="fafd00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 txBox="1"/>
            <p:nvPr/>
          </p:nvSpPr>
          <p:spPr>
            <a:xfrm>
              <a:off x="398520" y="3755880"/>
              <a:ext cx="12603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mpres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 Out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 txBox="1"/>
            <p:nvPr/>
          </p:nvSpPr>
          <p:spPr>
            <a:xfrm>
              <a:off x="398520" y="923760"/>
              <a:ext cx="12603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mpress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  In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"/>
          <p:cNvSpPr txBox="1"/>
          <p:nvPr/>
        </p:nvSpPr>
        <p:spPr>
          <a:xfrm>
            <a:off x="3279600" y="5996160"/>
            <a:ext cx="3768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Features of  DVC Compress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 txBox="1"/>
          <p:nvPr/>
        </p:nvSpPr>
        <p:spPr>
          <a:xfrm>
            <a:off x="3013200" y="1128600"/>
            <a:ext cx="578808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ultiple DVC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12.5Mbits/sec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S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25 Mbits/sec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50 Mbits/sec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cquisition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  4 : 1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News Application at 25Mbits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Compression 5 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Frame-bound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Signal Processing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  4 : 2 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Post Production at 50 Mbits/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Compression 3.3 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Inter-operability between 25Mb/s &amp; 50Mb/s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Frame-bound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635200" y="1265400"/>
            <a:ext cx="128520" cy="1144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641680" y="2665440"/>
            <a:ext cx="128520" cy="1144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641680" y="4062240"/>
            <a:ext cx="128520" cy="1144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"/>
          <p:cNvSpPr txBox="1"/>
          <p:nvPr/>
        </p:nvSpPr>
        <p:spPr>
          <a:xfrm>
            <a:off x="2921040" y="6014880"/>
            <a:ext cx="447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Features of  DVC Compression cont.’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3" name=""/>
          <p:cNvGrpSpPr/>
          <p:nvPr/>
        </p:nvGrpSpPr>
        <p:grpSpPr>
          <a:xfrm>
            <a:off x="3340080" y="1801800"/>
            <a:ext cx="3651120" cy="3016080"/>
            <a:chOff x="3340080" y="1801800"/>
            <a:chExt cx="3651120" cy="3016080"/>
          </a:xfrm>
        </p:grpSpPr>
        <p:sp>
          <p:nvSpPr>
            <p:cNvPr id="1894" name=""/>
            <p:cNvSpPr txBox="1"/>
            <p:nvPr/>
          </p:nvSpPr>
          <p:spPr>
            <a:xfrm>
              <a:off x="3693960" y="1801800"/>
              <a:ext cx="3297240" cy="301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Frame-bound Edi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Inter-oper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ymmetrical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Low P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st Effective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3340080" y="1932120"/>
              <a:ext cx="117360" cy="2679840"/>
              <a:chOff x="3340080" y="1932120"/>
              <a:chExt cx="117360" cy="2679840"/>
            </a:xfrm>
          </p:grpSpPr>
          <p:sp>
            <p:nvSpPr>
              <p:cNvPr id="1896" name=""/>
              <p:cNvSpPr/>
              <p:nvPr/>
            </p:nvSpPr>
            <p:spPr>
              <a:xfrm>
                <a:off x="3340080" y="1932120"/>
                <a:ext cx="1173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340080" y="2554200"/>
                <a:ext cx="1173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340080" y="3214800"/>
                <a:ext cx="1173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340080" y="3862440"/>
                <a:ext cx="1173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340080" y="4497480"/>
                <a:ext cx="11736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 txBox="1"/>
          <p:nvPr/>
        </p:nvSpPr>
        <p:spPr>
          <a:xfrm>
            <a:off x="2232000" y="5996160"/>
            <a:ext cx="6149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Future DVC Compression 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2924280" y="1757520"/>
            <a:ext cx="5267160" cy="27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HDTV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compression ready for HD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rch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ass Video/Data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ther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isc based Recorders/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at 25 Mb/s or 50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502000" y="1932120"/>
            <a:ext cx="128520" cy="1144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2508120" y="2703600"/>
            <a:ext cx="128520" cy="1144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2508120" y="3624120"/>
            <a:ext cx="128520" cy="1144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6" name=""/>
          <p:cNvGrpSpPr/>
          <p:nvPr/>
        </p:nvGrpSpPr>
        <p:grpSpPr>
          <a:xfrm>
            <a:off x="3546360" y="2085840"/>
            <a:ext cx="3233880" cy="2252880"/>
            <a:chOff x="3546360" y="2085840"/>
            <a:chExt cx="3233880" cy="2252880"/>
          </a:xfrm>
        </p:grpSpPr>
        <p:sp>
          <p:nvSpPr>
            <p:cNvPr id="1907" name=""/>
            <p:cNvSpPr txBox="1"/>
            <p:nvPr/>
          </p:nvSpPr>
          <p:spPr>
            <a:xfrm>
              <a:off x="3546360" y="3514680"/>
              <a:ext cx="3233880" cy="82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afd00"/>
                  </a:solidFill>
                  <a:latin typeface="Arial"/>
                  <a:ea typeface="Arial"/>
                </a:rPr>
                <a:t>Panasoni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603680" y="2085840"/>
              <a:ext cx="1085760" cy="1063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637160" y="2116080"/>
              <a:ext cx="1015920" cy="10047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724280" y="2119320"/>
              <a:ext cx="848160" cy="776520"/>
            </a:xfrm>
            <a:custGeom>
              <a:avLst/>
              <a:gdLst/>
              <a:ahLst/>
              <a:rect l="0" t="0" r="r" b="b"/>
              <a:pathLst>
                <a:path w="2356" h="2157">
                  <a:moveTo>
                    <a:pt x="1156" y="0"/>
                  </a:moveTo>
                  <a:lnTo>
                    <a:pt x="0" y="2157"/>
                  </a:lnTo>
                  <a:lnTo>
                    <a:pt x="2356" y="2152"/>
                  </a:lnTo>
                  <a:lnTo>
                    <a:pt x="115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045040" y="2519280"/>
              <a:ext cx="205200" cy="181440"/>
            </a:xfrm>
            <a:custGeom>
              <a:avLst/>
              <a:gdLst/>
              <a:ahLst/>
              <a:rect l="0" t="0" r="r" b="b"/>
              <a:pathLst>
                <a:path w="570" h="504">
                  <a:moveTo>
                    <a:pt x="292" y="0"/>
                  </a:moveTo>
                  <a:lnTo>
                    <a:pt x="0" y="504"/>
                  </a:lnTo>
                  <a:lnTo>
                    <a:pt x="570" y="504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843440" y="2417760"/>
              <a:ext cx="182880" cy="282960"/>
            </a:xfrm>
            <a:custGeom>
              <a:avLst/>
              <a:gdLst/>
              <a:ahLst/>
              <a:rect l="0" t="0" r="r" b="b"/>
              <a:pathLst>
                <a:path w="508" h="786">
                  <a:moveTo>
                    <a:pt x="358" y="0"/>
                  </a:moveTo>
                  <a:lnTo>
                    <a:pt x="508" y="4"/>
                  </a:lnTo>
                  <a:lnTo>
                    <a:pt x="70" y="786"/>
                  </a:lnTo>
                  <a:lnTo>
                    <a:pt x="0" y="676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268960" y="2417760"/>
              <a:ext cx="186120" cy="287640"/>
            </a:xfrm>
            <a:custGeom>
              <a:avLst/>
              <a:gdLst/>
              <a:ahLst/>
              <a:rect l="0" t="0" r="r" b="b"/>
              <a:pathLst>
                <a:path w="517" h="799">
                  <a:moveTo>
                    <a:pt x="137" y="0"/>
                  </a:moveTo>
                  <a:lnTo>
                    <a:pt x="0" y="8"/>
                  </a:lnTo>
                  <a:lnTo>
                    <a:pt x="438" y="799"/>
                  </a:lnTo>
                  <a:lnTo>
                    <a:pt x="517" y="688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984920" y="2859120"/>
              <a:ext cx="322560" cy="49680"/>
            </a:xfrm>
            <a:custGeom>
              <a:avLst/>
              <a:gdLst/>
              <a:ahLst/>
              <a:rect l="0" t="0" r="r" b="b"/>
              <a:pathLst>
                <a:path w="896" h="138">
                  <a:moveTo>
                    <a:pt x="88" y="138"/>
                  </a:moveTo>
                  <a:lnTo>
                    <a:pt x="0" y="0"/>
                  </a:lnTo>
                  <a:lnTo>
                    <a:pt x="896" y="4"/>
                  </a:lnTo>
                  <a:lnTo>
                    <a:pt x="834" y="121"/>
                  </a:lnTo>
                  <a:lnTo>
                    <a:pt x="88" y="13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64040" y="2903400"/>
              <a:ext cx="365040" cy="302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789440" y="2392200"/>
              <a:ext cx="195480" cy="289440"/>
            </a:xfrm>
            <a:custGeom>
              <a:avLst/>
              <a:gdLst/>
              <a:ahLst/>
              <a:rect l="0" t="0" r="r" b="b"/>
              <a:pathLst>
                <a:path w="543" h="804">
                  <a:moveTo>
                    <a:pt x="119" y="791"/>
                  </a:moveTo>
                  <a:lnTo>
                    <a:pt x="543" y="0"/>
                  </a:lnTo>
                  <a:lnTo>
                    <a:pt x="419" y="0"/>
                  </a:lnTo>
                  <a:lnTo>
                    <a:pt x="0" y="804"/>
                  </a:lnTo>
                  <a:lnTo>
                    <a:pt x="119" y="791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99200" y="2374920"/>
              <a:ext cx="209880" cy="322560"/>
            </a:xfrm>
            <a:custGeom>
              <a:avLst/>
              <a:gdLst/>
              <a:ahLst/>
              <a:rect l="0" t="0" r="r" b="b"/>
              <a:pathLst>
                <a:path w="583" h="896">
                  <a:moveTo>
                    <a:pt x="0" y="52"/>
                  </a:moveTo>
                  <a:lnTo>
                    <a:pt x="477" y="896"/>
                  </a:lnTo>
                  <a:lnTo>
                    <a:pt x="583" y="825"/>
                  </a:lnTo>
                  <a:lnTo>
                    <a:pt x="110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 txBox="1"/>
          <p:nvPr/>
        </p:nvSpPr>
        <p:spPr>
          <a:xfrm>
            <a:off x="2085840" y="6010200"/>
            <a:ext cx="6116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ivision of Matsushita Electric Corporation of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394080" y="6005520"/>
            <a:ext cx="350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Compression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33400" y="1027080"/>
            <a:ext cx="7267680" cy="4660920"/>
            <a:chOff x="1733400" y="1027080"/>
            <a:chExt cx="7267680" cy="4660920"/>
          </a:xfrm>
        </p:grpSpPr>
        <p:sp>
          <p:nvSpPr>
            <p:cNvPr id="65" name=""/>
            <p:cNvSpPr txBox="1"/>
            <p:nvPr/>
          </p:nvSpPr>
          <p:spPr>
            <a:xfrm>
              <a:off x="2076480" y="1027080"/>
              <a:ext cx="6924600" cy="466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ignal Structure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4 : 1 : 1   8-bit, 13.5 MHz sampl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mponent Digital, 720 x 4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ompression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5 : 1 Intra-frame  DCT ba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DVC Standard; 24.98 Mbits/s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ymmetrical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CT Transform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Intra-frame motion depend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 - 8 DCT mode, 2-  4 - 8 DCT m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 Weighting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frequency depend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DCT data weigh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 Buffering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feed-forward buffe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7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7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Quantizing Step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6 step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Quantizing Levels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 to 16 levels based on binary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733400" y="1174680"/>
              <a:ext cx="114480" cy="4316760"/>
              <a:chOff x="1733400" y="1174680"/>
              <a:chExt cx="114480" cy="4316760"/>
            </a:xfrm>
          </p:grpSpPr>
          <p:sp>
            <p:nvSpPr>
              <p:cNvPr id="67" name=""/>
              <p:cNvSpPr/>
              <p:nvPr/>
            </p:nvSpPr>
            <p:spPr>
              <a:xfrm>
                <a:off x="1733400" y="117468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33400" y="187308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733400" y="286380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33400" y="427212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33400" y="354816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33400" y="481644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33400" y="5376960"/>
                <a:ext cx="114480" cy="1144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916360" y="6005520"/>
            <a:ext cx="461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lock Diagram of DVC Shuffl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1238400"/>
            <a:ext cx="6762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490920" y="1743120"/>
            <a:ext cx="3382920" cy="2530440"/>
            <a:chOff x="3490920" y="1743120"/>
            <a:chExt cx="3382920" cy="2530440"/>
          </a:xfrm>
        </p:grpSpPr>
        <p:sp>
          <p:nvSpPr>
            <p:cNvPr id="77" name=""/>
            <p:cNvSpPr/>
            <p:nvPr/>
          </p:nvSpPr>
          <p:spPr>
            <a:xfrm>
              <a:off x="3490920" y="1743120"/>
              <a:ext cx="26859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619440" y="2384280"/>
              <a:ext cx="381240" cy="66960"/>
              <a:chOff x="3619440" y="2384280"/>
              <a:chExt cx="381240" cy="66960"/>
            </a:xfrm>
          </p:grpSpPr>
          <p:sp>
            <p:nvSpPr>
              <p:cNvPr id="79" name=""/>
              <p:cNvSpPr/>
              <p:nvPr/>
            </p:nvSpPr>
            <p:spPr>
              <a:xfrm>
                <a:off x="3619440" y="2414520"/>
                <a:ext cx="3812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59200" y="238428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997440" y="2100240"/>
              <a:ext cx="860400" cy="600120"/>
              <a:chOff x="3997440" y="2100240"/>
              <a:chExt cx="860400" cy="600120"/>
            </a:xfrm>
          </p:grpSpPr>
          <p:sp>
            <p:nvSpPr>
              <p:cNvPr id="82" name=""/>
              <p:cNvSpPr/>
              <p:nvPr/>
            </p:nvSpPr>
            <p:spPr>
              <a:xfrm>
                <a:off x="3997440" y="210024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ae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4002120" y="2146320"/>
                <a:ext cx="85572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ro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l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5148360" y="3233880"/>
              <a:ext cx="1028880" cy="100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635800" y="2682720"/>
              <a:ext cx="66960" cy="730440"/>
              <a:chOff x="5635800" y="2682720"/>
              <a:chExt cx="66960" cy="730440"/>
            </a:xfrm>
          </p:grpSpPr>
          <p:sp>
            <p:nvSpPr>
              <p:cNvPr id="86" name=""/>
              <p:cNvSpPr/>
              <p:nvPr/>
            </p:nvSpPr>
            <p:spPr>
              <a:xfrm flipV="1">
                <a:off x="5672160" y="2682720"/>
                <a:ext cx="0" cy="730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635800" y="270360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0" y="371"/>
                    </a:moveTo>
                    <a:lnTo>
                      <a:pt x="186" y="371"/>
                    </a:lnTo>
                    <a:lnTo>
                      <a:pt x="88" y="0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192640" y="2098800"/>
              <a:ext cx="954000" cy="600120"/>
              <a:chOff x="5192640" y="2098800"/>
              <a:chExt cx="954000" cy="600120"/>
            </a:xfrm>
          </p:grpSpPr>
          <p:sp>
            <p:nvSpPr>
              <p:cNvPr id="89" name=""/>
              <p:cNvSpPr/>
              <p:nvPr/>
            </p:nvSpPr>
            <p:spPr>
              <a:xfrm>
                <a:off x="5254560" y="209880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ae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5192640" y="2162160"/>
                <a:ext cx="95400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uffl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248440" y="3378240"/>
              <a:ext cx="874440" cy="600120"/>
              <a:chOff x="5248440" y="3378240"/>
              <a:chExt cx="874440" cy="600120"/>
            </a:xfrm>
          </p:grpSpPr>
          <p:sp>
            <p:nvSpPr>
              <p:cNvPr id="92" name=""/>
              <p:cNvSpPr/>
              <p:nvPr/>
            </p:nvSpPr>
            <p:spPr>
              <a:xfrm>
                <a:off x="5248440" y="3378240"/>
                <a:ext cx="857160" cy="6001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128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5257800" y="3422520"/>
                <a:ext cx="86508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uff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mor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856040" y="2379600"/>
              <a:ext cx="395640" cy="66960"/>
              <a:chOff x="4856040" y="2379600"/>
              <a:chExt cx="395640" cy="66960"/>
            </a:xfrm>
          </p:grpSpPr>
          <p:sp>
            <p:nvSpPr>
              <p:cNvPr id="95" name=""/>
              <p:cNvSpPr/>
              <p:nvPr/>
            </p:nvSpPr>
            <p:spPr>
              <a:xfrm>
                <a:off x="4856040" y="2413080"/>
                <a:ext cx="3812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118120" y="237960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108840" y="2373480"/>
              <a:ext cx="395280" cy="66960"/>
              <a:chOff x="6108840" y="2373480"/>
              <a:chExt cx="395280" cy="66960"/>
            </a:xfrm>
          </p:grpSpPr>
          <p:sp>
            <p:nvSpPr>
              <p:cNvPr id="98" name=""/>
              <p:cNvSpPr/>
              <p:nvPr/>
            </p:nvSpPr>
            <p:spPr>
              <a:xfrm>
                <a:off x="6108840" y="2406600"/>
                <a:ext cx="380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370560" y="2373480"/>
                <a:ext cx="133560" cy="66960"/>
              </a:xfrm>
              <a:custGeom>
                <a:avLst/>
                <a:gdLst/>
                <a:ahLst/>
                <a:rect l="0" t="0" r="r" b="b"/>
                <a:pathLst>
                  <a:path w="371" h="186">
                    <a:moveTo>
                      <a:pt x="0" y="0"/>
                    </a:moveTo>
                    <a:lnTo>
                      <a:pt x="0" y="186"/>
                    </a:lnTo>
                    <a:lnTo>
                      <a:pt x="371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 txBox="1"/>
            <p:nvPr/>
          </p:nvSpPr>
          <p:spPr>
            <a:xfrm>
              <a:off x="4792680" y="2131920"/>
              <a:ext cx="53964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4:1: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C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5326200" y="3998880"/>
              <a:ext cx="712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&lt; 5Mb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3497400" y="2146320"/>
              <a:ext cx="53964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4:2: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C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6080040" y="2095560"/>
              <a:ext cx="793800" cy="60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Shuffl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857240" y="1341360"/>
            <a:ext cx="7324920" cy="3962520"/>
            <a:chOff x="1857240" y="1341360"/>
            <a:chExt cx="7324920" cy="3962520"/>
          </a:xfrm>
        </p:grpSpPr>
        <p:sp>
          <p:nvSpPr>
            <p:cNvPr id="105" name=""/>
            <p:cNvSpPr txBox="1"/>
            <p:nvPr/>
          </p:nvSpPr>
          <p:spPr>
            <a:xfrm>
              <a:off x="1857240" y="3309840"/>
              <a:ext cx="1042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480 li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168720" y="2089080"/>
              <a:ext cx="3749760" cy="1138320"/>
              <a:chOff x="3168720" y="2089080"/>
              <a:chExt cx="3749760" cy="113832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3168720" y="2089080"/>
                <a:ext cx="3749760" cy="573120"/>
                <a:chOff x="3168720" y="2089080"/>
                <a:chExt cx="3749760" cy="57312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3168720" y="2370240"/>
                  <a:ext cx="3749760" cy="291960"/>
                  <a:chOff x="3168720" y="2370240"/>
                  <a:chExt cx="3749760" cy="2919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3168720" y="2370240"/>
                    <a:ext cx="3749760" cy="291960"/>
                  </a:xfrm>
                  <a:prstGeom prst="rect">
                    <a:avLst/>
                  </a:pr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855960" y="2382840"/>
                    <a:ext cx="16236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55">
                        <a:moveTo>
                          <a:pt x="451" y="0"/>
                        </a:moveTo>
                        <a:lnTo>
                          <a:pt x="451" y="374"/>
                        </a:lnTo>
                        <a:lnTo>
                          <a:pt x="0" y="374"/>
                        </a:lnTo>
                        <a:lnTo>
                          <a:pt x="0" y="755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389560" y="2374920"/>
                    <a:ext cx="162360" cy="28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82">
                        <a:moveTo>
                          <a:pt x="451" y="0"/>
                        </a:moveTo>
                        <a:lnTo>
                          <a:pt x="451" y="389"/>
                        </a:lnTo>
                        <a:lnTo>
                          <a:pt x="0" y="389"/>
                        </a:lnTo>
                        <a:lnTo>
                          <a:pt x="0" y="782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3168720" y="2089080"/>
                  <a:ext cx="3749760" cy="291960"/>
                  <a:chOff x="3168720" y="2089080"/>
                  <a:chExt cx="3749760" cy="2919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3168720" y="2089080"/>
                    <a:ext cx="3749760" cy="291960"/>
                  </a:xfrm>
                  <a:prstGeom prst="rect">
                    <a:avLst/>
                  </a:pr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855960" y="2101680"/>
                    <a:ext cx="16236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55">
                        <a:moveTo>
                          <a:pt x="451" y="0"/>
                        </a:moveTo>
                        <a:lnTo>
                          <a:pt x="451" y="374"/>
                        </a:lnTo>
                        <a:lnTo>
                          <a:pt x="0" y="374"/>
                        </a:lnTo>
                        <a:lnTo>
                          <a:pt x="0" y="755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5389560" y="2093760"/>
                    <a:ext cx="162360" cy="28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82">
                        <a:moveTo>
                          <a:pt x="451" y="0"/>
                        </a:moveTo>
                        <a:lnTo>
                          <a:pt x="451" y="389"/>
                        </a:lnTo>
                        <a:lnTo>
                          <a:pt x="0" y="389"/>
                        </a:lnTo>
                        <a:lnTo>
                          <a:pt x="0" y="782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3168720" y="2654280"/>
                <a:ext cx="3749760" cy="573120"/>
                <a:chOff x="3168720" y="2654280"/>
                <a:chExt cx="3749760" cy="57312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3168720" y="2935440"/>
                  <a:ext cx="3749760" cy="291960"/>
                  <a:chOff x="3168720" y="2935440"/>
                  <a:chExt cx="3749760" cy="29196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3168720" y="2935440"/>
                    <a:ext cx="3749760" cy="291960"/>
                  </a:xfrm>
                  <a:prstGeom prst="rect">
                    <a:avLst/>
                  </a:pr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855960" y="2948040"/>
                    <a:ext cx="16236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55">
                        <a:moveTo>
                          <a:pt x="451" y="0"/>
                        </a:moveTo>
                        <a:lnTo>
                          <a:pt x="451" y="374"/>
                        </a:lnTo>
                        <a:lnTo>
                          <a:pt x="0" y="374"/>
                        </a:lnTo>
                        <a:lnTo>
                          <a:pt x="0" y="755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389560" y="2940120"/>
                    <a:ext cx="162360" cy="28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82">
                        <a:moveTo>
                          <a:pt x="451" y="0"/>
                        </a:moveTo>
                        <a:lnTo>
                          <a:pt x="451" y="389"/>
                        </a:lnTo>
                        <a:lnTo>
                          <a:pt x="0" y="389"/>
                        </a:lnTo>
                        <a:lnTo>
                          <a:pt x="0" y="782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3168720" y="2654280"/>
                  <a:ext cx="3749760" cy="291960"/>
                  <a:chOff x="3168720" y="2654280"/>
                  <a:chExt cx="3749760" cy="29196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3168720" y="2654280"/>
                    <a:ext cx="3749760" cy="291960"/>
                  </a:xfrm>
                  <a:prstGeom prst="rect">
                    <a:avLst/>
                  </a:pr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855960" y="2666880"/>
                    <a:ext cx="16236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55">
                        <a:moveTo>
                          <a:pt x="451" y="0"/>
                        </a:moveTo>
                        <a:lnTo>
                          <a:pt x="451" y="374"/>
                        </a:lnTo>
                        <a:lnTo>
                          <a:pt x="0" y="374"/>
                        </a:lnTo>
                        <a:lnTo>
                          <a:pt x="0" y="755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389560" y="2658960"/>
                    <a:ext cx="162360" cy="28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82">
                        <a:moveTo>
                          <a:pt x="451" y="0"/>
                        </a:moveTo>
                        <a:lnTo>
                          <a:pt x="451" y="389"/>
                        </a:lnTo>
                        <a:lnTo>
                          <a:pt x="0" y="389"/>
                        </a:lnTo>
                        <a:lnTo>
                          <a:pt x="0" y="782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5" name=""/>
            <p:cNvSpPr txBox="1"/>
            <p:nvPr/>
          </p:nvSpPr>
          <p:spPr>
            <a:xfrm>
              <a:off x="3262320" y="209088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0,0           S 0,1        S 0,2            S 0,3        S 0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252960" y="238608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1,0           S 1,1        S 1,2            S 1,3        S 1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168720" y="3219480"/>
              <a:ext cx="3749760" cy="1137960"/>
              <a:chOff x="3168720" y="3219480"/>
              <a:chExt cx="3749760" cy="11379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168720" y="3219480"/>
                <a:ext cx="3749760" cy="572760"/>
                <a:chOff x="3168720" y="3219480"/>
                <a:chExt cx="3749760" cy="57276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3168720" y="3500280"/>
                  <a:ext cx="3749760" cy="291960"/>
                  <a:chOff x="3168720" y="3500280"/>
                  <a:chExt cx="3749760" cy="2919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3168720" y="3500280"/>
                    <a:ext cx="3749760" cy="291960"/>
                  </a:xfrm>
                  <a:prstGeom prst="rect">
                    <a:avLst/>
                  </a:pr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855960" y="3513240"/>
                    <a:ext cx="16236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55">
                        <a:moveTo>
                          <a:pt x="451" y="0"/>
                        </a:moveTo>
                        <a:lnTo>
                          <a:pt x="451" y="374"/>
                        </a:lnTo>
                        <a:lnTo>
                          <a:pt x="0" y="374"/>
                        </a:lnTo>
                        <a:lnTo>
                          <a:pt x="0" y="755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389560" y="3505320"/>
                    <a:ext cx="162360" cy="28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82">
                        <a:moveTo>
                          <a:pt x="451" y="0"/>
                        </a:moveTo>
                        <a:lnTo>
                          <a:pt x="451" y="389"/>
                        </a:lnTo>
                        <a:lnTo>
                          <a:pt x="0" y="389"/>
                        </a:lnTo>
                        <a:lnTo>
                          <a:pt x="0" y="782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3168720" y="3219480"/>
                  <a:ext cx="3749760" cy="291960"/>
                  <a:chOff x="3168720" y="3219480"/>
                  <a:chExt cx="3749760" cy="29196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3168720" y="3219480"/>
                    <a:ext cx="3749760" cy="291960"/>
                  </a:xfrm>
                  <a:prstGeom prst="rect">
                    <a:avLst/>
                  </a:pr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855960" y="3232080"/>
                    <a:ext cx="16236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55">
                        <a:moveTo>
                          <a:pt x="451" y="0"/>
                        </a:moveTo>
                        <a:lnTo>
                          <a:pt x="451" y="374"/>
                        </a:lnTo>
                        <a:lnTo>
                          <a:pt x="0" y="374"/>
                        </a:lnTo>
                        <a:lnTo>
                          <a:pt x="0" y="755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389560" y="3224160"/>
                    <a:ext cx="162360" cy="28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82">
                        <a:moveTo>
                          <a:pt x="451" y="0"/>
                        </a:moveTo>
                        <a:lnTo>
                          <a:pt x="451" y="389"/>
                        </a:lnTo>
                        <a:lnTo>
                          <a:pt x="0" y="389"/>
                        </a:lnTo>
                        <a:lnTo>
                          <a:pt x="0" y="782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"/>
              <p:cNvGrpSpPr/>
              <p:nvPr/>
            </p:nvGrpSpPr>
            <p:grpSpPr>
              <a:xfrm>
                <a:off x="3168720" y="3784680"/>
                <a:ext cx="3749760" cy="572760"/>
                <a:chOff x="3168720" y="3784680"/>
                <a:chExt cx="3749760" cy="57276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3168720" y="4065480"/>
                  <a:ext cx="3749760" cy="291960"/>
                  <a:chOff x="3168720" y="4065480"/>
                  <a:chExt cx="3749760" cy="29196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3168720" y="4065480"/>
                    <a:ext cx="3749760" cy="291960"/>
                  </a:xfrm>
                  <a:prstGeom prst="rect">
                    <a:avLst/>
                  </a:pr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855960" y="4078440"/>
                    <a:ext cx="16236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55">
                        <a:moveTo>
                          <a:pt x="451" y="0"/>
                        </a:moveTo>
                        <a:lnTo>
                          <a:pt x="451" y="374"/>
                        </a:lnTo>
                        <a:lnTo>
                          <a:pt x="0" y="374"/>
                        </a:lnTo>
                        <a:lnTo>
                          <a:pt x="0" y="755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389560" y="4070520"/>
                    <a:ext cx="162360" cy="28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82">
                        <a:moveTo>
                          <a:pt x="451" y="0"/>
                        </a:moveTo>
                        <a:lnTo>
                          <a:pt x="451" y="389"/>
                        </a:lnTo>
                        <a:lnTo>
                          <a:pt x="0" y="389"/>
                        </a:lnTo>
                        <a:lnTo>
                          <a:pt x="0" y="782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3168720" y="3784680"/>
                  <a:ext cx="3749760" cy="291960"/>
                  <a:chOff x="3168720" y="3784680"/>
                  <a:chExt cx="3749760" cy="29196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3168720" y="3784680"/>
                    <a:ext cx="3749760" cy="291960"/>
                  </a:xfrm>
                  <a:prstGeom prst="rect">
                    <a:avLst/>
                  </a:pr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855960" y="3797280"/>
                    <a:ext cx="16236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55">
                        <a:moveTo>
                          <a:pt x="451" y="0"/>
                        </a:moveTo>
                        <a:lnTo>
                          <a:pt x="451" y="374"/>
                        </a:lnTo>
                        <a:lnTo>
                          <a:pt x="0" y="374"/>
                        </a:lnTo>
                        <a:lnTo>
                          <a:pt x="0" y="755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389560" y="3789360"/>
                    <a:ext cx="162360" cy="28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51" h="782">
                        <a:moveTo>
                          <a:pt x="451" y="0"/>
                        </a:moveTo>
                        <a:lnTo>
                          <a:pt x="451" y="389"/>
                        </a:lnTo>
                        <a:lnTo>
                          <a:pt x="0" y="389"/>
                        </a:lnTo>
                        <a:lnTo>
                          <a:pt x="0" y="782"/>
                        </a:lnTo>
                        <a:lnTo>
                          <a:pt x="451" y="0"/>
                        </a:lnTo>
                        <a:close/>
                      </a:path>
                    </a:pathLst>
                  </a:custGeom>
                  <a:solidFill>
                    <a:srgbClr val="c1ce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6" name=""/>
            <p:cNvSpPr txBox="1"/>
            <p:nvPr/>
          </p:nvSpPr>
          <p:spPr>
            <a:xfrm>
              <a:off x="3252960" y="266220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2,0           S 2,1        S 2,2            S 2,3        S 2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3243240" y="294804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3,0           S 3,1        S 3,2            S 3,3        S 3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3262320" y="323388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4,0           S 4,1        S 4,2            S 4,3        S 4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168720" y="4346640"/>
              <a:ext cx="3749760" cy="572760"/>
              <a:chOff x="3168720" y="4346640"/>
              <a:chExt cx="3749760" cy="57276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3168720" y="4627440"/>
                <a:ext cx="3749760" cy="291960"/>
                <a:chOff x="3168720" y="4627440"/>
                <a:chExt cx="3749760" cy="291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168720" y="4627440"/>
                  <a:ext cx="3749760" cy="291960"/>
                </a:xfrm>
                <a:prstGeom prst="rect">
                  <a:avLst/>
                </a:prstGeom>
                <a:solidFill>
                  <a:srgbClr val="c1ce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55960" y="4640400"/>
                  <a:ext cx="162360" cy="271800"/>
                </a:xfrm>
                <a:custGeom>
                  <a:avLst/>
                  <a:gdLst/>
                  <a:ahLst/>
                  <a:rect l="0" t="0" r="r" b="b"/>
                  <a:pathLst>
                    <a:path w="451" h="755">
                      <a:moveTo>
                        <a:pt x="451" y="0"/>
                      </a:moveTo>
                      <a:lnTo>
                        <a:pt x="451" y="374"/>
                      </a:lnTo>
                      <a:lnTo>
                        <a:pt x="0" y="374"/>
                      </a:lnTo>
                      <a:lnTo>
                        <a:pt x="0" y="755"/>
                      </a:lnTo>
                      <a:lnTo>
                        <a:pt x="451" y="0"/>
                      </a:lnTo>
                      <a:close/>
                    </a:path>
                  </a:pathLst>
                </a:custGeom>
                <a:solidFill>
                  <a:srgbClr val="c1ce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89560" y="4632480"/>
                  <a:ext cx="162360" cy="281520"/>
                </a:xfrm>
                <a:custGeom>
                  <a:avLst/>
                  <a:gdLst/>
                  <a:ahLst/>
                  <a:rect l="0" t="0" r="r" b="b"/>
                  <a:pathLst>
                    <a:path w="451" h="782">
                      <a:moveTo>
                        <a:pt x="451" y="0"/>
                      </a:moveTo>
                      <a:lnTo>
                        <a:pt x="451" y="389"/>
                      </a:lnTo>
                      <a:lnTo>
                        <a:pt x="0" y="389"/>
                      </a:lnTo>
                      <a:lnTo>
                        <a:pt x="0" y="782"/>
                      </a:lnTo>
                      <a:lnTo>
                        <a:pt x="451" y="0"/>
                      </a:lnTo>
                      <a:close/>
                    </a:path>
                  </a:pathLst>
                </a:custGeom>
                <a:solidFill>
                  <a:srgbClr val="c1ce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168720" y="4346640"/>
                <a:ext cx="3749760" cy="291960"/>
                <a:chOff x="3168720" y="4346640"/>
                <a:chExt cx="3749760" cy="2919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168720" y="4346640"/>
                  <a:ext cx="3749760" cy="291960"/>
                </a:xfrm>
                <a:prstGeom prst="rect">
                  <a:avLst/>
                </a:prstGeom>
                <a:solidFill>
                  <a:srgbClr val="c1ce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855960" y="4359240"/>
                  <a:ext cx="162360" cy="271800"/>
                </a:xfrm>
                <a:custGeom>
                  <a:avLst/>
                  <a:gdLst/>
                  <a:ahLst/>
                  <a:rect l="0" t="0" r="r" b="b"/>
                  <a:pathLst>
                    <a:path w="451" h="755">
                      <a:moveTo>
                        <a:pt x="451" y="0"/>
                      </a:moveTo>
                      <a:lnTo>
                        <a:pt x="451" y="374"/>
                      </a:lnTo>
                      <a:lnTo>
                        <a:pt x="0" y="374"/>
                      </a:lnTo>
                      <a:lnTo>
                        <a:pt x="0" y="755"/>
                      </a:lnTo>
                      <a:lnTo>
                        <a:pt x="451" y="0"/>
                      </a:lnTo>
                      <a:close/>
                    </a:path>
                  </a:pathLst>
                </a:custGeom>
                <a:solidFill>
                  <a:srgbClr val="c1ce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89560" y="4351320"/>
                  <a:ext cx="162360" cy="281520"/>
                </a:xfrm>
                <a:custGeom>
                  <a:avLst/>
                  <a:gdLst/>
                  <a:ahLst/>
                  <a:rect l="0" t="0" r="r" b="b"/>
                  <a:pathLst>
                    <a:path w="451" h="782">
                      <a:moveTo>
                        <a:pt x="451" y="0"/>
                      </a:moveTo>
                      <a:lnTo>
                        <a:pt x="451" y="389"/>
                      </a:lnTo>
                      <a:lnTo>
                        <a:pt x="0" y="389"/>
                      </a:lnTo>
                      <a:lnTo>
                        <a:pt x="0" y="782"/>
                      </a:lnTo>
                      <a:lnTo>
                        <a:pt x="451" y="0"/>
                      </a:lnTo>
                      <a:close/>
                    </a:path>
                  </a:pathLst>
                </a:custGeom>
                <a:solidFill>
                  <a:srgbClr val="c1ce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"/>
            <p:cNvSpPr txBox="1"/>
            <p:nvPr/>
          </p:nvSpPr>
          <p:spPr>
            <a:xfrm>
              <a:off x="3252960" y="352440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5,0           S 5,1        S 5,2            S 5,3        S 5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252960" y="380376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6,0           S 6,1        S 6,2            S 6,3        S 6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3252960" y="408924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7,0           S 7,1        S 7,2            S 7,3        S 7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3252960" y="437040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8,0           S 8,1        S 8,2            S 8,3        S 8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252960" y="4649760"/>
              <a:ext cx="3614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9,0           S 9,1        S 9,2            S 9,3        S 9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2863800" y="1539720"/>
              <a:ext cx="46101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Left                                                    R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         </a:t>
              </a: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0           1            2             3          4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917800" y="20667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917800" y="2357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917800" y="265752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2917800" y="29242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917800" y="320040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917800" y="349560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917800" y="377172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4057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917800" y="434808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2917800" y="4624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270160" y="2052720"/>
              <a:ext cx="5572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2049480" y="4595760"/>
              <a:ext cx="8953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Bott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62360" y="2482920"/>
              <a:ext cx="0" cy="657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556000" y="2671920"/>
              <a:ext cx="2271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4560" y="4878360"/>
              <a:ext cx="142560" cy="2286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4708440" y="4967280"/>
              <a:ext cx="3160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uper block = 27 Macro blo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71960" y="1635120"/>
              <a:ext cx="7999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294080" y="1341360"/>
              <a:ext cx="233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4965840" y="1490760"/>
              <a:ext cx="1035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720 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6440" y="2368440"/>
              <a:ext cx="3240" cy="91620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62040" y="3568680"/>
              <a:ext cx="17640" cy="1030320"/>
            </a:xfrm>
            <a:prstGeom prst="line">
              <a:avLst/>
            </a:prstGeom>
            <a:ln w="12600">
              <a:solidFill>
                <a:srgbClr val="fafd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345440" y="2525760"/>
              <a:ext cx="586080" cy="690480"/>
              <a:chOff x="7345440" y="2525760"/>
              <a:chExt cx="586080" cy="690480"/>
            </a:xfrm>
          </p:grpSpPr>
          <p:sp>
            <p:nvSpPr>
              <p:cNvPr id="186" name=""/>
              <p:cNvSpPr/>
              <p:nvPr/>
            </p:nvSpPr>
            <p:spPr>
              <a:xfrm>
                <a:off x="7345440" y="2529000"/>
                <a:ext cx="586080" cy="686160"/>
              </a:xfrm>
              <a:custGeom>
                <a:avLst/>
                <a:gdLst/>
                <a:ahLst/>
                <a:rect l="0" t="0" r="r" b="b"/>
                <a:pathLst>
                  <a:path w="1628" h="1906">
                    <a:moveTo>
                      <a:pt x="0" y="0"/>
                    </a:moveTo>
                    <a:lnTo>
                      <a:pt x="0" y="1906"/>
                    </a:lnTo>
                    <a:lnTo>
                      <a:pt x="1310" y="1906"/>
                    </a:lnTo>
                    <a:lnTo>
                      <a:pt x="1310" y="952"/>
                    </a:lnTo>
                    <a:lnTo>
                      <a:pt x="1628" y="952"/>
                    </a:lnTo>
                    <a:lnTo>
                      <a:pt x="162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50120" y="3100320"/>
                <a:ext cx="46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46880" y="29876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48680" y="2871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7346880" y="2754360"/>
                <a:ext cx="581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45440" y="2641680"/>
                <a:ext cx="58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472520" y="2529000"/>
                <a:ext cx="0" cy="68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583400" y="2529000"/>
                <a:ext cx="1800" cy="6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01120" y="2529000"/>
                <a:ext cx="0" cy="68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7816680" y="252576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337520" y="4067280"/>
              <a:ext cx="589320" cy="690480"/>
              <a:chOff x="7337520" y="4067280"/>
              <a:chExt cx="589320" cy="690480"/>
            </a:xfrm>
          </p:grpSpPr>
          <p:sp>
            <p:nvSpPr>
              <p:cNvPr id="197" name=""/>
              <p:cNvSpPr/>
              <p:nvPr/>
            </p:nvSpPr>
            <p:spPr>
              <a:xfrm>
                <a:off x="7340760" y="4068720"/>
                <a:ext cx="586080" cy="686160"/>
              </a:xfrm>
              <a:custGeom>
                <a:avLst/>
                <a:gdLst/>
                <a:ahLst/>
                <a:rect l="0" t="0" r="r" b="b"/>
                <a:pathLst>
                  <a:path w="1628" h="1906">
                    <a:moveTo>
                      <a:pt x="0" y="1906"/>
                    </a:moveTo>
                    <a:lnTo>
                      <a:pt x="0" y="0"/>
                    </a:lnTo>
                    <a:lnTo>
                      <a:pt x="1310" y="0"/>
                    </a:lnTo>
                    <a:lnTo>
                      <a:pt x="1341" y="0"/>
                    </a:lnTo>
                    <a:lnTo>
                      <a:pt x="1628" y="0"/>
                    </a:lnTo>
                    <a:lnTo>
                      <a:pt x="1628" y="1901"/>
                    </a:lnTo>
                    <a:lnTo>
                      <a:pt x="0" y="1906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50120" y="4183200"/>
                <a:ext cx="46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42200" y="4295880"/>
                <a:ext cx="58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48680" y="4410000"/>
                <a:ext cx="46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40760" y="4525920"/>
                <a:ext cx="58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37520" y="4643280"/>
                <a:ext cx="47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7467480" y="4071960"/>
                <a:ext cx="0" cy="68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7581960" y="4068720"/>
                <a:ext cx="144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7696080" y="4067280"/>
                <a:ext cx="0" cy="68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12000" y="4068720"/>
                <a:ext cx="0" cy="68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435880" y="2536920"/>
              <a:ext cx="586080" cy="690480"/>
              <a:chOff x="8435880" y="2536920"/>
              <a:chExt cx="586080" cy="690480"/>
            </a:xfrm>
          </p:grpSpPr>
          <p:sp>
            <p:nvSpPr>
              <p:cNvPr id="208" name=""/>
              <p:cNvSpPr/>
              <p:nvPr/>
            </p:nvSpPr>
            <p:spPr>
              <a:xfrm>
                <a:off x="8435880" y="2538360"/>
                <a:ext cx="586080" cy="686160"/>
              </a:xfrm>
              <a:custGeom>
                <a:avLst/>
                <a:gdLst/>
                <a:ahLst/>
                <a:rect l="0" t="0" r="r" b="b"/>
                <a:pathLst>
                  <a:path w="1628" h="1906">
                    <a:moveTo>
                      <a:pt x="1628" y="1906"/>
                    </a:moveTo>
                    <a:lnTo>
                      <a:pt x="1628" y="0"/>
                    </a:lnTo>
                    <a:lnTo>
                      <a:pt x="317" y="0"/>
                    </a:lnTo>
                    <a:lnTo>
                      <a:pt x="317" y="952"/>
                    </a:lnTo>
                    <a:lnTo>
                      <a:pt x="0" y="952"/>
                    </a:lnTo>
                    <a:lnTo>
                      <a:pt x="0" y="1901"/>
                    </a:lnTo>
                    <a:lnTo>
                      <a:pt x="1628" y="1906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8550360" y="2652840"/>
                <a:ext cx="46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8550360" y="276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8543880" y="28796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8437680" y="299556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8437680" y="3111480"/>
                <a:ext cx="5713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680" bIns="-49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8894880" y="2541600"/>
                <a:ext cx="0" cy="68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8778960" y="2538360"/>
                <a:ext cx="144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8666280" y="2536920"/>
                <a:ext cx="0" cy="68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50360" y="287964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 txBox="1"/>
            <p:nvPr/>
          </p:nvSpPr>
          <p:spPr>
            <a:xfrm>
              <a:off x="7566120" y="2063880"/>
              <a:ext cx="1460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uper blo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7058160" y="3330720"/>
              <a:ext cx="21240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Si,0 or Si,2         Si,1 or Si,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7407360" y="4797360"/>
              <a:ext cx="4557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Si,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53320" y="3164040"/>
              <a:ext cx="749520" cy="235440"/>
            </a:xfrm>
            <a:custGeom>
              <a:avLst/>
              <a:gdLst/>
              <a:ahLst/>
              <a:rect l="0" t="0" r="r" b="b"/>
              <a:pathLst>
                <a:path fill="none" w="2082" h="654">
                  <a:moveTo>
                    <a:pt x="0" y="0"/>
                  </a:moveTo>
                  <a:lnTo>
                    <a:pt x="1076" y="654"/>
                  </a:lnTo>
                  <a:lnTo>
                    <a:pt x="2082" y="52"/>
                  </a:lnTo>
                </a:path>
              </a:pathLst>
            </a:custGeom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40680" y="3392640"/>
              <a:ext cx="127080" cy="577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8232840" y="3797280"/>
              <a:ext cx="8841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Ma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bloc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753320" y="3995640"/>
              <a:ext cx="444600" cy="139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08440" y="2093760"/>
              <a:ext cx="0" cy="282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0200" y="2093760"/>
              <a:ext cx="0" cy="282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 txBox="1"/>
          <p:nvPr/>
        </p:nvSpPr>
        <p:spPr>
          <a:xfrm>
            <a:off x="2244600" y="5996160"/>
            <a:ext cx="5799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Arrangement of Super blocks in a TV frame (525/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578400" y="6005520"/>
            <a:ext cx="313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efinition of a Macr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12800" y="1079640"/>
            <a:ext cx="8923320" cy="4440240"/>
            <a:chOff x="712800" y="1079640"/>
            <a:chExt cx="8923320" cy="4440240"/>
          </a:xfrm>
        </p:grpSpPr>
        <p:grpSp>
          <p:nvGrpSpPr>
            <p:cNvPr id="230" name=""/>
            <p:cNvGrpSpPr/>
            <p:nvPr/>
          </p:nvGrpSpPr>
          <p:grpSpPr>
            <a:xfrm>
              <a:off x="5451480" y="2717640"/>
              <a:ext cx="4184640" cy="2802240"/>
              <a:chOff x="5451480" y="2717640"/>
              <a:chExt cx="4184640" cy="2802240"/>
            </a:xfrm>
          </p:grpSpPr>
          <p:sp>
            <p:nvSpPr>
              <p:cNvPr id="231" name=""/>
              <p:cNvSpPr/>
              <p:nvPr/>
            </p:nvSpPr>
            <p:spPr>
              <a:xfrm>
                <a:off x="7675560" y="3195720"/>
                <a:ext cx="1371600" cy="137160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59680" y="3686040"/>
                <a:ext cx="1371600" cy="1371600"/>
              </a:xfrm>
              <a:prstGeom prst="rect">
                <a:avLst/>
              </a:prstGeom>
              <a:gradFill rotWithShape="0">
                <a:gsLst>
                  <a:gs pos="0">
                    <a:srgbClr val="ff5008"/>
                  </a:gs>
                  <a:gs pos="50000">
                    <a:srgbClr val="000000"/>
                  </a:gs>
                  <a:gs pos="100000">
                    <a:srgbClr val="ff5008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70800" y="4148280"/>
                <a:ext cx="1371600" cy="1371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56600" y="414828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75480" y="4834080"/>
                <a:ext cx="136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6621480" y="4375080"/>
                <a:ext cx="14716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T 0  DC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6621480" y="5003640"/>
                <a:ext cx="16970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T 2  DCT 3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7535880" y="3832200"/>
                <a:ext cx="7714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8035920" y="3289320"/>
                <a:ext cx="7714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7194600" y="2717640"/>
                <a:ext cx="24415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Rightmost macro bloc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5451480" y="4560840"/>
                <a:ext cx="125748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Lumina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ig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5823000" y="3274920"/>
                <a:ext cx="191124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olor                C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differe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ignals    CR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 txBox="1"/>
            <p:nvPr/>
          </p:nvSpPr>
          <p:spPr>
            <a:xfrm>
              <a:off x="765000" y="3922560"/>
              <a:ext cx="29574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ize of a Macro block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(64 x 4) + 64 + 64 = 384 by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12800" y="1079640"/>
              <a:ext cx="5511600" cy="2495520"/>
              <a:chOff x="712800" y="1079640"/>
              <a:chExt cx="5511600" cy="2495520"/>
            </a:xfrm>
          </p:grpSpPr>
          <p:sp>
            <p:nvSpPr>
              <p:cNvPr id="245" name=""/>
              <p:cNvSpPr/>
              <p:nvPr/>
            </p:nvSpPr>
            <p:spPr>
              <a:xfrm flipH="1">
                <a:off x="5494320" y="1438200"/>
                <a:ext cx="1440" cy="13500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400640" y="1504800"/>
                <a:ext cx="10857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28800" y="1638360"/>
                <a:ext cx="2771640" cy="68580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62320" y="2071800"/>
                <a:ext cx="2771640" cy="685800"/>
              </a:xfrm>
              <a:prstGeom prst="rect">
                <a:avLst/>
              </a:prstGeom>
              <a:gradFill rotWithShape="0">
                <a:gsLst>
                  <a:gs pos="0">
                    <a:srgbClr val="ff5008"/>
                  </a:gs>
                  <a:gs pos="50000">
                    <a:srgbClr val="000000"/>
                  </a:gs>
                  <a:gs pos="100000">
                    <a:srgbClr val="ff5008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62000" y="2476440"/>
                <a:ext cx="2771640" cy="6858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946080" y="1631880"/>
                <a:ext cx="196848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Color              CB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differe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ignals     C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62200" y="24764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67080" y="24764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52880" y="24764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3403440" y="2117880"/>
                <a:ext cx="7714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3760920" y="1674720"/>
                <a:ext cx="7714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1898640" y="1079640"/>
                <a:ext cx="38084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All except the rightmost macro block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712800" y="2541600"/>
                <a:ext cx="125748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Luminan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sign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5464080" y="1631880"/>
                <a:ext cx="760320" cy="692280"/>
                <a:chOff x="5464080" y="1631880"/>
                <a:chExt cx="760320" cy="692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715000" y="1631880"/>
                  <a:ext cx="2221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715000" y="2324160"/>
                  <a:ext cx="2221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>
                  <a:off x="5464080" y="1789200"/>
                  <a:ext cx="76032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600" spc="-1" strike="noStrike">
                      <a:solidFill>
                        <a:srgbClr val="fafd00"/>
                      </a:solidFill>
                      <a:latin typeface="Arial"/>
                      <a:ea typeface="Arial"/>
                    </a:rPr>
                    <a:t>8 pel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10400" y="2095560"/>
                  <a:ext cx="0" cy="222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5810400" y="1635120"/>
                  <a:ext cx="0" cy="20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660760" y="3270240"/>
                <a:ext cx="0" cy="2919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65640" y="3282840"/>
                <a:ext cx="0" cy="2923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60760" y="3460680"/>
                <a:ext cx="70488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2625840" y="3135240"/>
                <a:ext cx="7603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8 p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736720" y="1428840"/>
                <a:ext cx="1800" cy="136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3679920" y="1338120"/>
                <a:ext cx="7603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8 p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736720" y="1498680"/>
                <a:ext cx="99072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91240" y="2495520"/>
                <a:ext cx="52380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09960" y="3157560"/>
                <a:ext cx="4953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4859280" y="2752560"/>
                <a:ext cx="7603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8 p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248440" y="3048120"/>
                <a:ext cx="1440" cy="3808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5253120" y="2228760"/>
                <a:ext cx="1440" cy="59076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1914480" y="2674800"/>
                <a:ext cx="28717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CT 0  DCT 1  DCT 2  DC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18200" y="235908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186" y="371"/>
                    </a:moveTo>
                    <a:lnTo>
                      <a:pt x="0" y="371"/>
                    </a:lnTo>
                    <a:lnTo>
                      <a:pt x="92" y="0"/>
                    </a:lnTo>
                    <a:lnTo>
                      <a:pt x="186" y="37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214960" y="315756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0" y="371"/>
                    </a:moveTo>
                    <a:lnTo>
                      <a:pt x="186" y="371"/>
                    </a:lnTo>
                    <a:lnTo>
                      <a:pt x="92" y="0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72240" y="164304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0" y="371"/>
                    </a:moveTo>
                    <a:lnTo>
                      <a:pt x="186" y="371"/>
                    </a:lnTo>
                    <a:lnTo>
                      <a:pt x="92" y="0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72240" y="2190600"/>
                <a:ext cx="66960" cy="133560"/>
              </a:xfrm>
              <a:custGeom>
                <a:avLst/>
                <a:gdLst/>
                <a:ahLst/>
                <a:rect l="0" t="0" r="r" b="b"/>
                <a:pathLst>
                  <a:path w="186" h="371">
                    <a:moveTo>
                      <a:pt x="186" y="371"/>
                    </a:moveTo>
                    <a:lnTo>
                      <a:pt x="0" y="371"/>
                    </a:lnTo>
                    <a:lnTo>
                      <a:pt x="92" y="0"/>
                    </a:lnTo>
                    <a:lnTo>
                      <a:pt x="186" y="371"/>
                    </a:lnTo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07160" y="1774800"/>
                <a:ext cx="0" cy="982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810400" y="2092320"/>
                <a:ext cx="0" cy="9828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73600" y="1641600"/>
                <a:ext cx="2793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680080" y="2327400"/>
                <a:ext cx="27936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669960" y="1050840"/>
            <a:ext cx="9291600" cy="4110120"/>
            <a:chOff x="669960" y="1050840"/>
            <a:chExt cx="9291600" cy="4110120"/>
          </a:xfrm>
        </p:grpSpPr>
        <p:sp>
          <p:nvSpPr>
            <p:cNvPr id="286" name=""/>
            <p:cNvSpPr txBox="1"/>
            <p:nvPr/>
          </p:nvSpPr>
          <p:spPr>
            <a:xfrm>
              <a:off x="2114640" y="1050840"/>
              <a:ext cx="1716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22.5 Macro blo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746280" y="3795840"/>
              <a:ext cx="1828800" cy="1365120"/>
              <a:chOff x="746280" y="3795840"/>
              <a:chExt cx="1828800" cy="1365120"/>
            </a:xfrm>
          </p:grpSpPr>
          <p:sp>
            <p:nvSpPr>
              <p:cNvPr id="288" name=""/>
              <p:cNvSpPr/>
              <p:nvPr/>
            </p:nvSpPr>
            <p:spPr>
              <a:xfrm>
                <a:off x="746280" y="3795840"/>
                <a:ext cx="1828800" cy="136512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000000"/>
                  </a:gs>
                  <a:gs pos="100000">
                    <a:srgbClr val="618ffd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108080" y="379872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67000" y="379872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44640" y="379872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03560" y="379872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328760" y="2709720"/>
              <a:ext cx="1828800" cy="1365120"/>
              <a:chOff x="1328760" y="2709720"/>
              <a:chExt cx="1828800" cy="1365120"/>
            </a:xfrm>
          </p:grpSpPr>
          <p:sp>
            <p:nvSpPr>
              <p:cNvPr id="294" name=""/>
              <p:cNvSpPr/>
              <p:nvPr/>
            </p:nvSpPr>
            <p:spPr>
              <a:xfrm>
                <a:off x="1328760" y="2709720"/>
                <a:ext cx="1828800" cy="1365120"/>
              </a:xfrm>
              <a:prstGeom prst="rect">
                <a:avLst/>
              </a:pr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690560" y="271296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49480" y="271296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27120" y="271296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786040" y="271296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911240" y="1566720"/>
              <a:ext cx="1828800" cy="1365120"/>
              <a:chOff x="1911240" y="1566720"/>
              <a:chExt cx="1828800" cy="1365120"/>
            </a:xfrm>
          </p:grpSpPr>
          <p:sp>
            <p:nvSpPr>
              <p:cNvPr id="300" name=""/>
              <p:cNvSpPr/>
              <p:nvPr/>
            </p:nvSpPr>
            <p:spPr>
              <a:xfrm>
                <a:off x="1911240" y="1566720"/>
                <a:ext cx="1828800" cy="136512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73400" y="156996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31960" y="156996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09960" y="156996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8520" y="1569960"/>
                <a:ext cx="0" cy="13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476600" y="2776680"/>
              <a:ext cx="1757520" cy="1386000"/>
              <a:chOff x="4476600" y="2776680"/>
              <a:chExt cx="1757520" cy="1386000"/>
            </a:xfrm>
          </p:grpSpPr>
          <p:sp>
            <p:nvSpPr>
              <p:cNvPr id="306" name=""/>
              <p:cNvSpPr/>
              <p:nvPr/>
            </p:nvSpPr>
            <p:spPr>
              <a:xfrm>
                <a:off x="4476600" y="2776680"/>
                <a:ext cx="1757520" cy="1386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ae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4721400" y="3127320"/>
                <a:ext cx="1290600" cy="73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cro Block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uffl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1880" y="332280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0"/>
                  </a:moveTo>
                  <a:lnTo>
                    <a:pt x="0" y="186"/>
                  </a:lnTo>
                  <a:lnTo>
                    <a:pt x="371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38600" y="2305080"/>
              <a:ext cx="1514160" cy="7430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05080" y="3357720"/>
              <a:ext cx="20574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619280" y="3676680"/>
              <a:ext cx="2733480" cy="847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59160" y="2981160"/>
              <a:ext cx="132120" cy="92520"/>
            </a:xfrm>
            <a:custGeom>
              <a:avLst/>
              <a:gdLst/>
              <a:ahLst/>
              <a:rect l="0" t="0" r="r" b="b"/>
              <a:pathLst>
                <a:path w="367" h="257">
                  <a:moveTo>
                    <a:pt x="88" y="0"/>
                  </a:moveTo>
                  <a:lnTo>
                    <a:pt x="0" y="164"/>
                  </a:lnTo>
                  <a:lnTo>
                    <a:pt x="367" y="257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33960" y="3660840"/>
              <a:ext cx="138600" cy="78120"/>
            </a:xfrm>
            <a:custGeom>
              <a:avLst/>
              <a:gdLst/>
              <a:ahLst/>
              <a:rect l="0" t="0" r="r" b="b"/>
              <a:pathLst>
                <a:path w="385" h="217">
                  <a:moveTo>
                    <a:pt x="0" y="39"/>
                  </a:moveTo>
                  <a:lnTo>
                    <a:pt x="61" y="217"/>
                  </a:lnTo>
                  <a:lnTo>
                    <a:pt x="385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19760" y="3352680"/>
              <a:ext cx="2577960" cy="32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724800" y="3197160"/>
              <a:ext cx="20304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9298080" y="3193920"/>
              <a:ext cx="20304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9298080" y="3511440"/>
              <a:ext cx="20304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723000" y="3352680"/>
              <a:ext cx="1347840" cy="325800"/>
              <a:chOff x="6723000" y="3352680"/>
              <a:chExt cx="1347840" cy="325800"/>
            </a:xfrm>
          </p:grpSpPr>
          <p:sp>
            <p:nvSpPr>
              <p:cNvPr id="319" name=""/>
              <p:cNvSpPr/>
              <p:nvPr/>
            </p:nvSpPr>
            <p:spPr>
              <a:xfrm>
                <a:off x="6723000" y="3354480"/>
                <a:ext cx="917640" cy="3240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953400" y="336240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178760" y="335772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10600" y="335916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32720" y="3352680"/>
                <a:ext cx="22392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46920" y="3352680"/>
                <a:ext cx="22392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V="1">
              <a:off x="7635960" y="3193920"/>
              <a:ext cx="20304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856640" y="3195720"/>
              <a:ext cx="20304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067600" y="3193920"/>
              <a:ext cx="20340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954840" y="3193920"/>
              <a:ext cx="20304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7180200" y="3195720"/>
              <a:ext cx="20340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410600" y="3193920"/>
              <a:ext cx="20304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11240" y="1252440"/>
              <a:ext cx="0" cy="2653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740040" y="1212840"/>
              <a:ext cx="0" cy="3049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11240" y="1301760"/>
              <a:ext cx="18288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00360" y="126540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0"/>
                  </a:moveTo>
                  <a:lnTo>
                    <a:pt x="0" y="186"/>
                  </a:lnTo>
                  <a:lnTo>
                    <a:pt x="371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30320" y="126540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371" y="0"/>
                  </a:moveTo>
                  <a:lnTo>
                    <a:pt x="371" y="186"/>
                  </a:lnTo>
                  <a:lnTo>
                    <a:pt x="0" y="88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012680" y="1577880"/>
              <a:ext cx="8445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008000" y="2935440"/>
              <a:ext cx="2574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4320" y="1587600"/>
              <a:ext cx="0" cy="585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52640" y="1590840"/>
              <a:ext cx="66960" cy="133560"/>
            </a:xfrm>
            <a:custGeom>
              <a:avLst/>
              <a:gdLst/>
              <a:ahLst/>
              <a:rect l="0" t="0" r="r" b="b"/>
              <a:pathLst>
                <a:path w="186" h="371">
                  <a:moveTo>
                    <a:pt x="186" y="371"/>
                  </a:moveTo>
                  <a:lnTo>
                    <a:pt x="0" y="371"/>
                  </a:lnTo>
                  <a:lnTo>
                    <a:pt x="98" y="0"/>
                  </a:lnTo>
                  <a:lnTo>
                    <a:pt x="186" y="37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084320" y="2425680"/>
              <a:ext cx="0" cy="4874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52640" y="2786040"/>
              <a:ext cx="66960" cy="133560"/>
            </a:xfrm>
            <a:custGeom>
              <a:avLst/>
              <a:gdLst/>
              <a:ahLst/>
              <a:rect l="0" t="0" r="r" b="b"/>
              <a:pathLst>
                <a:path w="186" h="371">
                  <a:moveTo>
                    <a:pt x="186" y="0"/>
                  </a:moveTo>
                  <a:lnTo>
                    <a:pt x="0" y="0"/>
                  </a:lnTo>
                  <a:lnTo>
                    <a:pt x="98" y="37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669960" y="2128680"/>
              <a:ext cx="934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480 l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3711600" y="205092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3108240" y="3308400"/>
              <a:ext cx="441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2511360" y="4413240"/>
              <a:ext cx="441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C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00720" y="3514680"/>
              <a:ext cx="31428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23200" y="348444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0"/>
                  </a:moveTo>
                  <a:lnTo>
                    <a:pt x="0" y="186"/>
                  </a:lnTo>
                  <a:lnTo>
                    <a:pt x="371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18480" y="3195720"/>
              <a:ext cx="257472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501120" y="3200400"/>
              <a:ext cx="0" cy="314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8061480" y="3352680"/>
              <a:ext cx="673200" cy="325800"/>
              <a:chOff x="8061480" y="3352680"/>
              <a:chExt cx="673200" cy="325800"/>
            </a:xfrm>
          </p:grpSpPr>
          <p:sp>
            <p:nvSpPr>
              <p:cNvPr id="351" name=""/>
              <p:cNvSpPr/>
              <p:nvPr/>
            </p:nvSpPr>
            <p:spPr>
              <a:xfrm>
                <a:off x="8061480" y="3354480"/>
                <a:ext cx="458640" cy="3240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75600" y="336240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288280" y="335772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404200" y="335916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515440" y="3352680"/>
                <a:ext cx="11268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623440" y="3352680"/>
                <a:ext cx="11124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 txBox="1"/>
            <p:nvPr/>
          </p:nvSpPr>
          <p:spPr>
            <a:xfrm>
              <a:off x="6654960" y="3382920"/>
              <a:ext cx="1528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Y0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Y1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Y2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Y3</a:t>
              </a: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8862840" y="3352680"/>
              <a:ext cx="435240" cy="325800"/>
              <a:chOff x="8862840" y="3352680"/>
              <a:chExt cx="435240" cy="325800"/>
            </a:xfrm>
          </p:grpSpPr>
          <p:sp>
            <p:nvSpPr>
              <p:cNvPr id="359" name=""/>
              <p:cNvSpPr/>
              <p:nvPr/>
            </p:nvSpPr>
            <p:spPr>
              <a:xfrm>
                <a:off x="8862840" y="3354480"/>
                <a:ext cx="297000" cy="3240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937720" y="336240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9010800" y="335772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085320" y="3359160"/>
                <a:ext cx="0" cy="31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156600" y="3352680"/>
                <a:ext cx="71280" cy="32400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9225000" y="3352680"/>
                <a:ext cx="73080" cy="3240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flipV="1">
              <a:off x="8739360" y="3189240"/>
              <a:ext cx="20304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8877240" y="3189240"/>
              <a:ext cx="203400" cy="158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1882800" y="1722600"/>
              <a:ext cx="1716120" cy="1119240"/>
              <a:chOff x="1882800" y="1722600"/>
              <a:chExt cx="1716120" cy="111924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2593800" y="2033640"/>
                <a:ext cx="268200" cy="274680"/>
                <a:chOff x="2593800" y="2033640"/>
                <a:chExt cx="268200" cy="274680"/>
              </a:xfrm>
            </p:grpSpPr>
            <p:sp>
              <p:nvSpPr>
                <p:cNvPr id="369" name=""/>
                <p:cNvSpPr txBox="1"/>
                <p:nvPr/>
              </p:nvSpPr>
              <p:spPr>
                <a:xfrm>
                  <a:off x="2593800" y="203364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635200" y="206388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882800" y="1722600"/>
                <a:ext cx="268200" cy="274680"/>
                <a:chOff x="1882800" y="1722600"/>
                <a:chExt cx="268200" cy="274680"/>
              </a:xfrm>
            </p:grpSpPr>
            <p:sp>
              <p:nvSpPr>
                <p:cNvPr id="372" name=""/>
                <p:cNvSpPr txBox="1"/>
                <p:nvPr/>
              </p:nvSpPr>
              <p:spPr>
                <a:xfrm>
                  <a:off x="1882800" y="172260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24200" y="175248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238480" y="2567160"/>
                <a:ext cx="268200" cy="274680"/>
                <a:chOff x="2238480" y="2567160"/>
                <a:chExt cx="268200" cy="274680"/>
              </a:xfrm>
            </p:grpSpPr>
            <p:sp>
              <p:nvSpPr>
                <p:cNvPr id="375" name=""/>
                <p:cNvSpPr txBox="1"/>
                <p:nvPr/>
              </p:nvSpPr>
              <p:spPr>
                <a:xfrm>
                  <a:off x="2238480" y="256716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279520" y="259704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975040" y="2465280"/>
                <a:ext cx="268200" cy="274680"/>
                <a:chOff x="2975040" y="2465280"/>
                <a:chExt cx="268200" cy="274680"/>
              </a:xfrm>
            </p:grpSpPr>
            <p:sp>
              <p:nvSpPr>
                <p:cNvPr id="378" name=""/>
                <p:cNvSpPr txBox="1"/>
                <p:nvPr/>
              </p:nvSpPr>
              <p:spPr>
                <a:xfrm>
                  <a:off x="2975040" y="246528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016080" y="249552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330720" y="1830240"/>
                <a:ext cx="268200" cy="274680"/>
                <a:chOff x="3330720" y="1830240"/>
                <a:chExt cx="268200" cy="274680"/>
              </a:xfrm>
            </p:grpSpPr>
            <p:sp>
              <p:nvSpPr>
                <p:cNvPr id="381" name=""/>
                <p:cNvSpPr txBox="1"/>
                <p:nvPr/>
              </p:nvSpPr>
              <p:spPr>
                <a:xfrm>
                  <a:off x="3330720" y="183024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371760" y="186048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1298520" y="2903400"/>
              <a:ext cx="1716120" cy="1119240"/>
              <a:chOff x="1298520" y="2903400"/>
              <a:chExt cx="1716120" cy="11192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2009880" y="3214800"/>
                <a:ext cx="268200" cy="274680"/>
                <a:chOff x="2009880" y="3214800"/>
                <a:chExt cx="268200" cy="274680"/>
              </a:xfrm>
            </p:grpSpPr>
            <p:sp>
              <p:nvSpPr>
                <p:cNvPr id="385" name=""/>
                <p:cNvSpPr txBox="1"/>
                <p:nvPr/>
              </p:nvSpPr>
              <p:spPr>
                <a:xfrm>
                  <a:off x="2009880" y="321480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050920" y="324468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1298520" y="2903400"/>
                <a:ext cx="268200" cy="274680"/>
                <a:chOff x="1298520" y="2903400"/>
                <a:chExt cx="268200" cy="274680"/>
              </a:xfrm>
            </p:grpSpPr>
            <p:sp>
              <p:nvSpPr>
                <p:cNvPr id="388" name=""/>
                <p:cNvSpPr txBox="1"/>
                <p:nvPr/>
              </p:nvSpPr>
              <p:spPr>
                <a:xfrm>
                  <a:off x="1298520" y="290340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339920" y="293364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1654200" y="3747960"/>
                <a:ext cx="268200" cy="274680"/>
                <a:chOff x="1654200" y="3747960"/>
                <a:chExt cx="268200" cy="274680"/>
              </a:xfrm>
            </p:grpSpPr>
            <p:sp>
              <p:nvSpPr>
                <p:cNvPr id="391" name=""/>
                <p:cNvSpPr txBox="1"/>
                <p:nvPr/>
              </p:nvSpPr>
              <p:spPr>
                <a:xfrm>
                  <a:off x="1654200" y="374796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695600" y="377820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390760" y="3646440"/>
                <a:ext cx="268200" cy="274680"/>
                <a:chOff x="2390760" y="3646440"/>
                <a:chExt cx="268200" cy="274680"/>
              </a:xfrm>
            </p:grpSpPr>
            <p:sp>
              <p:nvSpPr>
                <p:cNvPr id="394" name=""/>
                <p:cNvSpPr txBox="1"/>
                <p:nvPr/>
              </p:nvSpPr>
              <p:spPr>
                <a:xfrm>
                  <a:off x="2390760" y="364644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432160" y="367668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746440" y="3011400"/>
                <a:ext cx="268200" cy="274680"/>
                <a:chOff x="2746440" y="3011400"/>
                <a:chExt cx="268200" cy="274680"/>
              </a:xfrm>
            </p:grpSpPr>
            <p:sp>
              <p:nvSpPr>
                <p:cNvPr id="397" name=""/>
                <p:cNvSpPr txBox="1"/>
                <p:nvPr/>
              </p:nvSpPr>
              <p:spPr>
                <a:xfrm>
                  <a:off x="2746440" y="301140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787480" y="304164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714240" y="3957480"/>
              <a:ext cx="1716120" cy="1119240"/>
              <a:chOff x="714240" y="3957480"/>
              <a:chExt cx="1716120" cy="111924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1425600" y="4268880"/>
                <a:ext cx="268200" cy="274680"/>
                <a:chOff x="1425600" y="4268880"/>
                <a:chExt cx="268200" cy="274680"/>
              </a:xfrm>
            </p:grpSpPr>
            <p:sp>
              <p:nvSpPr>
                <p:cNvPr id="401" name=""/>
                <p:cNvSpPr txBox="1"/>
                <p:nvPr/>
              </p:nvSpPr>
              <p:spPr>
                <a:xfrm>
                  <a:off x="1425600" y="426888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467000" y="429912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714240" y="3957480"/>
                <a:ext cx="268200" cy="274680"/>
                <a:chOff x="714240" y="3957480"/>
                <a:chExt cx="268200" cy="274680"/>
              </a:xfrm>
            </p:grpSpPr>
            <p:sp>
              <p:nvSpPr>
                <p:cNvPr id="404" name=""/>
                <p:cNvSpPr txBox="1"/>
                <p:nvPr/>
              </p:nvSpPr>
              <p:spPr>
                <a:xfrm>
                  <a:off x="714240" y="395748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55640" y="398772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069920" y="4802040"/>
                <a:ext cx="268200" cy="274680"/>
                <a:chOff x="1069920" y="4802040"/>
                <a:chExt cx="268200" cy="274680"/>
              </a:xfrm>
            </p:grpSpPr>
            <p:sp>
              <p:nvSpPr>
                <p:cNvPr id="407" name=""/>
                <p:cNvSpPr txBox="1"/>
                <p:nvPr/>
              </p:nvSpPr>
              <p:spPr>
                <a:xfrm>
                  <a:off x="1069920" y="480204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111320" y="483228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806480" y="4700520"/>
                <a:ext cx="268200" cy="274680"/>
                <a:chOff x="1806480" y="4700520"/>
                <a:chExt cx="268200" cy="274680"/>
              </a:xfrm>
            </p:grpSpPr>
            <p:sp>
              <p:nvSpPr>
                <p:cNvPr id="410" name=""/>
                <p:cNvSpPr txBox="1"/>
                <p:nvPr/>
              </p:nvSpPr>
              <p:spPr>
                <a:xfrm>
                  <a:off x="1806480" y="470052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847880" y="473076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2162160" y="4065480"/>
                <a:ext cx="268200" cy="274680"/>
                <a:chOff x="2162160" y="4065480"/>
                <a:chExt cx="268200" cy="274680"/>
              </a:xfrm>
            </p:grpSpPr>
            <p:sp>
              <p:nvSpPr>
                <p:cNvPr id="413" name=""/>
                <p:cNvSpPr txBox="1"/>
                <p:nvPr/>
              </p:nvSpPr>
              <p:spPr>
                <a:xfrm>
                  <a:off x="2162160" y="406548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03560" y="4095720"/>
                  <a:ext cx="190440" cy="203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5" name=""/>
            <p:cNvSpPr/>
            <p:nvPr/>
          </p:nvSpPr>
          <p:spPr>
            <a:xfrm flipV="1">
              <a:off x="6934320" y="2260440"/>
              <a:ext cx="0" cy="8956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267760" y="2768760"/>
              <a:ext cx="0" cy="3873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59520" y="2863800"/>
              <a:ext cx="130176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29520" y="283068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0"/>
                  </a:moveTo>
                  <a:lnTo>
                    <a:pt x="0" y="186"/>
                  </a:lnTo>
                  <a:lnTo>
                    <a:pt x="371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42240" y="283068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371" y="0"/>
                  </a:moveTo>
                  <a:lnTo>
                    <a:pt x="371" y="186"/>
                  </a:lnTo>
                  <a:lnTo>
                    <a:pt x="0" y="88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6886440" y="2581200"/>
              <a:ext cx="1370160" cy="57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1 Macro b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384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7267680" y="3757680"/>
              <a:ext cx="268200" cy="274680"/>
              <a:chOff x="7267680" y="3757680"/>
              <a:chExt cx="268200" cy="274680"/>
            </a:xfrm>
          </p:grpSpPr>
          <p:sp>
            <p:nvSpPr>
              <p:cNvPr id="422" name=""/>
              <p:cNvSpPr txBox="1"/>
              <p:nvPr/>
            </p:nvSpPr>
            <p:spPr>
              <a:xfrm>
                <a:off x="7267680" y="3757680"/>
                <a:ext cx="2682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308720" y="3789360"/>
                <a:ext cx="190440" cy="19692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8156520" y="3735360"/>
              <a:ext cx="268200" cy="274680"/>
              <a:chOff x="8156520" y="3735360"/>
              <a:chExt cx="268200" cy="274680"/>
            </a:xfrm>
          </p:grpSpPr>
          <p:sp>
            <p:nvSpPr>
              <p:cNvPr id="425" name=""/>
              <p:cNvSpPr txBox="1"/>
              <p:nvPr/>
            </p:nvSpPr>
            <p:spPr>
              <a:xfrm>
                <a:off x="8156520" y="3735360"/>
                <a:ext cx="2682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197920" y="3765600"/>
                <a:ext cx="190440" cy="20304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8956800" y="3735360"/>
              <a:ext cx="268200" cy="274680"/>
              <a:chOff x="8956800" y="3735360"/>
              <a:chExt cx="268200" cy="274680"/>
            </a:xfrm>
          </p:grpSpPr>
          <p:sp>
            <p:nvSpPr>
              <p:cNvPr id="428" name=""/>
              <p:cNvSpPr txBox="1"/>
              <p:nvPr/>
            </p:nvSpPr>
            <p:spPr>
              <a:xfrm>
                <a:off x="8956800" y="3735360"/>
                <a:ext cx="2682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afd00"/>
                    </a:solidFill>
                    <a:latin typeface="Arial"/>
                    <a:ea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997840" y="3765600"/>
                <a:ext cx="190440" cy="203040"/>
              </a:xfrm>
              <a:prstGeom prst="rect">
                <a:avLst/>
              </a:prstGeom>
              <a:noFill/>
              <a:ln w="12600">
                <a:solidFill>
                  <a:srgbClr val="fafd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 flipV="1">
              <a:off x="9499680" y="2247840"/>
              <a:ext cx="0" cy="8953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46920" y="2368440"/>
              <a:ext cx="25146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42240" y="233532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371" y="0"/>
                  </a:moveTo>
                  <a:lnTo>
                    <a:pt x="371" y="186"/>
                  </a:lnTo>
                  <a:lnTo>
                    <a:pt x="0" y="88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361440" y="2335320"/>
              <a:ext cx="133560" cy="66960"/>
            </a:xfrm>
            <a:custGeom>
              <a:avLst/>
              <a:gdLst/>
              <a:ahLst/>
              <a:rect l="0" t="0" r="r" b="b"/>
              <a:pathLst>
                <a:path w="371" h="186">
                  <a:moveTo>
                    <a:pt x="0" y="0"/>
                  </a:moveTo>
                  <a:lnTo>
                    <a:pt x="0" y="186"/>
                  </a:lnTo>
                  <a:lnTo>
                    <a:pt x="371" y="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7483320" y="2092320"/>
              <a:ext cx="1468440" cy="56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5 Macro blo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1920 by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8350200" y="3689280"/>
              <a:ext cx="730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200" spc="-1" strike="noStrike">
                  <a:solidFill>
                    <a:srgbClr val="fafd00"/>
                  </a:solidFill>
                  <a:latin typeface="Arial"/>
                  <a:ea typeface="Arial"/>
                </a:rPr>
                <a:t>.........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296280" y="3714840"/>
              <a:ext cx="0" cy="450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499680" y="3560760"/>
              <a:ext cx="0" cy="4507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962920" y="3819600"/>
              <a:ext cx="825480" cy="5778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151920" y="4181400"/>
              <a:ext cx="125640" cy="106560"/>
            </a:xfrm>
            <a:custGeom>
              <a:avLst/>
              <a:gdLst/>
              <a:ahLst/>
              <a:rect l="0" t="0" r="r" b="b"/>
              <a:pathLst>
                <a:path w="349" h="296">
                  <a:moveTo>
                    <a:pt x="0" y="145"/>
                  </a:moveTo>
                  <a:lnTo>
                    <a:pt x="101" y="296"/>
                  </a:lnTo>
                  <a:lnTo>
                    <a:pt x="349" y="0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502920" y="3916440"/>
              <a:ext cx="127440" cy="103680"/>
            </a:xfrm>
            <a:custGeom>
              <a:avLst/>
              <a:gdLst/>
              <a:ahLst/>
              <a:rect l="0" t="0" r="r" b="b"/>
              <a:pathLst>
                <a:path w="354" h="288">
                  <a:moveTo>
                    <a:pt x="247" y="0"/>
                  </a:moveTo>
                  <a:lnTo>
                    <a:pt x="354" y="150"/>
                  </a:lnTo>
                  <a:lnTo>
                    <a:pt x="0" y="288"/>
                  </a:lnTo>
                  <a:lnTo>
                    <a:pt x="247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9312120" y="4035600"/>
              <a:ext cx="649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 txBox="1"/>
          <p:nvPr/>
        </p:nvSpPr>
        <p:spPr>
          <a:xfrm>
            <a:off x="3819600" y="6000840"/>
            <a:ext cx="2673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Shuffl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52800" y="6000840"/>
            <a:ext cx="421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VC Transform &amp; Weigh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600280" y="1546200"/>
            <a:ext cx="5391360" cy="3287880"/>
            <a:chOff x="2600280" y="1546200"/>
            <a:chExt cx="5391360" cy="3287880"/>
          </a:xfrm>
        </p:grpSpPr>
        <p:sp>
          <p:nvSpPr>
            <p:cNvPr id="445" name=""/>
            <p:cNvSpPr txBox="1"/>
            <p:nvPr/>
          </p:nvSpPr>
          <p:spPr>
            <a:xfrm>
              <a:off x="3056040" y="1546200"/>
              <a:ext cx="4935600" cy="328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CT Trans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8 -8 or 2 - 4 - 8 m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Data Weighting Pro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mode depen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imple implemen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Intra-frame Motion Det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improves  perceived picture 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00280" y="1685880"/>
              <a:ext cx="114480" cy="1144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00280" y="2752560"/>
              <a:ext cx="114480" cy="1144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00280" y="4124160"/>
              <a:ext cx="114480" cy="1144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n Safar</dc:creator>
  <dc:description>changed version 3/23/97</dc:description>
  <dc:language>en-US</dc:language>
  <cp:lastModifiedBy>Johann Safar</cp:lastModifiedBy>
  <cp:revision>0</cp:revision>
  <dc:subject>DVC compression</dc:subject>
  <dc:title>General Presentation </dc:title>
</cp:coreProperties>
</file>